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9FB3-9155-4207-B0EC-3C02D03E60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A746-A27F-4CFB-9CAF-5D6D5C8290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7BFA-4990-4A9E-90D0-CB8C27D6B9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4B60-2BF4-4645-B963-FEF7B7FD44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8373-86D2-44F8-BB1F-F7A83D1B1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BC2C-2CF6-49A0-89A8-0DE0136C7C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B93B-55E6-4678-BFD4-2BEB8B1CC2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862D-E383-4E6E-9711-F5CD7A309E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9B06-5AE7-43C0-9B3D-6CCD368651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B6E4-0225-442B-97FD-6E672D62FE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25F4-8B1B-4292-89B7-BF28FB4713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4ED9-401D-4848-B9B3-0141764E8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7221-D84A-43CF-AE47-C62512819FB4}" type="slidenum"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3" marL="1333440" algn="ctr">
              <a:spcBef>
                <a:spcPts val="4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lvl="4" marL="1752480" algn="ctr">
              <a:spcBef>
                <a:spcPts val="4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lvl="5" marL="17524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lvl="6" marL="17524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30864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ahoma"/>
              </a:rPr>
              <a:t>使用规范说明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32Z</dcterms:created>
  <dc:creator/>
  <dc:description/>
  <dc:language>en-US</dc:language>
  <cp:lastModifiedBy>ThinkPad</cp:lastModifiedBy>
  <dcterms:modified xsi:type="dcterms:W3CDTF">2015-01-11T11:51:29Z</dcterms:modified>
  <cp:revision>50</cp:revision>
  <dc:subject/>
  <dc:title>沈阳市宠物医生俱乐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272052</vt:lpwstr>
  </property>
</Properties>
</file>