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053B-BDE0-4B11-A337-B5CC3622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F646-4513-491F-99B7-4DDCDB73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CE52-F4AB-4EC8-A637-6AADD501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2132-67C1-41BD-ACCC-A03825E3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6062-20EC-44F1-8D5B-EE1DC22B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B33F-568F-4261-80CB-5335E7DE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8E50-AF84-4B9A-AD3E-E1E035E2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9D0D-17D0-4AF8-8728-F231FBFD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51C9-36A1-4898-8C21-FCF92C40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C21C-3B99-4E2B-9E7F-6F03B00A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FE42-F0A9-4E6D-9348-2D5C49C7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741D-158A-466F-A35D-271DEE7E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1e28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3a52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  <a:p>
            <a:pPr lvl="1" marL="343080" indent="-343080">
              <a:spcBef>
                <a:spcPts val="799"/>
              </a:spcBef>
              <a:buClr>
                <a:srgbClr val="123a52"/>
              </a:buClr>
              <a:buFont typeface="Cambr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3a52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  <a:p>
            <a:pPr lvl="2" marL="343080" indent="-343080">
              <a:spcBef>
                <a:spcPts val="799"/>
              </a:spcBef>
              <a:buClr>
                <a:srgbClr val="123a52"/>
              </a:buClr>
              <a:buFont typeface="Cambr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3a52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  <a:p>
            <a:pPr lvl="3" marL="343080" indent="-343080">
              <a:spcBef>
                <a:spcPts val="799"/>
              </a:spcBef>
              <a:buClr>
                <a:srgbClr val="123a52"/>
              </a:buClr>
              <a:buFont typeface="Cambr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3a52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  <a:p>
            <a:pPr lvl="4" marL="343080" indent="-343080">
              <a:spcBef>
                <a:spcPts val="799"/>
              </a:spcBef>
              <a:buClr>
                <a:srgbClr val="123a52"/>
              </a:buClr>
              <a:buFont typeface="Cambr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3a52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3a52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3a52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01960"/>
            <a:ext cx="21337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fe8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5124-CC9F-4537-9B80-712D34CED258}" type="datetime">
              <a:rPr b="1" lang="zh-CN" sz="1200" spc="-1" strike="noStrike">
                <a:solidFill>
                  <a:srgbClr val="cfe8cc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01960"/>
            <a:ext cx="289584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01960"/>
            <a:ext cx="21337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fe8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23C4-4045-4C83-AACC-6BEA86114075}" type="slidenum">
              <a:rPr b="1" lang="zh-CN" sz="1200" spc="-1" strike="noStrike">
                <a:solidFill>
                  <a:srgbClr val="cfe8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2760" y="2130120"/>
            <a:ext cx="8178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71e28"/>
                </a:solidFill>
                <a:latin typeface="宋体"/>
              </a:rPr>
              <a:t>音乐</a:t>
            </a: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2c15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6950160" y="62373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46" name=""/>
          <p:cNvSpPr/>
          <p:nvPr/>
        </p:nvSpPr>
        <p:spPr>
          <a:xfrm>
            <a:off x="1748880" y="64040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b9f25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cfe8c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cfe8c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cfe8c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cfe8c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6b9f25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6b9f25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6b9f25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20:07:00Z</dcterms:created>
  <dc:creator>Sx</dc:creator>
  <dc:description/>
  <dc:language>en-US</dc:language>
  <cp:lastModifiedBy/>
  <cp:lastPrinted>1899-12-30T00:00:00Z</cp:lastPrinted>
  <dcterms:modified xsi:type="dcterms:W3CDTF">2014-06-06T07:08:0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_TemplateID">
    <vt:lpwstr>TC010362640</vt:lpwstr>
  </property>
</Properties>
</file>