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7E7-4EF9-4E6F-AE43-4B1E908F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E67-5A7F-4D12-9E15-4C87AA9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7F6-D56A-4810-82CE-425ABF8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90E-C783-4864-90F6-872BF4F4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9C1-9176-4E91-9F57-22729FD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5F4-F120-4BA5-BA36-AD6181E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AB5-24AA-4F96-981C-B741E455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BD5-1644-4447-A1DC-22FE504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073-DBD4-47D2-8F25-575FA40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4E0-206A-44A5-97AE-EF7CECC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896-EDAD-4F07-9DA8-2C0C9EB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5EE-2327-4B5F-8603-420EB9C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6D4E-6F65-4B7B-A88E-B09C71606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90511_7c6a1181ec8d7d43eaba6z81131hf_pHP"/>
          <p:cNvPicPr/>
          <p:nvPr/>
        </p:nvPicPr>
        <p:blipFill>
          <a:blip r:embed="rId1"/>
          <a:stretch/>
        </p:blipFill>
        <p:spPr>
          <a:xfrm>
            <a:off x="-28440" y="1440"/>
            <a:ext cx="9172440" cy="687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008814135451238_2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8814135451238_2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814135451238_2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9:31:44Z</dcterms:created>
  <dc:creator/>
  <dc:description/>
  <dc:language>en-US</dc:language>
  <cp:lastModifiedBy>king</cp:lastModifiedBy>
  <dcterms:modified xsi:type="dcterms:W3CDTF">2015-01-11T07:31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