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1E4-733E-43AF-AF97-8F714EDB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7210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6000" y="3538080"/>
            <a:ext cx="7210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512-3C85-42A2-A0B8-8704D06C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600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104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785-CA68-481C-AAD6-AB737301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4280" y="142884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2200" y="142884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6000" y="353808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4280" y="353808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2200" y="353808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F6B-683B-44E5-A9CE-72C5654C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000" y="1428840"/>
            <a:ext cx="7210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72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76000" y="245880"/>
            <a:ext cx="72104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7600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6000" y="1428840"/>
            <a:ext cx="7210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CC7-07B4-4EAD-8FCE-3436FD0D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7104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76000" y="3538080"/>
            <a:ext cx="7210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7210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6000" y="3538080"/>
            <a:ext cx="7210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7600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7104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4280" y="142884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52200" y="142884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76000" y="353808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14280" y="353808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52200" y="3538080"/>
            <a:ext cx="2321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72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B85-10C7-4548-95E1-7C4C21F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334-E4AF-41C4-BC08-CA160DA8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0A8-183F-4C3B-8588-3EF0B57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245880"/>
            <a:ext cx="72104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8F6-EA9E-43EF-A0B0-9FAC7433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600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A51-63FA-459C-9331-A9284B1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1040" y="353808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28A-90F7-4144-88D9-E58B2510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1040" y="1428840"/>
            <a:ext cx="3518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6000" y="3538080"/>
            <a:ext cx="7210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620-DAB3-474B-8EAF-E12E3EE8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6000" y="1428840"/>
            <a:ext cx="72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6DE5-B0C6-4425-ADEE-EA9BD5170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4720" y="16192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4720" y="16192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16320" y="2685600"/>
            <a:ext cx="64008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5880" y="5724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245880"/>
            <a:ext cx="72104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6000" y="1428840"/>
            <a:ext cx="72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7200" y="561024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56:42Z</dcterms:created>
  <dc:creator>Administrator</dc:creator>
  <dc:description/>
  <dc:language>en-US</dc:language>
  <cp:lastModifiedBy/>
  <dcterms:modified xsi:type="dcterms:W3CDTF">2015-01-11T11:57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