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10548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360" y="40608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10548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16800" y="17521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360" y="40608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816800" y="40608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10548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15400" y="17521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40440" y="17521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360" y="40608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15400" y="40608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40440" y="40608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360" y="10548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360" y="17521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10548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10548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16800" y="17521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0548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360" y="228600"/>
            <a:ext cx="74674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10548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16800" y="17521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360" y="40608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360" y="10548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360" y="17521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10548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6800" y="17521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816800" y="40608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10548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6800" y="17521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360" y="40608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10548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360" y="40608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10548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16800" y="17521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360" y="40608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816800" y="40608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10548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15400" y="17521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40440" y="17521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360" y="40608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15400" y="40608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40440" y="40608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10548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10548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816800" y="17521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10548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360" y="228600"/>
            <a:ext cx="74674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10548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800" y="17521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360" y="40608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10548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16800" y="17521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16800" y="40608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10548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6800" y="17521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360" y="40608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467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7521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467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360" y="17521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5480" y="5448240"/>
            <a:ext cx="83055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icrosoft Sans Serif"/>
                <a:ea typeface="宋体"/>
              </a:rPr>
              <a:t>Name of presentation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7" name=""/>
          <p:cNvSpPr/>
          <p:nvPr/>
        </p:nvSpPr>
        <p:spPr>
          <a:xfrm>
            <a:off x="700812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990360" y="17521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10548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ff"/>
              </a:solidFill>
              <a:latin typeface="Microsoft Sans Serif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990360" y="17521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10548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ff"/>
              </a:solidFill>
              <a:latin typeface="Microsoft Sans Serif"/>
              <a:ea typeface="宋体"/>
            </a:endParaRPr>
          </a:p>
        </p:txBody>
      </p:sp>
      <p:sp>
        <p:nvSpPr>
          <p:cNvPr id="82" name=""/>
          <p:cNvSpPr/>
          <p:nvPr/>
        </p:nvSpPr>
        <p:spPr>
          <a:xfrm>
            <a:off x="2120400" y="6453360"/>
            <a:ext cx="379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0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0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0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8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fab55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fab55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fab55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03:25:05Z</dcterms:created>
  <dc:creator>雨林木风</dc:creator>
  <dc:description>我爱PPT官方网 - 中文演示设计平台 www.iloveppt.org</dc:description>
  <cp:keywords>我爱PPT官方网 - 中文演示设计平台 www.iloveppt.org</cp:keywords>
  <dc:language>en-US</dc:language>
  <cp:lastModifiedBy>king</cp:lastModifiedBy>
  <dcterms:modified xsi:type="dcterms:W3CDTF">2015-01-11T08:27:09Z</dcterms:modified>
  <cp:revision>4</cp:revision>
  <dc:subject/>
  <dc:title>Nam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