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C53-9EE3-4C5D-A886-1A2149FA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024-5E7E-44CC-8E6A-734C2B24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8A1-1A11-467D-B6A8-A1409976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3FF-BB92-4AEF-9224-F6338CE9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784F-E0BA-4C73-A5D0-4F96CDB8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12E6-A947-42DD-BDB8-C048E1F4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98D3-7361-4CAC-9ED7-0B8E3164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BB98-EB14-4279-9F5F-AF0805CC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CEBC-6994-4309-8121-548B39A1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FCCE-C2A4-4A29-9E92-73919C81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41C4-A56E-423E-AC9D-EFE5E7E9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C14-13B0-4E4E-9138-8831BE86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0011-44A2-4E28-8D58-3EA082EE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B2DB-5EA1-43A7-BABE-AF7923EC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1DF1-6F0F-4CC7-85AF-0196EC1B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0A2E-0FC2-481F-9446-50A58FC8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079F-1490-479E-821E-1B386A0E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10C-4747-42EC-B04A-EE68F826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011-04DF-4633-BB10-26C862AE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823-A5D4-4AEC-BE1B-5E9CF5ED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01D-808D-4712-B8D3-5C7DD6CB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941-E363-4971-B7BF-AFB5BB9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58D-D8A0-44D3-B2EF-511D884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FCA-DEB5-4D53-BADC-7508521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FE1F-F398-498F-9904-6C7E2A4C98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40C6-6ED9-4C49-BB01-09E85D7679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79600" y="350028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"/>
          <p:cNvSpPr/>
          <p:nvPr/>
        </p:nvSpPr>
        <p:spPr>
          <a:xfrm>
            <a:off x="466560" y="6093000"/>
            <a:ext cx="598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35:24Z</dcterms:created>
  <dc:creator/>
  <dc:description/>
  <dc:language>en-US</dc:language>
  <cp:lastModifiedBy/>
  <dcterms:modified xsi:type="dcterms:W3CDTF">2015-01-11T11:36:4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