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44ED-54CE-41D2-A544-1FCC7320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503C-C956-45FA-B84B-D60F2EA3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6FBF-911A-4556-8FB1-9FEFFB6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78D77-C52E-46DA-979D-C9C3943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6AD9-6CD8-454F-9DCE-A86DC5E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0A8A-450A-4B9B-8D91-3FA3A57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6BEA8-9325-4AF8-A654-828C863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4CD0-8B26-4D88-B91B-0C0C7FA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DA04E-B7A5-4522-8C5A-F4769F6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5EF2-452C-4C66-A1BC-EA8503C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30C2D-07E2-4A45-9F3B-D819AF9D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935BB-75BB-411C-89B7-3FB8017A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intergrund" descr="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EABB2FC-EA6C-4ADE-BAEE-E4B5F94165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chatten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intergr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Himmel2" descr="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chatten" descr="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22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340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54200" algn="ctr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754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Hintergrund" descr=""/>
          <p:cNvPicPr/>
          <p:nvPr/>
        </p:nvPicPr>
        <p:blipFill>
          <a:blip r:embed="rId2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3593-FBF4-47A3-A8CE-8F7DE822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chatten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pic>
        <p:nvPicPr>
          <p:cNvPr id="91" name="Hintergrund" descr=""/>
          <p:cNvPicPr/>
          <p:nvPr/>
        </p:nvPicPr>
        <p:blipFill>
          <a:blip r:embed="rId4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CD2A750-BA2D-4B49-94B0-EC73738C75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schatten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Hintergr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 for Microsoft PowerPo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2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6720" y="1415520"/>
            <a:ext cx="839808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E8B2A-8344-4487-B8A0-F7D4C03AC5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2920" y="187164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0480" y="2344320"/>
            <a:ext cx="8397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2920" y="379260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0840" y="4265640"/>
            <a:ext cx="8397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9080" y="6470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49494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6e6e6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3e7ea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e6e6e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c1c1c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9b9b9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200" y="2036880"/>
            <a:ext cx="4124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Schach" descr="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90600" y="1860480"/>
            <a:ext cx="399708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540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chach" descr=""/>
          <p:cNvPicPr/>
          <p:nvPr/>
        </p:nvPicPr>
        <p:blipFill>
          <a:blip r:embed="rId1">
            <a:grayscl/>
          </a:blip>
          <a:srcRect l="0" t="0" r="5492" b="0"/>
          <a:stretch/>
        </p:blipFill>
        <p:spPr>
          <a:xfrm>
            <a:off x="387360" y="188136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3" name="Schach" descr=""/>
          <p:cNvPicPr/>
          <p:nvPr/>
        </p:nvPicPr>
        <p:blipFill>
          <a:blip r:embed="rId2">
            <a:grayscl/>
          </a:blip>
          <a:srcRect l="0" t="0" r="5492" b="0"/>
          <a:stretch/>
        </p:blipFill>
        <p:spPr>
          <a:xfrm>
            <a:off x="387360" y="386244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35440" y="185580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35440" y="384336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200" y="3683160"/>
            <a:ext cx="84027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68640" y="3000240"/>
            <a:ext cx="47908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THE END,THANK YOU!</a:t>
            </a:r>
            <a:endParaRPr b="1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/>
  <dc:description/>
  <dc:language>en-US</dc:language>
  <cp:lastModifiedBy>Kurt Dupont</cp:lastModifiedBy>
  <cp:lastPrinted>2005-03-15T07:48:11Z</cp:lastPrinted>
  <dcterms:modified xsi:type="dcterms:W3CDTF">2015-01-11T07:30:45Z</dcterms:modified>
  <cp:revision>5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PPL_Language">
    <vt:r8>1031</vt:r8>
  </property>
</Properties>
</file>