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D729-1F87-4197-BDA2-EBFD8185F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DF3D-B1DF-4403-9BAA-6D41FD7F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5338-8EFC-4AB8-B7C8-AB8D6CB1B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95AB-1629-4FCB-8337-13059E1C2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ABF0-4A7E-4026-8B12-E27FFBFC9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3ECD-1EE2-49E7-A652-3492755F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03E5-CE30-4721-8634-C2C65D06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BFAA-5763-4EB5-AE9D-83507DA2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AF3A5-35FF-4ECE-AF84-E51C8AB6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72A4-225D-4CD3-83C5-21F8E334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6D862-F7A3-4A39-A96B-20E07F8BC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CA6B-FF03-4605-815D-B8F37AD0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9206-EC29-42CE-90A2-9694417C914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ED8D7-189B-43DB-B5BF-A80B81EFEFC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57360" y="5644800"/>
            <a:ext cx="7991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Century Gothic"/>
              </a:rPr>
              <a:t>单击此处输入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-9360" y="-752400"/>
            <a:ext cx="9146880" cy="6126120"/>
          </a:xfrm>
          <a:prstGeom prst="rect">
            <a:avLst/>
          </a:prstGeom>
          <a:ln w="0">
            <a:noFill/>
          </a:ln>
        </p:spPr>
      </p:pic>
      <p:sp>
        <p:nvSpPr>
          <p:cNvPr id="81" name="Straight Connector 8"/>
          <p:cNvSpPr/>
          <p:nvPr/>
        </p:nvSpPr>
        <p:spPr>
          <a:xfrm>
            <a:off x="0" y="5373720"/>
            <a:ext cx="9144000" cy="0"/>
          </a:xfrm>
          <a:prstGeom prst="line">
            <a:avLst/>
          </a:prstGeom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27720" y="6486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ut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2" descr=""/>
          <p:cNvPicPr/>
          <p:nvPr/>
        </p:nvPicPr>
        <p:blipFill>
          <a:blip r:embed="rId1"/>
          <a:stretch/>
        </p:blipFill>
        <p:spPr>
          <a:xfrm>
            <a:off x="-28440" y="-20520"/>
            <a:ext cx="9172440" cy="5522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8640" y="925560"/>
            <a:ext cx="72007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Century Gothic"/>
              </a:rPr>
              <a:t>单击此处输入标题</a:t>
            </a:r>
            <a:r>
              <a:rPr b="0" lang="zh-CN" sz="3200" spc="-1" strike="noStrike">
                <a:solidFill>
                  <a:srgbClr val="ff6600"/>
                </a:solidFill>
                <a:latin typeface="Century Gothic"/>
              </a:rPr>
              <a:t>	</a:t>
            </a:r>
            <a:r>
              <a:rPr b="0" lang="zh-CN" sz="3200" spc="-1" strike="noStrike">
                <a:solidFill>
                  <a:srgbClr val="ff66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909720" y="1925640"/>
            <a:ext cx="736920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Century Gothic"/>
              </a:rPr>
              <a:t>单击此处输入内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-28440" y="-20520"/>
            <a:ext cx="9172440" cy="55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2" descr=""/>
          <p:cNvPicPr/>
          <p:nvPr/>
        </p:nvPicPr>
        <p:blipFill>
          <a:blip r:embed="rId1"/>
          <a:stretch/>
        </p:blipFill>
        <p:spPr>
          <a:xfrm>
            <a:off x="-28440" y="-20520"/>
            <a:ext cx="9172440" cy="5522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99640" y="1069920"/>
            <a:ext cx="720108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00"/>
                </a:solidFill>
                <a:latin typeface="Century Gothic"/>
              </a:rPr>
              <a:t>单击此处输入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971640" y="1989000"/>
            <a:ext cx="720072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Century Gothic"/>
              </a:rPr>
              <a:t>单击此处输入内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2"/>
          <a:stretch/>
        </p:blipFill>
        <p:spPr>
          <a:xfrm>
            <a:off x="12600" y="-20520"/>
            <a:ext cx="918216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9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05T09:06:00Z</dcterms:created>
  <dc:creator>Gareth Beck</dc:creator>
  <dc:description/>
  <dc:language>en-US</dc:language>
  <cp:lastModifiedBy>Polly Holbrook</cp:lastModifiedBy>
  <dcterms:modified xsi:type="dcterms:W3CDTF">2015-01-11T08:26:18Z</dcterms:modified>
  <cp:revision>289</cp:revision>
  <dc:subject/>
  <dc:title>Web Analytics Overloa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