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7AD-E1B3-43A2-8AB1-AA0ADA39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49532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9520" y="4431960"/>
            <a:ext cx="49532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BD8-62C5-4C6A-8A28-A77AA8E0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47880" y="236232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9520" y="443196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47880" y="443196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902-29FC-495F-93D8-4D44CAC7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1594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84600" y="2362320"/>
            <a:ext cx="1594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59320" y="2362320"/>
            <a:ext cx="1594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9520" y="4431960"/>
            <a:ext cx="1594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84600" y="4431960"/>
            <a:ext cx="1594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59320" y="4431960"/>
            <a:ext cx="1594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EC4-3A9E-4757-ADFB-F852C04B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9520" y="2362320"/>
            <a:ext cx="49532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21C-E825-4C93-81C5-CCDA4CE3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4953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56B-928A-48D6-AE97-CC5C01B4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241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47880" y="2362320"/>
            <a:ext cx="241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A6E-E9B5-4279-96E3-3457EA3A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D5E-8181-49AB-AE76-D321D850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520" y="1676520"/>
            <a:ext cx="5410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1C3-CDA0-4D65-A585-6C675EA6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47880" y="2362320"/>
            <a:ext cx="241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9520" y="443196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7C4-92BC-4D42-B9D8-F5A70804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241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7880" y="236232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47880" y="443196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B66-8AA2-49EE-8413-7455D4CC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47880" y="236232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9520" y="4431960"/>
            <a:ext cx="49532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08D-98FE-4152-81F1-746BF078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9520" y="1676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546321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9520" y="2362320"/>
            <a:ext cx="4953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Click to edit the outline text format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  <a:p>
            <a:pPr lvl="1" marL="705600" indent="-27144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Second Outline Level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  <a:p>
            <a:pPr lvl="2" marL="1085760" indent="-21708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Third Outline Level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  <a:p>
            <a:pPr lvl="3" marL="1519920" indent="-21708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Fourth Outline Level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  <a:p>
            <a:pPr lvl="4" marL="1954440" indent="-21708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Fifth Outline Level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Sixth Outline Level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Seventh Outline Level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682E-809E-409F-A15E-BEB2EE98A3B4}" type="slidenum"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5157720"/>
            <a:ext cx="75038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3657240"/>
            <a:ext cx="75038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0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43" name=""/>
          <p:cNvSpPr/>
          <p:nvPr/>
        </p:nvSpPr>
        <p:spPr>
          <a:xfrm>
            <a:off x="-904680" y="644040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A3B-F095-4F75-912D-75BDA0BE9BE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6324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学压力</a:t>
            </a:r>
            <a:endParaRPr b="0" lang="en-US" sz="32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400" y="31237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546321"/>
              </a:buClr>
              <a:buSzPct val="200000"/>
              <a:buFont typeface="微软雅黑"/>
              <a:buChar char="•"/>
            </a:pPr>
            <a:r>
              <a:rPr b="1" lang="zh-CN" sz="2400" spc="-1" strike="noStrike">
                <a:solidFill>
                  <a:srgbClr val="546321"/>
                </a:solidFill>
                <a:latin typeface="微软雅黑"/>
                <a:ea typeface="微软雅黑"/>
              </a:rPr>
              <a:t>演示文稿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9520" y="2362320"/>
            <a:ext cx="4953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52F-2BD8-4D37-9DDA-E38765DB5E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66680" y="1676160"/>
            <a:ext cx="6096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515-8D21-4B69-BE0D-9280206EE4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51" name=""/>
          <p:cNvSpPr/>
          <p:nvPr/>
        </p:nvSpPr>
        <p:spPr>
          <a:xfrm>
            <a:off x="-859680" y="645480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765-CC8E-4BDC-92C1-6CB3CDB3C570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2857680" y="2281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53" name=""/>
          <p:cNvSpPr/>
          <p:nvPr/>
        </p:nvSpPr>
        <p:spPr>
          <a:xfrm>
            <a:off x="32040" y="6370560"/>
            <a:ext cx="63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2E7-F625-468D-90A9-48E53F939ABF}" type="slidenum">
              <a:t>6</a:t>
            </a:fld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55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pic>
          <p:nvPicPr>
            <p:cNvPr id="5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</p:grp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6:37:40Z</dcterms:created>
  <dc:creator>Administrator</dc:creator>
  <dc:description/>
  <dc:language>en-US</dc:language>
  <cp:lastModifiedBy/>
  <dcterms:modified xsi:type="dcterms:W3CDTF">2015-01-11T07:33:23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103368019990</vt:lpwstr>
  </property>
</Properties>
</file>