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87631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775320"/>
            <a:ext cx="87631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77532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880" y="377532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1400" y="132048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4200" y="132048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77532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1400" y="377532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4200" y="377532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320480"/>
            <a:ext cx="87631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87631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672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77532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320480"/>
            <a:ext cx="87631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8880" y="377532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775320"/>
            <a:ext cx="87631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87631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3775320"/>
            <a:ext cx="87631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377532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8880" y="377532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1400" y="132048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4200" y="132048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377532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1400" y="377532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4200" y="3775320"/>
            <a:ext cx="28213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87631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672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77532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880" y="377532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880" y="1320480"/>
            <a:ext cx="427608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775320"/>
            <a:ext cx="8763120" cy="22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320480"/>
            <a:ext cx="87631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85000"/>
              </a:lnSpc>
              <a:spcBef>
                <a:spcPts val="1049"/>
              </a:spcBef>
              <a:buClr>
                <a:srgbClr val="ff4d00"/>
              </a:buClr>
              <a:buFont typeface="FuturaA Bk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407880" indent="-237960">
              <a:lnSpc>
                <a:spcPct val="85000"/>
              </a:lnSpc>
              <a:spcBef>
                <a:spcPts val="1049"/>
              </a:spcBef>
              <a:buClr>
                <a:srgbClr val="ff4d00"/>
              </a:buClr>
              <a:buFont typeface="FuturaA Bk B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2" marL="574560" indent="-164880">
              <a:lnSpc>
                <a:spcPct val="85000"/>
              </a:lnSpc>
              <a:spcBef>
                <a:spcPts val="1049"/>
              </a:spcBef>
              <a:buClr>
                <a:srgbClr val="ff4d00"/>
              </a:buClr>
              <a:buFont typeface="FuturaA Bk BT"/>
              <a:buChar char="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3" marL="1506600" indent="-168480">
              <a:lnSpc>
                <a:spcPct val="85000"/>
              </a:lnSpc>
              <a:spcBef>
                <a:spcPts val="1049"/>
              </a:spcBef>
              <a:buClr>
                <a:srgbClr val="ff4d00"/>
              </a:buClr>
              <a:buFont typeface="Futura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4" marL="1854360" indent="-168480">
              <a:lnSpc>
                <a:spcPct val="85000"/>
              </a:lnSpc>
              <a:spcBef>
                <a:spcPts val="1049"/>
              </a:spcBef>
              <a:buClr>
                <a:srgbClr val="ff4d00"/>
              </a:buClr>
              <a:buFont typeface="Futura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5" marL="1854360" indent="-1684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Futura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6" marL="1854360" indent="-1684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Futura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A Bk BT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" name=""/>
          <p:cNvSpPr/>
          <p:nvPr/>
        </p:nvSpPr>
        <p:spPr>
          <a:xfrm>
            <a:off x="9126360" y="5173560"/>
            <a:ext cx="6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" name=""/>
          <p:cNvSpPr/>
          <p:nvPr/>
        </p:nvSpPr>
        <p:spPr>
          <a:xfrm>
            <a:off x="8940960" y="990720"/>
            <a:ext cx="150480" cy="150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" name=""/>
          <p:cNvSpPr/>
          <p:nvPr/>
        </p:nvSpPr>
        <p:spPr>
          <a:xfrm>
            <a:off x="0" y="6181560"/>
            <a:ext cx="914400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" name=""/>
          <p:cNvSpPr/>
          <p:nvPr/>
        </p:nvSpPr>
        <p:spPr>
          <a:xfrm>
            <a:off x="3240" y="6172200"/>
            <a:ext cx="9140760" cy="0"/>
          </a:xfrm>
          <a:prstGeom prst="line">
            <a:avLst/>
          </a:prstGeom>
          <a:ln w="88920">
            <a:solidFill>
              <a:srgbClr val="ff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0" b="1584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181560"/>
            <a:ext cx="914400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5" name=""/>
          <p:cNvSpPr/>
          <p:nvPr/>
        </p:nvSpPr>
        <p:spPr>
          <a:xfrm>
            <a:off x="3240" y="6019920"/>
            <a:ext cx="9140760" cy="0"/>
          </a:xfrm>
          <a:prstGeom prst="line">
            <a:avLst/>
          </a:prstGeom>
          <a:ln w="88920">
            <a:solidFill>
              <a:srgbClr val="ff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76720"/>
            <a:ext cx="9144000" cy="1676160"/>
          </a:xfrm>
          <a:prstGeom prst="rect">
            <a:avLst/>
          </a:prstGeom>
          <a:solidFill>
            <a:srgbClr val="d193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50840" y="2479320"/>
            <a:ext cx="71503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FuturaA Bk B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9" name=""/>
          <p:cNvSpPr/>
          <p:nvPr/>
        </p:nvSpPr>
        <p:spPr>
          <a:xfrm>
            <a:off x="3240" y="5329080"/>
            <a:ext cx="9144000" cy="115920"/>
          </a:xfrm>
          <a:prstGeom prst="rect">
            <a:avLst/>
          </a:prstGeom>
          <a:solidFill>
            <a:srgbClr val="b300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81480"/>
            <a:ext cx="9144000" cy="76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62520"/>
            <a:ext cx="7238880" cy="457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214960"/>
            <a:ext cx="9144000" cy="76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3962520"/>
            <a:ext cx="4572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r">
              <a:lnSpc>
                <a:spcPct val="85000"/>
              </a:lnSpc>
              <a:spcBef>
                <a:spcPts val="876"/>
              </a:spcBef>
              <a:buClr>
                <a:srgbClr val="ff4d00"/>
              </a:buClr>
              <a:buFont typeface="FuturaA Bk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uturaA Bk BT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16992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007b"/>
                </a:solidFill>
                <a:latin typeface="FuturaA Bk BT"/>
              </a:rPr>
              <a:t>Second Outline Level</a:t>
            </a:r>
            <a:endParaRPr b="0" lang="en-US" sz="2000" spc="-1" strike="noStrike">
              <a:solidFill>
                <a:srgbClr val="b3007b"/>
              </a:solidFill>
              <a:latin typeface="FuturaA Bk BT"/>
            </a:endParaRPr>
          </a:p>
          <a:p>
            <a:pPr lvl="2" marL="409680" algn="ctr">
              <a:lnSpc>
                <a:spcPct val="85000"/>
              </a:lnSpc>
              <a:spcBef>
                <a:spcPts val="788"/>
              </a:spcBef>
              <a:buClr>
                <a:srgbClr val="ff4d00"/>
              </a:buClr>
              <a:buFont typeface="FuturaA Bk BT"/>
              <a:buChar char="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A Bk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3" marL="1028880" indent="309240" algn="ctr">
              <a:lnSpc>
                <a:spcPct val="85000"/>
              </a:lnSpc>
              <a:spcBef>
                <a:spcPts val="700"/>
              </a:spcBef>
              <a:buClr>
                <a:srgbClr val="ff4d00"/>
              </a:buClr>
              <a:buFont typeface="FuturaA Bk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lvl="4" marL="1374840" indent="311040" algn="ctr">
              <a:lnSpc>
                <a:spcPct val="85000"/>
              </a:lnSpc>
              <a:spcBef>
                <a:spcPts val="700"/>
              </a:spcBef>
              <a:buClr>
                <a:srgbClr val="ff4d00"/>
              </a:buClr>
              <a:buFont typeface="FuturaA Bk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lvl="5" marL="1374840" indent="311040">
              <a:spcBef>
                <a:spcPts val="400"/>
              </a:spcBef>
              <a:buClr>
                <a:srgbClr val="000000"/>
              </a:buClr>
              <a:buFont typeface="Futura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lvl="6" marL="1374840" indent="311040">
              <a:spcBef>
                <a:spcPts val="400"/>
              </a:spcBef>
              <a:buClr>
                <a:srgbClr val="000000"/>
              </a:buClr>
              <a:buFont typeface="Futura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7149960" cy="6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uturaA Bk BT"/>
                <a:ea typeface="宋体"/>
              </a:rPr>
              <a:t>职场女性</a:t>
            </a:r>
            <a:r>
              <a:rPr b="1" lang="zh-CN" sz="4000" spc="-1" strike="noStrike">
                <a:solidFill>
                  <a:srgbClr val="000000"/>
                </a:solidFill>
                <a:latin typeface="FuturaA Bk BT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uturaA Bk BT"/>
                <a:ea typeface="宋体"/>
              </a:rPr>
              <a:t>演示模板</a:t>
            </a:r>
            <a:endParaRPr b="0" lang="en-US" sz="4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60360" y="3933720"/>
            <a:ext cx="64008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3" name=""/>
          <p:cNvSpPr/>
          <p:nvPr/>
        </p:nvSpPr>
        <p:spPr>
          <a:xfrm>
            <a:off x="69501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FuturaA Bk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20480"/>
            <a:ext cx="87631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640404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更多免费</a:t>
            </a: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FuturaA Bk BT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uturaA Bk BT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FuturaA Bk BT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FuturaA Bk BT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FuturaA Bk BT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FuturaA Bk BT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FuturaA Bk BT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FuturaA Bk BT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FuturaA Bk BT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FuturaA Bk BT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FuturaA Bk BT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FuturaA Bk BT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FuturaA Bk BT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uturaA Bk BT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uturaA Bk B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uturaA Bk BT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FuturaA Bk BT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uturaA Bk BT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FuturaA Bk BT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70356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770356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70356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770356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770356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770356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770356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770356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A Bk B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FuturaA Bk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3:13:19Z</dcterms:created>
  <dc:creator>haiyu.tian</dc:creator>
  <dc:description/>
  <dc:language>en-US</dc:language>
  <cp:lastModifiedBy>kzhb0033</cp:lastModifiedBy>
  <cp:lastPrinted>2003-09-02T17:51:11Z</cp:lastPrinted>
  <dcterms:modified xsi:type="dcterms:W3CDTF">2015-01-11T07:14:32Z</dcterms:modified>
  <cp:revision>82</cp:revision>
  <dc:subject/>
  <dc:title>员工健康指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