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BC284-4F9E-486A-B997-6545BA7924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73080"/>
            <a:ext cx="67676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53340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C4023-2D99-40F6-BDFF-EDDF8F744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73080"/>
            <a:ext cx="67676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83664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5334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5334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477EF-F1B8-4AD4-8AE1-2489DAA95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73080"/>
            <a:ext cx="67676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83664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83664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5334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5334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5334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80621-7C80-4DC0-BB69-A9647D3E1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73080"/>
            <a:ext cx="67676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836640"/>
            <a:ext cx="82072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73080"/>
            <a:ext cx="67676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072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73080"/>
            <a:ext cx="67676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400500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880" y="836640"/>
            <a:ext cx="400500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73080"/>
            <a:ext cx="67676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8000" y="73080"/>
            <a:ext cx="676764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73080"/>
            <a:ext cx="67676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836640"/>
            <a:ext cx="400500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5334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73080"/>
            <a:ext cx="67676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836640"/>
            <a:ext cx="82072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6FDF-18FA-4F03-8323-AECEA5A28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73080"/>
            <a:ext cx="67676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400500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83664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880" y="35334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73080"/>
            <a:ext cx="67676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83664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53340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73080"/>
            <a:ext cx="67676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53340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73080"/>
            <a:ext cx="67676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83664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5334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880" y="35334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73080"/>
            <a:ext cx="67676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3240" y="83664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120" y="83664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5334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3240" y="35334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120" y="35334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73080"/>
            <a:ext cx="67676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072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45557-666F-48E1-917F-32B736324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73080"/>
            <a:ext cx="67676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400500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836640"/>
            <a:ext cx="400500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E9C6F-3403-44C7-B3B5-6E1DC4CF1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73080"/>
            <a:ext cx="67676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2D3DF-9955-44BB-9AFD-1F3AE3A19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73080"/>
            <a:ext cx="676764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71FB8-65A2-47A7-8BB5-04F8AF206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73080"/>
            <a:ext cx="67676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836640"/>
            <a:ext cx="400500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5334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7E7DF-CF00-4168-A16B-F2A305FA1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73080"/>
            <a:ext cx="67676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400500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83664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5334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2597A-6B62-4142-A080-4B2E81316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73080"/>
            <a:ext cx="67676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83664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53340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39900-B83F-409B-8DA2-87E57D751A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9" descr="bg钟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7286760" y="26028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836640"/>
            <a:ext cx="82072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8BC01622-F510-4288-8483-E9470BAE4C77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68000" y="73080"/>
            <a:ext cx="67676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2" descr="bg钟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68360" y="836640"/>
            <a:ext cx="82072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186920" y="117360"/>
            <a:ext cx="67676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71640" y="4173120"/>
            <a:ext cx="5399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871640" y="526680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6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410ADE67-74C1-4E57-B05E-CFD7F4ACD46D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73080"/>
            <a:ext cx="67676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072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54280" y="5587920"/>
            <a:ext cx="432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i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i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1c1c1c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1c1c1c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1c1c1c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ilovePPT.ORG</cp:lastModifiedBy>
  <dcterms:modified xsi:type="dcterms:W3CDTF">2015-01-11T11:29:06Z</dcterms:modified>
  <cp:revision>2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