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B7CD-2002-433E-A84E-66F9BED81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0DEB-BE8B-4A91-ACFB-E66BA4533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AA22-F3DB-41FC-A878-74E9E90B4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CA26-5A6F-4625-9933-D0A051226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F132-476C-4872-A3E9-5C574036F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2BB4-0EC0-48DA-91F6-37A9BC6C2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8F47-D164-43EA-B281-53C63BB18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8B3B-8670-4EC2-9696-1FAAAEB5B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57F8-EACF-409E-93B6-69311A521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7570-0BCF-4596-B4BF-ECB3BBFEC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3F74-72C1-4854-AB10-873852295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15E1-0B25-4FBD-ACB8-0EFA57830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C0874C2-DE3C-4E62-97B7-A7F465CA1C99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9180360" cy="68770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24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3.png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724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5684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77720" y="63817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197080" y="1125360"/>
            <a:ext cx="5543640" cy="792000"/>
            <a:chOff x="2197080" y="1125360"/>
            <a:chExt cx="5543640" cy="792000"/>
          </a:xfrm>
        </p:grpSpPr>
        <p:sp>
          <p:nvSpPr>
            <p:cNvPr id="84" name=""/>
            <p:cNvSpPr/>
            <p:nvPr/>
          </p:nvSpPr>
          <p:spPr>
            <a:xfrm>
              <a:off x="2197080" y="112536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25520" y="116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197080" y="2206800"/>
            <a:ext cx="5543640" cy="792000"/>
            <a:chOff x="2197080" y="2206800"/>
            <a:chExt cx="5543640" cy="792000"/>
          </a:xfrm>
        </p:grpSpPr>
        <p:sp>
          <p:nvSpPr>
            <p:cNvPr id="87" name=""/>
            <p:cNvSpPr/>
            <p:nvPr/>
          </p:nvSpPr>
          <p:spPr>
            <a:xfrm>
              <a:off x="2197080" y="22068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25520" y="224316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197080" y="3286080"/>
            <a:ext cx="5543640" cy="792000"/>
            <a:chOff x="2197080" y="3286080"/>
            <a:chExt cx="5543640" cy="792000"/>
          </a:xfrm>
        </p:grpSpPr>
        <p:sp>
          <p:nvSpPr>
            <p:cNvPr id="90" name=""/>
            <p:cNvSpPr/>
            <p:nvPr/>
          </p:nvSpPr>
          <p:spPr>
            <a:xfrm>
              <a:off x="2197080" y="328608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25520" y="33224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97080" y="4365720"/>
            <a:ext cx="5543640" cy="792000"/>
            <a:chOff x="2197080" y="4365720"/>
            <a:chExt cx="5543640" cy="792000"/>
          </a:xfrm>
        </p:grpSpPr>
        <p:sp>
          <p:nvSpPr>
            <p:cNvPr id="93" name=""/>
            <p:cNvSpPr/>
            <p:nvPr/>
          </p:nvSpPr>
          <p:spPr>
            <a:xfrm>
              <a:off x="2197080" y="4365720"/>
              <a:ext cx="5543640" cy="79200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25520" y="440208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332000" y="1125360"/>
            <a:ext cx="792000" cy="792000"/>
            <a:chOff x="1332000" y="1125360"/>
            <a:chExt cx="792000" cy="792000"/>
          </a:xfrm>
        </p:grpSpPr>
        <p:sp>
          <p:nvSpPr>
            <p:cNvPr id="96" name=""/>
            <p:cNvSpPr/>
            <p:nvPr/>
          </p:nvSpPr>
          <p:spPr>
            <a:xfrm>
              <a:off x="1332000" y="1125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586160" y="133956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963d00"/>
                  </a:solidFill>
                  <a:latin typeface="Arial Black"/>
                </a:rPr>
                <a:t>1</a:t>
              </a:r>
              <a:endParaRPr b="0" i="1" lang="en-US" sz="1400" spc="-1" strike="noStrike">
                <a:ln w="0">
                  <a:noFill/>
                </a:ln>
                <a:solidFill>
                  <a:srgbClr val="963d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8360" y="116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332000" y="2206800"/>
            <a:ext cx="792000" cy="792000"/>
            <a:chOff x="1332000" y="2206800"/>
            <a:chExt cx="792000" cy="792000"/>
          </a:xfrm>
        </p:grpSpPr>
        <p:sp>
          <p:nvSpPr>
            <p:cNvPr id="100" name=""/>
            <p:cNvSpPr/>
            <p:nvPr/>
          </p:nvSpPr>
          <p:spPr>
            <a:xfrm>
              <a:off x="1332000" y="220680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1586160" y="242100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68360" y="224316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332000" y="3286080"/>
            <a:ext cx="792000" cy="792000"/>
            <a:chOff x="1332000" y="3286080"/>
            <a:chExt cx="792000" cy="792000"/>
          </a:xfrm>
        </p:grpSpPr>
        <p:sp>
          <p:nvSpPr>
            <p:cNvPr id="104" name=""/>
            <p:cNvSpPr/>
            <p:nvPr/>
          </p:nvSpPr>
          <p:spPr>
            <a:xfrm>
              <a:off x="1332000" y="328608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586160" y="35002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68360" y="332100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332000" y="4365720"/>
            <a:ext cx="792000" cy="792000"/>
            <a:chOff x="1332000" y="4365720"/>
            <a:chExt cx="792000" cy="792000"/>
          </a:xfrm>
        </p:grpSpPr>
        <p:sp>
          <p:nvSpPr>
            <p:cNvPr id="108" name=""/>
            <p:cNvSpPr/>
            <p:nvPr/>
          </p:nvSpPr>
          <p:spPr>
            <a:xfrm>
              <a:off x="1332000" y="436572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586160" y="457992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68360" y="440208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7873200">
            <a:off x="1360080" y="2225520"/>
            <a:ext cx="2628360" cy="262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3306600">
            <a:off x="1651680" y="2007000"/>
            <a:ext cx="262764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1977800">
            <a:off x="1180800" y="206532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89080" y="1700280"/>
            <a:ext cx="3022200" cy="3022200"/>
            <a:chOff x="1189080" y="1700280"/>
            <a:chExt cx="3022200" cy="3022200"/>
          </a:xfrm>
        </p:grpSpPr>
        <p:sp>
          <p:nvSpPr>
            <p:cNvPr id="116" name=""/>
            <p:cNvSpPr/>
            <p:nvPr/>
          </p:nvSpPr>
          <p:spPr>
            <a:xfrm flipH="1">
              <a:off x="1676520" y="1700280"/>
              <a:ext cx="107244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9320" y="1700280"/>
              <a:ext cx="975600" cy="302220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676880" y="2869560"/>
              <a:ext cx="2534400" cy="185292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89080" y="2869560"/>
              <a:ext cx="2536200" cy="185292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9080" y="286956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rot="16542000">
            <a:off x="1162800" y="1607760"/>
            <a:ext cx="262764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506556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73680" y="4033800"/>
            <a:ext cx="1282320" cy="1326960"/>
            <a:chOff x="3073680" y="4033800"/>
            <a:chExt cx="1282320" cy="1326960"/>
          </a:xfrm>
        </p:grpSpPr>
        <p:grpSp>
          <p:nvGrpSpPr>
            <p:cNvPr id="124" name=""/>
            <p:cNvGrpSpPr/>
            <p:nvPr/>
          </p:nvGrpSpPr>
          <p:grpSpPr>
            <a:xfrm>
              <a:off x="3089160" y="4033800"/>
              <a:ext cx="1266840" cy="1247760"/>
              <a:chOff x="3089160" y="4033800"/>
              <a:chExt cx="1266840" cy="1247760"/>
            </a:xfrm>
          </p:grpSpPr>
          <p:pic>
            <p:nvPicPr>
              <p:cNvPr id="1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89160" y="4033800"/>
                <a:ext cx="1266840" cy="12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3089160" y="4033800"/>
                <a:ext cx="1258200" cy="1247760"/>
              </a:xfrm>
              <a:prstGeom prst="ellipse">
                <a:avLst/>
              </a:prstGeom>
              <a:gradFill rotWithShape="0">
                <a:gsLst>
                  <a:gs pos="0">
                    <a:srgbClr val="153b8f"/>
                  </a:gs>
                  <a:gs pos="100000">
                    <a:srgbClr val="1967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3216240" y="4046400"/>
              <a:ext cx="1000080" cy="43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3073680" y="4849200"/>
              <a:ext cx="1281240" cy="511560"/>
              <a:chOff x="3073680" y="4849200"/>
              <a:chExt cx="1281240" cy="5115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3297600" y="4849200"/>
                <a:ext cx="1057320" cy="480960"/>
                <a:chOff x="3297600" y="4849200"/>
                <a:chExt cx="1057320" cy="480960"/>
              </a:xfrm>
            </p:grpSpPr>
            <p:sp>
              <p:nvSpPr>
                <p:cNvPr id="130" name=""/>
                <p:cNvSpPr/>
                <p:nvPr/>
              </p:nvSpPr>
              <p:spPr>
                <a:xfrm flipH="1" flipV="1" rot="3964800">
                  <a:off x="3873240" y="470556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flipV="1" rot="4780200">
                  <a:off x="3754440" y="4753080"/>
                  <a:ext cx="18540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 flipV="1" rot="5076000">
                  <a:off x="3681720" y="4763160"/>
                  <a:ext cx="18540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 flipV="1" rot="5608200">
                  <a:off x="3593160" y="477072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073680" y="4856040"/>
                <a:ext cx="1055880" cy="504720"/>
                <a:chOff x="3073680" y="4856040"/>
                <a:chExt cx="1055880" cy="5047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flipV="1" rot="5317800">
                  <a:off x="3650040" y="4771080"/>
                  <a:ext cx="18612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 rot="6133800">
                  <a:off x="3521520" y="4769280"/>
                  <a:ext cx="18612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 rot="6429000">
                  <a:off x="3451320" y="4749120"/>
                  <a:ext cx="186120" cy="76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flipV="1" rot="6961200">
                  <a:off x="3366000" y="4723920"/>
                  <a:ext cx="18612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"/>
          <p:cNvGrpSpPr/>
          <p:nvPr/>
        </p:nvGrpSpPr>
        <p:grpSpPr>
          <a:xfrm>
            <a:off x="1189080" y="4167360"/>
            <a:ext cx="1008000" cy="1016280"/>
            <a:chOff x="1189080" y="4167360"/>
            <a:chExt cx="1008000" cy="1016280"/>
          </a:xfrm>
        </p:grpSpPr>
        <p:grpSp>
          <p:nvGrpSpPr>
            <p:cNvPr id="140" name=""/>
            <p:cNvGrpSpPr/>
            <p:nvPr/>
          </p:nvGrpSpPr>
          <p:grpSpPr>
            <a:xfrm>
              <a:off x="1189080" y="4167360"/>
              <a:ext cx="1008000" cy="988920"/>
              <a:chOff x="1189080" y="4167360"/>
              <a:chExt cx="1008000" cy="9889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1189080" y="4167360"/>
                <a:ext cx="1008000" cy="988920"/>
                <a:chOff x="1189080" y="4167360"/>
                <a:chExt cx="1008000" cy="988920"/>
              </a:xfrm>
            </p:grpSpPr>
            <p:pic>
              <p:nvPicPr>
                <p:cNvPr id="14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16736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>
                  <a:off x="1189080" y="416736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17672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" name=""/>
            <p:cNvGrpSpPr/>
            <p:nvPr/>
          </p:nvGrpSpPr>
          <p:grpSpPr>
            <a:xfrm>
              <a:off x="1249920" y="4834800"/>
              <a:ext cx="874800" cy="348840"/>
              <a:chOff x="1249920" y="4834800"/>
              <a:chExt cx="874800" cy="3488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402560" y="4834800"/>
                <a:ext cx="722160" cy="327600"/>
                <a:chOff x="1402560" y="4834800"/>
                <a:chExt cx="722160" cy="327600"/>
              </a:xfrm>
            </p:grpSpPr>
            <p:sp>
              <p:nvSpPr>
                <p:cNvPr id="147" name=""/>
                <p:cNvSpPr/>
                <p:nvPr/>
              </p:nvSpPr>
              <p:spPr>
                <a:xfrm flipH="1" flipV="1" rot="3964800">
                  <a:off x="1796040" y="473616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 rot="4780200">
                  <a:off x="1714680" y="476784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 rot="5076000">
                  <a:off x="1665000" y="47743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 rot="5608200">
                  <a:off x="1604880" y="478080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249920" y="4839840"/>
                <a:ext cx="720720" cy="343800"/>
                <a:chOff x="1249920" y="4839840"/>
                <a:chExt cx="720720" cy="343800"/>
              </a:xfrm>
            </p:grpSpPr>
            <p:sp>
              <p:nvSpPr>
                <p:cNvPr id="152" name=""/>
                <p:cNvSpPr/>
                <p:nvPr/>
              </p:nvSpPr>
              <p:spPr>
                <a:xfrm flipH="1" flipV="1" rot="5317800">
                  <a:off x="1643760" y="478116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 rot="6133800">
                  <a:off x="1555920" y="477972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 flipV="1" rot="6429000">
                  <a:off x="1508040" y="47667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 rot="6961200">
                  <a:off x="1449720" y="47487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684360" y="2367000"/>
            <a:ext cx="1008000" cy="1016280"/>
            <a:chOff x="684360" y="2367000"/>
            <a:chExt cx="1008000" cy="1016280"/>
          </a:xfrm>
        </p:grpSpPr>
        <p:grpSp>
          <p:nvGrpSpPr>
            <p:cNvPr id="157" name=""/>
            <p:cNvGrpSpPr/>
            <p:nvPr/>
          </p:nvGrpSpPr>
          <p:grpSpPr>
            <a:xfrm>
              <a:off x="684360" y="2367000"/>
              <a:ext cx="1008000" cy="988920"/>
              <a:chOff x="684360" y="2367000"/>
              <a:chExt cx="1008000" cy="9889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84360" y="2367000"/>
                <a:ext cx="1008000" cy="988920"/>
                <a:chOff x="684360" y="2367000"/>
                <a:chExt cx="1008000" cy="988920"/>
              </a:xfrm>
            </p:grpSpPr>
            <p:pic>
              <p:nvPicPr>
                <p:cNvPr id="15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36700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>
                  <a:off x="684360" y="236700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37636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" name=""/>
            <p:cNvGrpSpPr/>
            <p:nvPr/>
          </p:nvGrpSpPr>
          <p:grpSpPr>
            <a:xfrm>
              <a:off x="745200" y="3034440"/>
              <a:ext cx="874800" cy="348840"/>
              <a:chOff x="745200" y="3034440"/>
              <a:chExt cx="874800" cy="3488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897840" y="3034440"/>
                <a:ext cx="722160" cy="327600"/>
                <a:chOff x="897840" y="3034440"/>
                <a:chExt cx="722160" cy="327600"/>
              </a:xfrm>
            </p:grpSpPr>
            <p:sp>
              <p:nvSpPr>
                <p:cNvPr id="164" name=""/>
                <p:cNvSpPr/>
                <p:nvPr/>
              </p:nvSpPr>
              <p:spPr>
                <a:xfrm flipH="1" flipV="1" rot="3964800">
                  <a:off x="1291320" y="293580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 rot="4780200">
                  <a:off x="1209960" y="296748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 rot="5076000">
                  <a:off x="1160280" y="29739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 rot="5608200">
                  <a:off x="1100160" y="29804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45200" y="3039480"/>
                <a:ext cx="720720" cy="343800"/>
                <a:chOff x="745200" y="3039480"/>
                <a:chExt cx="720720" cy="343800"/>
              </a:xfrm>
            </p:grpSpPr>
            <p:sp>
              <p:nvSpPr>
                <p:cNvPr id="169" name=""/>
                <p:cNvSpPr/>
                <p:nvPr/>
              </p:nvSpPr>
              <p:spPr>
                <a:xfrm flipH="1" flipV="1" rot="5317800">
                  <a:off x="1139040" y="298080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 rot="6133800">
                  <a:off x="1051200" y="2979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 flipV="1" rot="6429000">
                  <a:off x="1003320" y="296640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 flipV="1" rot="6961200">
                  <a:off x="945000" y="294840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3" name=""/>
          <p:cNvGrpSpPr/>
          <p:nvPr/>
        </p:nvGrpSpPr>
        <p:grpSpPr>
          <a:xfrm>
            <a:off x="3708360" y="2347920"/>
            <a:ext cx="1008000" cy="1016280"/>
            <a:chOff x="3708360" y="2347920"/>
            <a:chExt cx="1008000" cy="1016280"/>
          </a:xfrm>
        </p:grpSpPr>
        <p:grpSp>
          <p:nvGrpSpPr>
            <p:cNvPr id="174" name=""/>
            <p:cNvGrpSpPr/>
            <p:nvPr/>
          </p:nvGrpSpPr>
          <p:grpSpPr>
            <a:xfrm>
              <a:off x="3708360" y="2347920"/>
              <a:ext cx="1008000" cy="988920"/>
              <a:chOff x="3708360" y="2347920"/>
              <a:chExt cx="1008000" cy="9889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708360" y="2347920"/>
                <a:ext cx="1008000" cy="988920"/>
                <a:chOff x="3708360" y="2347920"/>
                <a:chExt cx="1008000" cy="988920"/>
              </a:xfrm>
            </p:grpSpPr>
            <p:pic>
              <p:nvPicPr>
                <p:cNvPr id="1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34792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3708360" y="234792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35728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"/>
            <p:cNvGrpSpPr/>
            <p:nvPr/>
          </p:nvGrpSpPr>
          <p:grpSpPr>
            <a:xfrm>
              <a:off x="3769200" y="3015360"/>
              <a:ext cx="874800" cy="348840"/>
              <a:chOff x="3769200" y="3015360"/>
              <a:chExt cx="874800" cy="34884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921840" y="3015360"/>
                <a:ext cx="722160" cy="327600"/>
                <a:chOff x="3921840" y="3015360"/>
                <a:chExt cx="722160" cy="327600"/>
              </a:xfrm>
            </p:grpSpPr>
            <p:sp>
              <p:nvSpPr>
                <p:cNvPr id="181" name=""/>
                <p:cNvSpPr/>
                <p:nvPr/>
              </p:nvSpPr>
              <p:spPr>
                <a:xfrm flipH="1" flipV="1" rot="3964800">
                  <a:off x="4315320" y="291672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 rot="4780200">
                  <a:off x="4233960" y="294840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flipV="1" rot="5076000">
                  <a:off x="4184280" y="295488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flipV="1" rot="5608200">
                  <a:off x="4124160" y="29613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769200" y="3020400"/>
                <a:ext cx="720720" cy="343800"/>
                <a:chOff x="3769200" y="3020400"/>
                <a:chExt cx="720720" cy="3438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 flipV="1" rot="5317800">
                  <a:off x="4163040" y="296172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 rot="6133800">
                  <a:off x="4075200" y="29602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flipV="1" rot="6429000">
                  <a:off x="4027320" y="294732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 rot="6961200">
                  <a:off x="3969000" y="292932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0" name=""/>
          <p:cNvGrpSpPr/>
          <p:nvPr/>
        </p:nvGrpSpPr>
        <p:grpSpPr>
          <a:xfrm>
            <a:off x="2197080" y="1195560"/>
            <a:ext cx="1008000" cy="1016280"/>
            <a:chOff x="2197080" y="1195560"/>
            <a:chExt cx="1008000" cy="1016280"/>
          </a:xfrm>
        </p:grpSpPr>
        <p:grpSp>
          <p:nvGrpSpPr>
            <p:cNvPr id="191" name=""/>
            <p:cNvGrpSpPr/>
            <p:nvPr/>
          </p:nvGrpSpPr>
          <p:grpSpPr>
            <a:xfrm>
              <a:off x="2197080" y="1195560"/>
              <a:ext cx="1008000" cy="988920"/>
              <a:chOff x="2197080" y="1195560"/>
              <a:chExt cx="1008000" cy="9889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2197080" y="1195560"/>
                <a:ext cx="1008000" cy="988920"/>
                <a:chOff x="2197080" y="1195560"/>
                <a:chExt cx="1008000" cy="988920"/>
              </a:xfrm>
            </p:grpSpPr>
            <p:pic>
              <p:nvPicPr>
                <p:cNvPr id="19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19556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"/>
                <p:cNvSpPr/>
                <p:nvPr/>
              </p:nvSpPr>
              <p:spPr>
                <a:xfrm>
                  <a:off x="2197080" y="119556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0492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"/>
            <p:cNvGrpSpPr/>
            <p:nvPr/>
          </p:nvGrpSpPr>
          <p:grpSpPr>
            <a:xfrm>
              <a:off x="2257920" y="1863000"/>
              <a:ext cx="874800" cy="348840"/>
              <a:chOff x="2257920" y="1863000"/>
              <a:chExt cx="874800" cy="34884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2410560" y="1863000"/>
                <a:ext cx="722160" cy="327600"/>
                <a:chOff x="2410560" y="1863000"/>
                <a:chExt cx="722160" cy="327600"/>
              </a:xfrm>
            </p:grpSpPr>
            <p:sp>
              <p:nvSpPr>
                <p:cNvPr id="198" name=""/>
                <p:cNvSpPr/>
                <p:nvPr/>
              </p:nvSpPr>
              <p:spPr>
                <a:xfrm flipH="1" flipV="1" rot="3964800">
                  <a:off x="2804040" y="176436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 flipV="1" rot="4780200">
                  <a:off x="2722680" y="179604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flipV="1" rot="5076000">
                  <a:off x="2673000" y="1802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 rot="5608200">
                  <a:off x="2612880" y="180900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257920" y="1868040"/>
                <a:ext cx="720720" cy="343800"/>
                <a:chOff x="2257920" y="1868040"/>
                <a:chExt cx="720720" cy="343800"/>
              </a:xfrm>
            </p:grpSpPr>
            <p:sp>
              <p:nvSpPr>
                <p:cNvPr id="203" name=""/>
                <p:cNvSpPr/>
                <p:nvPr/>
              </p:nvSpPr>
              <p:spPr>
                <a:xfrm flipH="1" flipV="1" rot="5317800">
                  <a:off x="2651760" y="180936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 rot="6133800">
                  <a:off x="2563920" y="180792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 rot="6429000">
                  <a:off x="2516040" y="17949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 rot="6961200">
                  <a:off x="2457720" y="17769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7" name=""/>
          <p:cNvSpPr/>
          <p:nvPr/>
        </p:nvSpPr>
        <p:spPr>
          <a:xfrm rot="21229800">
            <a:off x="1598400" y="160092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71440" y="515628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19640" y="200016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9021"/>
              </a:gs>
              <a:gs pos="100000">
                <a:srgbClr val="96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3120" y="203364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235480" y="1500120"/>
            <a:ext cx="2941560" cy="434880"/>
            <a:chOff x="5235480" y="1500120"/>
            <a:chExt cx="2941560" cy="434880"/>
          </a:xfrm>
        </p:grpSpPr>
        <p:sp>
          <p:nvSpPr>
            <p:cNvPr id="212" name=""/>
            <p:cNvSpPr/>
            <p:nvPr/>
          </p:nvSpPr>
          <p:spPr>
            <a:xfrm>
              <a:off x="5235480" y="150012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63560" y="1532520"/>
              <a:ext cx="2880000" cy="1785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724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360" y="5684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9" name="矩形 4"/>
            <p:cNvSpPr/>
            <p:nvPr/>
          </p:nvSpPr>
          <p:spPr>
            <a:xfrm>
              <a:off x="847080" y="0"/>
              <a:ext cx="6204600" cy="505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i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i="1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7:10:00Z</dcterms:created>
  <dc:creator/>
  <dc:description/>
  <dc:language>en-US</dc:language>
  <cp:lastModifiedBy/>
  <dcterms:modified xsi:type="dcterms:W3CDTF">2015-01-11T15:19:4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