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235E0-51BF-4FE5-B93C-10620226B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6E06F-5A51-410B-987E-BFD47AB39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C9D25-44EB-40FC-BEF4-6029C2194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4B920-59DB-4E81-AEA2-C269BE4B8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A0682-C5B8-4B22-9CC3-AD414BFBD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D47A8-F16F-4E2D-9182-B4DB35037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688CB-5772-4B24-A6CC-143BA89AD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28F29-F9EF-4745-83B8-697A2C1CF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2983A-480D-4DB4-BA5B-00BCE61DB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24A27-57D7-49E4-8106-DAA44A05C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1F3BC-6DED-4F81-91FF-F92832C73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50098-22C5-49D0-9E3C-4792FA810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AF527-9318-46FC-BF34-6BEF3A7218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10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7164360" y="638172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53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4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-31680" y="0"/>
            <a:ext cx="9137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-20520"/>
            <a:ext cx="9139320" cy="60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7240" cy="60944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7164360" y="638172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-4680" y="0"/>
            <a:ext cx="9139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72440" cy="57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240"/>
            <a:ext cx="9139320" cy="608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29T03:38:03Z</dcterms:created>
  <dc:creator>Administrator</dc:creator>
  <dc:description/>
  <dc:language>en-US</dc:language>
  <cp:lastModifiedBy/>
  <dcterms:modified xsi:type="dcterms:W3CDTF">2015-01-11T15:16:44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