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C65B-1658-4DE1-8D58-35954A9CB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61B7-CF7B-475C-9CFD-754D0C50F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9C53-C5CD-4DCF-88CA-D4E5DA402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963A-53EC-4C06-90FE-AF16A7112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1DF4-E09A-4AD3-8054-3C3216A74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19DE-A499-466A-928F-8D6E0E7C63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7631-D507-4ABB-8F60-63D4336EE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7595-9F3B-4D2A-97C0-0DFBC21BB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69C1-8727-4F00-A659-02F7510FD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69F5-18C1-40FF-81DF-B65224A8D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FEF8-0B86-4765-8C36-0F344C0FF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2090-F709-4BD6-B93D-155BF61BD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4438535-4EAC-4761-B23A-F50F0B84632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32A0-8FC3-4169-8B72-68B516D9D2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68360" y="359712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中国风水墨清明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334800"/>
            <a:ext cx="748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删除与替换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28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32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36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A7A1-DA30-49B1-984A-65413A8E6C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42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43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52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343A-5791-4DA8-B595-B68C53734E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6080" y="6381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4EED-2B18-4607-AEEA-463F7305AD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900000" y="270828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ERICLAU</cp:lastModifiedBy>
  <dcterms:modified xsi:type="dcterms:W3CDTF">2015-01-10T09:14:02Z</dcterms:modified>
  <cp:revision>2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