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211-11F8-4AED-8B0B-77FB57F5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7B2-7C2F-4482-BDEC-FCB24966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C9D-457F-432C-8D14-9C4A8CA2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C03-BAD5-4B4D-ACC6-631E8422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9CE-AD69-44EC-B45B-1194B4BB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2BF-10D9-4142-A724-C6F51514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16C-B975-446C-A2BC-7E93DEB6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0EA-6649-4741-A17D-39EC4B2E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D47-8478-49FD-9599-5FD244F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091-ACCA-4519-8D1E-A91DF2DF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35C-0E9F-41D4-BE98-BD4B968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AA9-F593-47E5-9EB1-2F1D47E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7654-FE8E-402D-B5C5-E9DCD5D404F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9220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炫丽蓝色圣诞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492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2320" y="4732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17375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17375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692800" y="4803840"/>
            <a:ext cx="40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5:04:52Z</dcterms:created>
  <dc:creator/>
  <dc:description/>
  <dc:language>en-US</dc:language>
  <cp:lastModifiedBy>Ric6000</cp:lastModifiedBy>
  <dcterms:modified xsi:type="dcterms:W3CDTF">2015-01-10T11:44:4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