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media/image4.gif" ContentType="image/gif"/>
  <Override PartName="/ppt/media/image5.gif" ContentType="image/gif"/>
  <Override PartName="/ppt/media/image6.gif" ContentType="image/gif"/>
  <Override PartName="/ppt/media/image10.jpeg" ContentType="image/jpeg"/>
  <Override PartName="/ppt/media/image7.gif" ContentType="image/gif"/>
  <Override PartName="/ppt/media/image8.gif" ContentType="image/gif"/>
  <Override PartName="/ppt/media/image9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877D-1A7A-4CF3-A35F-187383B7A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BE5E-9B7A-4D8F-8AB3-94D7DE9D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D24E-3E5E-4408-93A8-44EF8E327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0A63-CBF4-4C3B-A99E-921CFD13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F44B-2FE2-4B76-B5F5-4371B6B12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52A1-AD2B-4CF5-BD6E-39E19BB1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7CF2-E456-4B38-A7D0-3E760A4C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C73D-6265-4776-ABB3-EC722BA7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3C59-123C-47AA-9E6A-EE207C04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EF2F-7AF0-45A0-B202-27F0CDAA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40A7-4B3B-4EB7-9136-C5647714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E785-93B6-4AC1-8D48-7460136C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F0C6-C119-432E-89AD-D80AE150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AA30-9269-4AA2-85E1-5BD67CD4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4ACF-9F01-4767-8170-B1702AE3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0CDB-5A1E-48D9-8158-CE2ACD0E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42AB-C983-47A2-8018-6667A1638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25734-4CF7-4287-92C1-B38AB3464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DD344-62AA-44A3-9002-CB1A81EB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2AAF6-217F-45DC-8B4D-DB070780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888AB-2E4E-4CA1-8701-5C640F24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7C510-0FFB-4212-9C16-25FB5897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6D4D-288F-4CB2-A854-E9F78DF8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3225E-F966-4957-8788-030C89ED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6C44D-339E-43FC-B737-5B13DB50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3BE28-3F12-4C03-8EB1-688E7788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033AC-9E48-4DAF-AB21-E3FBD8F7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016F8-43C2-43F1-926A-D6597C26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6F4E9-821F-4515-A963-3D5A9E0CD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D3CE8-6980-47E8-B055-270B71195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C00A-7667-47A7-9C88-5EBB9A66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CBF0-9B43-46B4-A8A9-9AEA1098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AE4E-2CC6-41F8-9113-37B606AC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576E-1474-4EED-B895-65BB4CAA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C894-0176-44D9-A9C5-C813A2B4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4297-188D-4019-964A-2EB3F2AB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 rot="16200000">
            <a:off x="1145160" y="-1141920"/>
            <a:ext cx="6858000" cy="9142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F761-8F26-4E43-82DB-AB1FD8E82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861080" y="1014480"/>
            <a:ext cx="3887640" cy="530604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050920" y="549360"/>
            <a:ext cx="5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行楷"/>
              </a:rPr>
              <a:t>《中秋月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309400" y="127008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华文行楷"/>
              </a:rPr>
              <a:t>（宋）苏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132720" y="1989000"/>
            <a:ext cx="394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华文新魏"/>
              </a:rPr>
              <a:t>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华文新魏"/>
              </a:rPr>
              <a:t>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华文新魏"/>
              </a:rPr>
              <a:t>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华文新魏"/>
              </a:rPr>
              <a:t>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华文新魏"/>
              </a:rPr>
              <a:t>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华文新魏"/>
              </a:rPr>
              <a:t>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华文新魏"/>
              </a:rPr>
              <a:t>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485080" y="1989000"/>
            <a:ext cx="394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华文新魏"/>
              </a:rPr>
              <a:t>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华文新魏"/>
              </a:rPr>
              <a:t>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华文新魏"/>
              </a:rPr>
              <a:t>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华文新魏"/>
              </a:rPr>
              <a:t>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华文新魏"/>
              </a:rPr>
              <a:t>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华文新魏"/>
              </a:rPr>
              <a:t>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华文新魏"/>
              </a:rPr>
              <a:t>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835640" y="1989000"/>
            <a:ext cx="394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华文新魏"/>
              </a:rPr>
              <a:t>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华文新魏"/>
              </a:rPr>
              <a:t>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华文新魏"/>
              </a:rPr>
              <a:t>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华文新魏"/>
              </a:rPr>
              <a:t>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华文新魏"/>
              </a:rPr>
              <a:t>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华文新魏"/>
              </a:rPr>
              <a:t>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华文新魏"/>
              </a:rPr>
              <a:t>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28720" y="1773360"/>
            <a:ext cx="3000240" cy="338580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188000" y="1989000"/>
            <a:ext cx="394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华文新魏"/>
              </a:rPr>
              <a:t>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华文新魏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华文新魏"/>
              </a:rPr>
              <a:t>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华文新魏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华文新魏"/>
              </a:rPr>
              <a:t>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华文新魏"/>
              </a:rPr>
              <a:t>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华文新魏"/>
              </a:rPr>
              <a:t>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3635280" y="117360"/>
            <a:ext cx="1211400" cy="120168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4"/>
          <a:stretch/>
        </p:blipFill>
        <p:spPr>
          <a:xfrm>
            <a:off x="5003640" y="1270080"/>
            <a:ext cx="3673800" cy="471960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 rot="16200000">
            <a:off x="1161000" y="-1161000"/>
            <a:ext cx="6858000" cy="91803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6489-29DC-4E5A-A9B7-A921C9D4E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 rot="300000">
            <a:off x="394920" y="1917720"/>
            <a:ext cx="1015920" cy="2197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12720" y="2709720"/>
            <a:ext cx="1652760" cy="2930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 rot="420000">
            <a:off x="6516360" y="2637000"/>
            <a:ext cx="2011320" cy="3003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6661080" y="693720"/>
            <a:ext cx="1284480" cy="2390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 rot="360000">
            <a:off x="7019640" y="1917360"/>
            <a:ext cx="2012760" cy="26845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 rot="16200000">
            <a:off x="1141920" y="-1140480"/>
            <a:ext cx="6858000" cy="91393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D0DE-8AE7-4B0C-B51F-1A7E55610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292720" y="5114880"/>
            <a:ext cx="3708360" cy="16686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948360" y="6165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763640" y="1989000"/>
            <a:ext cx="5041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击输入你的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1485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13:58:41Z</dcterms:created>
  <dc:creator>Administrator</dc:creator>
  <dc:description/>
  <dc:language>en-US</dc:language>
  <cp:lastModifiedBy/>
  <dcterms:modified xsi:type="dcterms:W3CDTF">2015-01-11T06:50:4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