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BAD-3BBB-47BA-91B3-C66716BD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DDE-4A87-4027-9E62-E55A10EC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068-08DF-4D47-A9B2-28F7D583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95A-B090-43D6-86BC-8B35D00D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62FA-508A-41F9-8A57-C623A627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45D-6EBA-40A4-993E-517A7B70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515D-94C5-4582-9CEB-D02F7074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AE3C-A2EC-4596-80BC-7EBCD28C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B2B8-4A93-4735-8343-0DA6AAA4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A354-B3D6-4589-900C-1D1821E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BE69-A98C-4673-B9D1-7705750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690-8708-45E4-B67E-030A3CCA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95BF-A546-4DAF-B29C-69761897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A165-2057-4031-9851-8DE94649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1BD5-9595-4079-AD83-325452D7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202-B2AB-47B2-B77D-E7D237BE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06028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8392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46B7-0F0A-4117-AA68-5AF0A932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7B7-7D31-4493-A2C0-7BEACC79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A62-FF03-4D4A-AB67-E794FEF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352-6CE4-4617-948E-6F5A38B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B88-3F73-4860-8CA5-C4595E5B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6F4-FE4D-42FA-8E2E-F27FD5E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8392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6AF-C584-4A75-8435-EB32B0A8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06028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83920"/>
            <a:ext cx="8229600" cy="19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203-A9C0-40AF-B89F-F208CBDD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d"/>
          <p:cNvPicPr/>
          <p:nvPr/>
        </p:nvPicPr>
        <p:blipFill>
          <a:blip r:embed="rId2"/>
          <a:stretch/>
        </p:blipFill>
        <p:spPr>
          <a:xfrm>
            <a:off x="19080" y="1989000"/>
            <a:ext cx="916128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4"/>
          <p:cNvSpPr/>
          <p:nvPr/>
        </p:nvSpPr>
        <p:spPr>
          <a:xfrm>
            <a:off x="-4680" y="0"/>
            <a:ext cx="9175680" cy="6891480"/>
          </a:xfrm>
          <a:prstGeom prst="pi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611280" y="5516640"/>
            <a:ext cx="8550360" cy="898560"/>
          </a:xfrm>
          <a:prstGeom prst="pie">
            <a:avLst/>
          </a:pr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5950080"/>
            <a:ext cx="3924360" cy="676080"/>
          </a:xfrm>
          <a:prstGeom prst="pie">
            <a:avLst/>
          </a:pr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Freeform 7"/>
          <p:cNvSpPr/>
          <p:nvPr/>
        </p:nvSpPr>
        <p:spPr>
          <a:xfrm>
            <a:off x="2843280" y="5950080"/>
            <a:ext cx="6327720" cy="620640"/>
          </a:xfrm>
          <a:prstGeom prst="pie">
            <a:avLst/>
          </a:pr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1910-4B9B-4B1B-80E4-AD40140B7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1680" y="-22320"/>
            <a:ext cx="9200880" cy="6856560"/>
            <a:chOff x="-31680" y="-22320"/>
            <a:chExt cx="9200880" cy="6856560"/>
          </a:xfrm>
        </p:grpSpPr>
        <p:grpSp>
          <p:nvGrpSpPr>
            <p:cNvPr id="47" name=""/>
            <p:cNvGrpSpPr/>
            <p:nvPr/>
          </p:nvGrpSpPr>
          <p:grpSpPr>
            <a:xfrm>
              <a:off x="-31680" y="-22320"/>
              <a:ext cx="9171720" cy="6856560"/>
              <a:chOff x="-31680" y="-22320"/>
              <a:chExt cx="9171720" cy="6856560"/>
            </a:xfrm>
          </p:grpSpPr>
          <p:pic>
            <p:nvPicPr>
              <p:cNvPr id="48" name="Picture 14" descr="red"/>
              <p:cNvPicPr/>
              <p:nvPr/>
            </p:nvPicPr>
            <p:blipFill>
              <a:blip r:embed="rId2"/>
              <a:stretch/>
            </p:blipFill>
            <p:spPr>
              <a:xfrm>
                <a:off x="-31680" y="1965240"/>
                <a:ext cx="9154440" cy="486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Freeform 3"/>
              <p:cNvSpPr/>
              <p:nvPr/>
            </p:nvSpPr>
            <p:spPr>
              <a:xfrm>
                <a:off x="-21960" y="-22320"/>
                <a:ext cx="9154440" cy="4030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0" name="Freeform 5"/>
              <p:cNvSpPr/>
              <p:nvPr/>
            </p:nvSpPr>
            <p:spPr>
              <a:xfrm>
                <a:off x="94320" y="2765880"/>
                <a:ext cx="9045720" cy="1222920"/>
              </a:xfrm>
              <a:prstGeom prst="pie">
                <a:avLst/>
              </a:prstGeom>
              <a:solidFill>
                <a:srgbClr val="bd8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51" name="Freeform 6"/>
            <p:cNvSpPr/>
            <p:nvPr/>
          </p:nvSpPr>
          <p:spPr>
            <a:xfrm>
              <a:off x="1977840" y="3394800"/>
              <a:ext cx="7191360" cy="1206720"/>
            </a:xfrm>
            <a:prstGeom prst="pie">
              <a:avLst/>
            </a:prstGeom>
            <a:solidFill>
              <a:srgbClr val="ff66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912A-3828-41CF-906A-27984D82A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78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Gulim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4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0EC-1124-444F-869D-B38F81C57417}" type="slidenum">
              <a:rPr b="0" lang="en-US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7160" y="287280"/>
            <a:ext cx="12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标题</a:t>
            </a:r>
            <a:r>
              <a:rPr b="1" lang="ko-KR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Line 4"/>
          <p:cNvSpPr/>
          <p:nvPr/>
        </p:nvSpPr>
        <p:spPr>
          <a:xfrm>
            <a:off x="-4680" y="797040"/>
            <a:ext cx="91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3"/>
          <p:cNvSpPr/>
          <p:nvPr/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6257-0E3A-40A9-AEC6-6CD7F7D42E75}" type="slidenum">
              <a:rPr b="0" lang="en-US" sz="8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8120" y="631044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5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/>
  <dc:description/>
  <dc:language>en-US</dc:language>
  <cp:lastModifiedBy>闆ㄦ灄鏈ㄩ</cp:lastModifiedBy>
  <dcterms:modified xsi:type="dcterms:W3CDTF">2015-01-11T11:44:01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