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C90-5B05-4F4D-B863-04595281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DCB-CE26-49FC-A0E8-449099CD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F9D-D1B2-4E94-9F66-3DE5F9FF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C2C-7416-4448-80D3-3D2F4E1B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2749-F245-4687-9523-75780864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03DC-0E8A-49F2-89A8-7953A729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4AA5-920E-439C-8F2E-CF012646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B3BE-4D6A-4DCE-A808-305F3C02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2EAF-E4EC-49F7-BE6E-B1FEF504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FD3B-F56C-4419-8155-7B22D2BE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C9E4-A120-4964-94BB-633B20B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C5D-D260-48D5-B5F1-C6DF2E5A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07EC-00BE-4063-BC95-25C3FBAE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B42F-1B5C-4629-9DC7-23A5674C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FDEB-1502-40C9-A84E-88894F1A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37D4-46B5-4C35-A402-5548CDB3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2116-2A6C-44ED-9B75-4F394A76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489-9EA0-463F-BBF9-DA237C1B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0D2-C8FD-4F3A-880C-50295E7F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C4B-5C92-4C93-B3BF-D34296A6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F1E-3480-462B-AAF3-8256828E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453-37BE-451E-B146-ACE2DDD1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0FB-78EC-49CB-B635-324BFFC5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BB9-5AB8-4E4D-BEA1-99031722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95CC-FB35-4E62-89DE-16D4A3D95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DEB8-0C72-4F13-B8EC-BB116847D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6:02:24Z</dcterms:created>
  <dc:creator>Administrator</dc:creator>
  <dc:description/>
  <dc:language>en-US</dc:language>
  <cp:lastModifiedBy/>
  <dcterms:modified xsi:type="dcterms:W3CDTF">2015-01-11T15:13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