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8C0-6521-477E-B459-29767983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CB7-52BC-4BEE-94DF-37B71D2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C8B-D4D2-4F3C-992F-50655D0A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2D2-1C6D-4563-9D19-14BFB684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5C3B-8E45-44F4-AF2C-F3E021C4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4154-FFD1-4D08-94C2-DD59F6B7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B360-ACC2-4B40-9659-60CF6DFC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278B-57F8-4CFB-B6D9-60DCC3CA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37F-6F54-4E0B-9CC4-39EF0129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295-FA7D-4A9A-A280-154C71C0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58D-0545-4412-9989-40DD3C58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52B-11D0-4E79-AD10-72FB19E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FD33-3598-44A2-970B-D49C75A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73D6-3ED5-4D43-ADCE-FCD2117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29C4-734F-4BC3-A4FD-C3F9EDD6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F59-0898-4C26-B063-68720F2F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D63F-E963-4B16-91E0-37FE4333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D06-F0A5-476A-8342-D752095D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6CF-6824-41FC-B955-317CECB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4E5-80AA-4DD2-B664-02735C4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4FF-4F5D-4B78-8D74-13FD553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D80-77F4-4BAA-AEFD-1ABE070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E09-8E0B-40B8-A4A8-87A9AAD9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EFF-16E8-4361-B152-DEED498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0A7-2C8F-4442-8EDD-BF95CC00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3A5-F2B5-4056-B583-2BC67EB6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ant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131400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植物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模板下载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17720" y="65340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otany Print Pag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27360" y="648972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otany_transitional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91" name="botany_transitional2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92" name="BOTANY1" descr=""/>
          <p:cNvPicPr/>
          <p:nvPr/>
        </p:nvPicPr>
        <p:blipFill>
          <a:blip r:embed="rId3"/>
          <a:stretch/>
        </p:blipFill>
        <p:spPr>
          <a:xfrm>
            <a:off x="685800" y="458784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93" name="BOTANY2" descr=""/>
          <p:cNvPicPr/>
          <p:nvPr/>
        </p:nvPicPr>
        <p:blipFill>
          <a:blip r:embed="rId4"/>
          <a:stretch/>
        </p:blipFill>
        <p:spPr>
          <a:xfrm>
            <a:off x="3276720" y="609480"/>
            <a:ext cx="2361960" cy="1889280"/>
          </a:xfrm>
          <a:prstGeom prst="rect">
            <a:avLst/>
          </a:prstGeom>
          <a:ln w="0">
            <a:noFill/>
          </a:ln>
        </p:spPr>
      </p:pic>
      <p:pic>
        <p:nvPicPr>
          <p:cNvPr id="94" name="BOTANY3" descr=""/>
          <p:cNvPicPr/>
          <p:nvPr/>
        </p:nvPicPr>
        <p:blipFill>
          <a:blip r:embed="rId5"/>
          <a:stretch/>
        </p:blipFill>
        <p:spPr>
          <a:xfrm>
            <a:off x="3276720" y="260676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95" name="PLANT" descr=""/>
          <p:cNvPicPr/>
          <p:nvPr/>
        </p:nvPicPr>
        <p:blipFill>
          <a:blip r:embed="rId6"/>
          <a:stretch/>
        </p:blipFill>
        <p:spPr>
          <a:xfrm>
            <a:off x="5695920" y="609480"/>
            <a:ext cx="3448080" cy="385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51055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any Elements Page – Use these elements to customize template if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77480" y="644508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3:47:40Z</dcterms:created>
  <dc:creator>eclipse</dc:creator>
  <dc:description/>
  <dc:language>en-US</dc:language>
  <cp:lastModifiedBy>eclipse</cp:lastModifiedBy>
  <dcterms:modified xsi:type="dcterms:W3CDTF">2015-01-11T07:12:26Z</dcterms:modified>
  <cp:revision>1</cp:revision>
  <dc:subject/>
  <dc:title>Botany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