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4E8-244E-4815-B22A-1A599D82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678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678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B4D-484E-48EE-BE17-796072D0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26B-C080-4AD6-9262-C950760A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1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5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1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5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B26-FA01-4D83-94BC-5A8E1100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8824-B08D-4FAC-841F-459D9267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7F38-C5B0-4D27-8BD6-67ACA343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EEC5-7173-4280-A5AF-7957BA6E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209F-A04B-4BBE-9FA6-B212426E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4BBF-EE13-4A71-9D23-7D787EC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E19-2FEA-43F6-B9C3-0B3070F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63F4-BAB8-4AB5-8537-14FC2203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6992-69CC-4E18-BF69-C5EC0199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8456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B37A-2C54-4190-AF72-51356758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678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661F-33EF-4CFB-8734-0D853CE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678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64320"/>
            <a:ext cx="678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3667-27F3-443F-BFAE-AE06324E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8456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FE4B-186B-4AB8-80D2-F16910EF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01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95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01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195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B0B6-5404-4C3E-8EC0-A4711C82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95B-42B3-4028-994C-040D7999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15B-A86D-4B99-892C-2BC32856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543-471F-42BC-804E-32C41357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434-4A57-4DF8-99B3-DAA4F930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662-3ECE-4ACE-9216-B15FFACF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396432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77F-671D-4299-A66C-BADF1079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1600200"/>
            <a:ext cx="3309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64320"/>
            <a:ext cx="678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B09-3BD2-4667-8B84-9467D016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4D8-B78E-4819-8026-61E9A4D4F0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62F-78B9-40A3-8ACB-A1F4AA4D1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6.gi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宋体"/>
              </a:rPr>
              <a:t>自行车</a:t>
            </a:r>
            <a:r>
              <a:rPr b="1" lang="zh-CN" sz="3600" spc="-1" strike="noStrike">
                <a:solidFill>
                  <a:srgbClr val="336699"/>
                </a:solidFill>
                <a:latin typeface="Arial"/>
                <a:ea typeface="宋体"/>
              </a:rPr>
              <a:t>PPT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宋体"/>
              </a:rPr>
              <a:t>模板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2763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6600"/>
              </a:solidFill>
              <a:latin typeface="Arial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580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  <a:ea typeface="宋体"/>
              </a:rPr>
              <a:t>TRANSITIONAL PAGE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580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  <a:ea typeface="宋体"/>
              </a:rPr>
              <a:t>TRANSITIONAL PAGE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92" name="Picture 3" descr="bmx_bike_detail_hg_clr"/>
          <p:cNvPicPr/>
          <p:nvPr/>
        </p:nvPicPr>
        <p:blipFill>
          <a:blip r:embed="rId2"/>
          <a:stretch/>
        </p:blipFill>
        <p:spPr>
          <a:xfrm>
            <a:off x="5791320" y="1981080"/>
            <a:ext cx="3333600" cy="3333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4480" y="6165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ero"/>
                <a:ea typeface="宋体"/>
              </a:rPr>
              <a:t>elements</a:t>
            </a:r>
            <a:endParaRPr b="1" lang="en-US" sz="5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95" name="Picture 4" descr="bmxtreme_prt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6" name="Picture 5" descr="bmxtreme_qx"/>
          <p:cNvPicPr/>
          <p:nvPr/>
        </p:nvPicPr>
        <p:blipFill>
          <a:blip r:embed="rId2"/>
          <a:stretch/>
        </p:blipFill>
        <p:spPr>
          <a:xfrm>
            <a:off x="380880" y="426708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7" name="Picture 6" descr="bmxtreme_sld"/>
          <p:cNvPicPr/>
          <p:nvPr/>
        </p:nvPicPr>
        <p:blipFill>
          <a:blip r:embed="rId3"/>
          <a:stretch/>
        </p:blipFill>
        <p:spPr>
          <a:xfrm>
            <a:off x="3352680" y="198108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Picture 7" descr="bmxtreme_trs"/>
          <p:cNvPicPr/>
          <p:nvPr/>
        </p:nvPicPr>
        <p:blipFill>
          <a:blip r:embed="rId4"/>
          <a:stretch/>
        </p:blipFill>
        <p:spPr>
          <a:xfrm>
            <a:off x="6324480" y="426708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Picture 8" descr="bike"/>
          <p:cNvPicPr/>
          <p:nvPr/>
        </p:nvPicPr>
        <p:blipFill>
          <a:blip r:embed="rId5"/>
          <a:stretch/>
        </p:blipFill>
        <p:spPr>
          <a:xfrm>
            <a:off x="1089000" y="22096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bmxtreme_trs02"/>
          <p:cNvPicPr/>
          <p:nvPr/>
        </p:nvPicPr>
        <p:blipFill>
          <a:blip r:embed="rId6"/>
          <a:stretch/>
        </p:blipFill>
        <p:spPr>
          <a:xfrm>
            <a:off x="3352680" y="4267080"/>
            <a:ext cx="2514600" cy="1886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1" name="Picture 10" descr="bmx_bike_detail_hg_clr"/>
          <p:cNvPicPr/>
          <p:nvPr/>
        </p:nvPicPr>
        <p:blipFill>
          <a:blip r:embed="rId7"/>
          <a:stretch/>
        </p:blipFill>
        <p:spPr>
          <a:xfrm>
            <a:off x="838080" y="304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4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8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1:00:24Z</dcterms:created>
  <dc:creator/>
  <dc:description/>
  <dc:language>en-US</dc:language>
  <cp:lastModifiedBy>king</cp:lastModifiedBy>
  <dcterms:modified xsi:type="dcterms:W3CDTF">2015-01-11T07:22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