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EC53-4387-4A6C-AFC1-6C56AAE76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2177-69B8-4790-865B-7E40810D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5A67-1B0B-4436-8F58-84F557F92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E6D0-723C-4544-AFD6-E475681FE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A2DD-512D-49DB-8C29-7A43121B9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0B87-FD3C-43F8-AE55-EB4B13F9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75FE-1429-4FA5-9A45-06E07CFD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CA6E-C64E-40B4-B16E-BFE5207A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7CC0-C3BC-4760-AF8E-92D6D78C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3FF4-D881-4B93-A7D5-1904D7F5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F9E6-D65C-4255-B794-061C969A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BFE0-8B12-4754-872D-8718D8E3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738D-3BBA-416E-A158-B10B01B7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8B36-DEDE-4A46-BBEB-873ACCA3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D222-F359-49E2-8AD4-DB19D6E6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2AFB-6933-4823-81CD-149B727CC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4028-237F-4F78-A914-9D74748DB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66E0-2EBF-41F6-8B2C-9E1F10D8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33C6-DBEE-4F38-ABD6-D7F03BF7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6228-5054-44BE-85A9-FD29765C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2576-FB1B-473C-B0C0-5F8310EC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A13B-F045-4B07-B55C-5858024E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F031-F393-4B4B-BDEC-6493B8CF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C849-D2D3-4C95-9AD4-FF4007B4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7C35-00BD-47EA-8531-F76FE0A3DAE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" descr="C:\Documents and Settings\Administrator\桌面\商务-韩国\背景1.jpg"/>
          <p:cNvPicPr/>
          <p:nvPr/>
        </p:nvPicPr>
        <p:blipFill>
          <a:blip r:embed="rId2"/>
          <a:stretch/>
        </p:blipFill>
        <p:spPr>
          <a:xfrm>
            <a:off x="-4680" y="-7920"/>
            <a:ext cx="9177120" cy="68659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C:\Documents and Settings\Administrator\桌面\商务-韩国\全球2-2.png"/>
          <p:cNvPicPr/>
          <p:nvPr/>
        </p:nvPicPr>
        <p:blipFill>
          <a:blip r:embed="rId3"/>
          <a:stretch/>
        </p:blipFill>
        <p:spPr>
          <a:xfrm>
            <a:off x="73080" y="4514760"/>
            <a:ext cx="3979800" cy="2343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:\Documents and Settings\Administrator\桌面\商务-韩国\背景1.jpg"/>
          <p:cNvPicPr/>
          <p:nvPr/>
        </p:nvPicPr>
        <p:blipFill>
          <a:blip r:embed="rId2"/>
          <a:stretch/>
        </p:blipFill>
        <p:spPr>
          <a:xfrm>
            <a:off x="-4680" y="-7920"/>
            <a:ext cx="9177120" cy="6865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Documents and Settings\Administrator\桌面\商务-韩国\全球2-2.png"/>
          <p:cNvPicPr/>
          <p:nvPr/>
        </p:nvPicPr>
        <p:blipFill>
          <a:blip r:embed="rId3"/>
          <a:stretch/>
        </p:blipFill>
        <p:spPr>
          <a:xfrm>
            <a:off x="73080" y="4514760"/>
            <a:ext cx="3979800" cy="2343240"/>
          </a:xfrm>
          <a:prstGeom prst="rect">
            <a:avLst/>
          </a:prstGeom>
          <a:ln w="0">
            <a:noFill/>
          </a:ln>
        </p:spPr>
      </p:pic>
      <p:sp>
        <p:nvSpPr>
          <p:cNvPr id="45" name="矩形 8"/>
          <p:cNvSpPr/>
          <p:nvPr/>
        </p:nvSpPr>
        <p:spPr>
          <a:xfrm>
            <a:off x="0" y="5516640"/>
            <a:ext cx="916308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Documents and Settings\Administrator\桌面\商务-韩国\全球2-1.jpg"/>
          <p:cNvPicPr/>
          <p:nvPr/>
        </p:nvPicPr>
        <p:blipFill>
          <a:blip r:embed="rId4"/>
          <a:stretch/>
        </p:blipFill>
        <p:spPr>
          <a:xfrm>
            <a:off x="0" y="0"/>
            <a:ext cx="9163080" cy="6021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386B-8962-4193-8033-2AF9126DF18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553800" y="6093000"/>
            <a:ext cx="2297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Calibri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Calibri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Calibri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Calibri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Calibri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10:47:55Z</dcterms:created>
  <dc:creator/>
  <dc:description/>
  <dc:language>en-US</dc:language>
  <cp:lastModifiedBy>微软用户</cp:lastModifiedBy>
  <dcterms:modified xsi:type="dcterms:W3CDTF">2015-01-11T06:40:56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