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CB6-0093-4388-9CB2-E3AE78B8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C8F-4DF5-44C7-A444-8D7D2D9B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C6B-77EC-4B7A-90FE-AADADECD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9CB-46C6-4358-98B4-1D3CC059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DBDF-8ABC-49F0-A143-05B72726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D565-EE93-4670-95BD-A5C5635D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C94C-C80E-4A9F-9F7B-136B2E52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CCC1-59FF-47D6-9A52-D246FB4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9E47-0E35-4F9C-A9F0-C0C99147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D025-2BA3-4806-99EF-ECBCEB0C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9924-296C-4661-AA20-49036B0C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F0A-537B-4D52-96F2-41FE68D7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D373-D680-4CC8-9C37-F109B7BA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F2D6-E639-42E4-9036-1864427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D812-B003-49C5-AFDF-1E5107DB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A57-D541-434E-8D2B-A5C000C8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8EF5-7009-4351-8C8C-D5F3D1D1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7A4-1F3C-4BBD-8888-813FC932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034-959D-4B0B-B393-D24795F4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48B-AE6C-46D7-BB3A-8AC8698E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51E-A3B6-4F4D-9EA5-5499073E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2BC-A0E6-47F4-BC95-8AE55AF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A14-2C5B-4218-91A6-6F588FC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6BB-9BCF-43B5-8BF2-7E57128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Sermon_Powerpoint_26_by_jedskie"/>
          <p:cNvPicPr/>
          <p:nvPr/>
        </p:nvPicPr>
        <p:blipFill>
          <a:blip r:embed="rId2"/>
          <a:srcRect l="0" t="49740" r="0" b="0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128-3DAA-4FB7-8482-0552BAEC6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Sermon_Powerpoint_26_by_jedskie"/>
          <p:cNvPicPr/>
          <p:nvPr/>
        </p:nvPicPr>
        <p:blipFill>
          <a:blip r:embed="rId2"/>
          <a:srcRect l="0" t="0" r="0" b="49824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1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E1EB-9A63-47A6-B3B0-FB4B769C5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1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440" y="5950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2850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7:14:14Z</dcterms:created>
  <dc:creator/>
  <dc:description/>
  <dc:language>en-US</dc:language>
  <cp:lastModifiedBy/>
  <cp:lastPrinted>1899-12-30T00:00:00Z</cp:lastPrinted>
  <dcterms:modified xsi:type="dcterms:W3CDTF">2014-05-18T10:15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