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FC7C-8081-4521-86CF-224B22BF0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B79B-BB52-4AE5-9772-5D5777864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028F-449A-4964-B5C1-16C7A027D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94C4-D4AA-4047-8F78-E5F37E7A3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7E07-A95F-4423-9475-451842DA4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A5F7-BFB8-4A58-8EFF-0FA8DC319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8258-E096-4B53-B3EB-1FE90E7BE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1DF5-884E-4A15-BAB3-57E8A5A9F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C609-0C7F-40A7-B1CB-C5FBCD291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2CA8-110C-46E7-BC54-67CA29FB1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0FA4-A8CF-41D6-ACD4-3FE89E7AA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26F99-ABF7-4054-9A7D-4E88B42A3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D2D81DD-C74A-4BB8-9DA1-AA2B0F794659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1081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107800"/>
            <a:ext cx="820728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00"/>
                </a:solidFill>
                <a:latin typeface="Arial"/>
              </a:rPr>
              <a:t>职业生涯规划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50160" y="62373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476280"/>
            <a:ext cx="4174920" cy="936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五部分 计划实施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700280"/>
          <a:ext cx="8207280" cy="509256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26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大学期间总体目标计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、扎实学好本专业知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、阅读各方面有益的书籍，扩充知识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、参加各类有益活动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、利用各种机会到社会中去实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、生活有规律 ，“好的身体素质是革命的本钱” 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毕业后十年内计划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、 近期职业目标（毕业两年）进入公司当普通员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、中期职业目标（毕业五年）设计师助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、长期职业目标（毕业十年）室内设计师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六部分  评估调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社会不断发展，很多因素都不可预测，所以我对自己的职业规划做一定的风险预测，如果我不能按以上计划发展，我会有以下路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3357720"/>
            <a:ext cx="2808000" cy="2519280"/>
          </a:xfrm>
          <a:prstGeom prst="downArrowCallout">
            <a:avLst>
              <a:gd name="adj1" fmla="val 27868"/>
              <a:gd name="adj2" fmla="val 27865"/>
              <a:gd name="adj3" fmla="val 16667"/>
              <a:gd name="adj4" fmla="val 6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3789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室内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19280" y="515772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工作学习，积累资金，自主创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52783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从另一个兴趣出发，学做糕点，当名糕点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50160" y="62373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050920" y="620640"/>
            <a:ext cx="5185080" cy="3095640"/>
          </a:xfrm>
          <a:custGeom>
            <a:avLst/>
            <a:gdLst>
              <a:gd name="textAreaLeft" fmla="*/ 0 w 5185080"/>
              <a:gd name="textAreaRight" fmla="*/ 5185080 w 5185080"/>
              <a:gd name="textAreaTop" fmla="*/ 804960 h 3095640"/>
              <a:gd name="textAreaBottom" fmla="*/ 229068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ndalus"/>
                <a:ea typeface="黑体"/>
              </a:rPr>
              <a:t>结束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371628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都不会一成不变，我会对自己的规划进行适时的调整，每半年做一次自我评估，按照实际情况做出更好的调整，以适应社会的变化发展。“天生我材必有用”，我将继续努力，走出更好的发展道路！加油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66240" y="63673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463900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3" name="矩形 4"/>
            <p:cNvSpPr/>
            <p:nvPr/>
          </p:nvSpPr>
          <p:spPr>
            <a:xfrm>
              <a:off x="743760" y="0"/>
              <a:ext cx="6411600" cy="505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下载网站</a:t>
              </a:r>
              <a:r>
                <a:rPr b="1" lang="zh-CN" sz="2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www.eeppt.com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4639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4639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4639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260280"/>
            <a:ext cx="7777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89480" y="370440"/>
            <a:ext cx="5508360" cy="66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63900"/>
                </a:solidFill>
                <a:latin typeface="Arial"/>
              </a:rPr>
              <a:t>第一部分   自我评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63900"/>
                </a:solidFill>
                <a:latin typeface="Arial"/>
              </a:rPr>
              <a:t>认识自我</a:t>
            </a:r>
            <a:r>
              <a:rPr b="1" lang="en-US" sz="1600" spc="-1" strike="noStrike">
                <a:solidFill>
                  <a:srgbClr val="463900"/>
                </a:solidFill>
                <a:latin typeface="Arial"/>
              </a:rPr>
              <a:t>——</a:t>
            </a:r>
            <a:r>
              <a:rPr b="1" lang="zh-CN" sz="1600" spc="-1" strike="noStrike">
                <a:solidFill>
                  <a:srgbClr val="463900"/>
                </a:solidFill>
                <a:latin typeface="Arial"/>
              </a:rPr>
              <a:t>气质类型自我评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63900"/>
                </a:solidFill>
                <a:latin typeface="Arial"/>
              </a:rPr>
              <a:t>性格类型和适合职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63900"/>
                </a:solidFill>
                <a:latin typeface="Arial"/>
              </a:rPr>
              <a:t>自我、社会的评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63900"/>
                </a:solidFill>
                <a:latin typeface="Arial"/>
              </a:rPr>
              <a:t>第二部分   职业测评及相关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3900"/>
                </a:solidFill>
                <a:latin typeface="Arial"/>
              </a:rPr>
              <a:t>1</a:t>
            </a:r>
            <a:r>
              <a:rPr b="1" lang="zh-CN" sz="1600" spc="-1" strike="noStrike">
                <a:solidFill>
                  <a:srgbClr val="463900"/>
                </a:solidFill>
                <a:latin typeface="Arial"/>
              </a:rPr>
              <a:t>、霍兰德人职匹配测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3900"/>
                </a:solidFill>
                <a:latin typeface="Arial"/>
              </a:rPr>
              <a:t>2</a:t>
            </a:r>
            <a:r>
              <a:rPr b="1" lang="zh-CN" sz="1600" spc="-1" strike="noStrike">
                <a:solidFill>
                  <a:srgbClr val="463900"/>
                </a:solidFill>
                <a:latin typeface="Arial"/>
              </a:rPr>
              <a:t>、个人职业兴趣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63900"/>
                </a:solidFill>
                <a:latin typeface="Arial"/>
              </a:rPr>
              <a:t>第三部分  环境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63900"/>
                </a:solidFill>
                <a:latin typeface="Arial"/>
              </a:rPr>
              <a:t>周边环境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63900"/>
                </a:solidFill>
                <a:latin typeface="Arial"/>
              </a:rPr>
              <a:t>学校环境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63900"/>
                </a:solidFill>
                <a:latin typeface="Arial"/>
              </a:rPr>
              <a:t>家庭环境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63900"/>
                </a:solidFill>
                <a:latin typeface="Arial"/>
              </a:rPr>
              <a:t>第四部分  专业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63900"/>
                </a:solidFill>
                <a:latin typeface="Arial"/>
              </a:rPr>
              <a:t>室内设计专业人才供应现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63900"/>
                </a:solidFill>
                <a:latin typeface="Arial"/>
              </a:rPr>
              <a:t>室内设计专业就业前景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63900"/>
                </a:solidFill>
                <a:latin typeface="Arial"/>
              </a:rPr>
              <a:t>第五部分  计划实施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3900"/>
                </a:solidFill>
                <a:latin typeface="Arial"/>
              </a:rPr>
              <a:t>1</a:t>
            </a:r>
            <a:r>
              <a:rPr b="1" lang="zh-CN" sz="1600" spc="-1" strike="noStrike">
                <a:solidFill>
                  <a:srgbClr val="463900"/>
                </a:solidFill>
                <a:latin typeface="Arial"/>
              </a:rPr>
              <a:t>、大学期间总体目标计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3900"/>
                </a:solidFill>
                <a:latin typeface="Arial"/>
              </a:rPr>
              <a:t>2</a:t>
            </a:r>
            <a:r>
              <a:rPr b="1" lang="zh-CN" sz="1600" spc="-1" strike="noStrike">
                <a:solidFill>
                  <a:srgbClr val="463900"/>
                </a:solidFill>
                <a:latin typeface="Arial"/>
              </a:rPr>
              <a:t>、毕业后十年内的规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63900"/>
                </a:solidFill>
                <a:latin typeface="Arial"/>
              </a:rPr>
              <a:t>第六部分  评估调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63900"/>
                </a:solidFill>
                <a:latin typeface="Arial"/>
              </a:rPr>
              <a:t>第七部分  结束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26160" y="190080"/>
            <a:ext cx="2051280" cy="61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20320" y="1449360"/>
            <a:ext cx="1643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63900"/>
                </a:solidFill>
                <a:latin typeface="Arial"/>
                <a:ea typeface="微软雅黑"/>
              </a:rPr>
              <a:t>目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引言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没有目标的生活，是无动力的，因为都没有了努力的方向。步入大学，我们的生活空间大了，了解的事情也多了，但很可能也会因没有目标或者目标迷茫，而失去的方向。给自己一个目标，制定一个规划，就好比迷雾中的帆船，找到了前进的方向！如果说职业是一种无法逃避的选择，那么职业规划就是我们最前提最基本的准备，是个基脚，只有把这个基脚打好，固定好，才能继续的前进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继续的向上延伸！正确的职业生涯规划，有助于我们合理的规划自己的未来，让我们在漫漫人生途中少走弯 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366084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认识自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气质类型自我评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每个人的气质都不一样，都是独一无二的。经过气质类型自我评定表测出来的结果，我属于胆汁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胆汁质解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胆汁质的人反应速度快，具有较高的反应性与主动性。这类人情感和行为动作产生得迅速而且强烈，有极明显的外部表现；性情开朗、热情，坦率；情感易于冲动但不持久；精力旺盛，经常以极大的热情从事工作；思维具有一定的灵活性，但对问题的理解具有粗枝大叶、不求甚解的倾向；意志坚强、果断勇敢，注意稳定而集中但难于转移；行动利落而又敏捷，说话速度快且声音洪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836640"/>
            <a:ext cx="3691080" cy="1079640"/>
          </a:xfrm>
          <a:prstGeom prst="wedgeRectCallout">
            <a:avLst>
              <a:gd name="adj1" fmla="val -59893"/>
              <a:gd name="adj2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部分  自我评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50160" y="62373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2636640"/>
            <a:ext cx="82072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900"/>
                </a:solidFill>
                <a:latin typeface="Arial"/>
              </a:rPr>
              <a:t>办公室行政或管理人员、秘书、总经理助理、项目经历、客户服务部人员、采购和物流管理人员、内科医生及其他各类医生、牙科医生、护士、健康护理指导师 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32000" y="476280"/>
            <a:ext cx="3456000" cy="136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性格类型和适合职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6920" y="190440"/>
            <a:ext cx="698508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自我、社会评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4720" y="1916280"/>
            <a:ext cx="4863960" cy="4105080"/>
          </a:xfrm>
          <a:prstGeom prst="plus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4000" y="227664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00760" y="3357720"/>
            <a:ext cx="11552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父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61480" y="3141720"/>
            <a:ext cx="1155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亲戚朋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445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490680" y="2917800"/>
            <a:ext cx="237492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独立，责任心强，但固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126828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开朗，易冲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203160" y="2917800"/>
            <a:ext cx="261828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善良乐观，但易浮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602460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开朗，但缺乏耐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霍兰德人职匹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2205000"/>
            <a:ext cx="5329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未知"/>
          <p:cNvSpPr/>
          <p:nvPr/>
        </p:nvSpPr>
        <p:spPr>
          <a:xfrm>
            <a:off x="3654360" y="3322800"/>
            <a:ext cx="2390760" cy="189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6" y="19537"/>
                </a:moveTo>
                <a:lnTo>
                  <a:pt x="15059" y="21600"/>
                </a:lnTo>
                <a:lnTo>
                  <a:pt x="21600" y="9117"/>
                </a:lnTo>
                <a:lnTo>
                  <a:pt x="12908" y="1519"/>
                </a:lnTo>
                <a:lnTo>
                  <a:pt x="4302" y="0"/>
                </a:lnTo>
                <a:lnTo>
                  <a:pt x="0" y="8900"/>
                </a:lnTo>
                <a:lnTo>
                  <a:pt x="4216" y="19537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5080" y="2921040"/>
            <a:ext cx="3022560" cy="2449440"/>
          </a:xfrm>
          <a:prstGeom prst="hexagon">
            <a:avLst>
              <a:gd name="adj" fmla="val 3085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5600" y="3068640"/>
            <a:ext cx="2300400" cy="2016000"/>
          </a:xfrm>
          <a:prstGeom prst="hexagon">
            <a:avLst>
              <a:gd name="adj" fmla="val 2852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80000" y="3357720"/>
            <a:ext cx="1728720" cy="1392120"/>
          </a:xfrm>
          <a:prstGeom prst="hexagon">
            <a:avLst>
              <a:gd name="adj" fmla="val 3104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3619440"/>
            <a:ext cx="1056960" cy="914400"/>
          </a:xfrm>
          <a:prstGeom prst="hexagon">
            <a:avLst>
              <a:gd name="adj" fmla="val 2889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56000" y="3790800"/>
            <a:ext cx="574920" cy="479520"/>
          </a:xfrm>
          <a:prstGeom prst="hexagon">
            <a:avLst>
              <a:gd name="adj" fmla="val 29974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5600" y="2421000"/>
            <a:ext cx="122076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45080" y="2739960"/>
            <a:ext cx="79056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716360" y="4078440"/>
            <a:ext cx="165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716000" y="4078080"/>
            <a:ext cx="79236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780000" y="4076640"/>
            <a:ext cx="93636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797200" y="4076280"/>
            <a:ext cx="19191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97200" y="551808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现实型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03320" y="2281320"/>
            <a:ext cx="6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研究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91280" y="55180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社会型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1880" y="394956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企业型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7600" y="21002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传统型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88000" y="3949560"/>
            <a:ext cx="136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艺术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0"/>
            <a:ext cx="3456000" cy="2087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三部分  环境分析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2087640"/>
          <a:ext cx="8642160" cy="4437000"/>
        </p:xfrm>
        <a:graphic>
          <a:graphicData uri="http://schemas.openxmlformats.org/drawingml/2006/table">
            <a:tbl>
              <a:tblPr/>
              <a:tblGrid>
                <a:gridCol w="2142720"/>
                <a:gridCol w="6499440"/>
              </a:tblGrid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周边环境分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家乡那边发展日益好起来，建房买房的人多了，装修的人也自然多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学校环境分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教师教学经验丰富，专业技能高超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家庭环境分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父母支持我自己的理想，让我从事自己喜欢的行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6950160" y="62373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292720" y="333360"/>
            <a:ext cx="3490920" cy="792000"/>
          </a:xfrm>
          <a:prstGeom prst="wedgeEllipseCallout">
            <a:avLst>
              <a:gd name="adj1" fmla="val -41907"/>
              <a:gd name="adj2" fmla="val 7004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专业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79640" y="2421000"/>
            <a:ext cx="5256360" cy="4174920"/>
          </a:xfrm>
          <a:custGeom>
            <a:avLst/>
            <a:gdLst>
              <a:gd name="textAreaLeft" fmla="*/ 1501560 w 5256360"/>
              <a:gd name="textAreaRight" fmla="*/ 4505400 w 5256360"/>
              <a:gd name="textAreaTop" fmla="*/ 2385720 h 4174920"/>
              <a:gd name="textAreaBottom" fmla="*/ 3578400 h 4174920"/>
            </a:gdLst>
            <a:ahLst/>
            <a:rect l="textAreaLeft" t="textAreaTop" r="textAreaRight" b="textAreaBottom"/>
            <a:pathLst>
              <a:path w="21600" h="21600">
                <a:moveTo>
                  <a:pt x="0" y="15429"/>
                </a:moveTo>
                <a:lnTo>
                  <a:pt x="6171" y="9257"/>
                </a:lnTo>
                <a:lnTo>
                  <a:pt x="6171" y="12343"/>
                </a:lnTo>
                <a:lnTo>
                  <a:pt x="12343" y="12343"/>
                </a:lnTo>
                <a:lnTo>
                  <a:pt x="12343" y="6171"/>
                </a:lnTo>
                <a:lnTo>
                  <a:pt x="9257" y="6171"/>
                </a:lnTo>
                <a:lnTo>
                  <a:pt x="15429" y="0"/>
                </a:lnTo>
                <a:lnTo>
                  <a:pt x="21600" y="6171"/>
                </a:lnTo>
                <a:lnTo>
                  <a:pt x="18514" y="6171"/>
                </a:lnTo>
                <a:lnTo>
                  <a:pt x="18514" y="18514"/>
                </a:lnTo>
                <a:lnTo>
                  <a:pt x="6171" y="18514"/>
                </a:lnTo>
                <a:lnTo>
                  <a:pt x="6171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52293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供应现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50160" y="3716280"/>
            <a:ext cx="7902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发展前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7640" y="16286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室内设计师被媒体称为“金色职业”之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4520" y="4149720"/>
            <a:ext cx="10951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全国室内设计师人才缺口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23:21:03Z</dcterms:created>
  <dc:creator>DELL</dc:creator>
  <dc:description/>
  <dc:language>en-US</dc:language>
  <cp:lastModifiedBy>微软用户</cp:lastModifiedBy>
  <dcterms:modified xsi:type="dcterms:W3CDTF">2015-01-11T15:17:25Z</dcterms:modified>
  <cp:revision>3</cp:revision>
  <dc:subject/>
  <dc:title>职业生涯规划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