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E00-8E7C-407A-A155-B0B78D73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E72-A1AF-484B-B36D-67CC2D3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9D8-4E5E-469C-AFDB-8A053F12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973-AB9B-4767-AFC7-F59A1130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45E-BDFE-442B-A3A3-C22D93DD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C78-661C-4370-B9AF-D1BED8B1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CF2-DAF0-4254-9F36-A02DFAC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758-4074-4E24-8252-C71BBE05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82A-6D1B-41D8-AA12-6C2BE743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FC28-713F-469C-9D32-240F133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6934-1B97-4653-8571-7BCA991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3EA-8E8E-4E53-A0AD-C478F93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6FC0-57A0-46FF-BC90-74C1515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F066-BFE1-446F-9E61-FC7D6A1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CFE-1951-4675-BC50-A54F072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0AF-EFC0-4162-9923-F0065EFF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556E-C3E2-47C9-9E29-EB840C06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F6F-821F-476E-942B-FDCEA561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698-9711-44D9-A603-C1FDB8EE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79D-2DB9-4BC3-B7B3-4FF9DBEE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59A-D0BA-4DBF-AE73-D49BB33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C4B-5AEB-40DE-A42B-371AD03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1B9-A092-4DC4-8D89-618C7FB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0E7-58A8-44BB-BA66-3C7B443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CG\1273629436653.jpg"/>
          <p:cNvPicPr/>
          <p:nvPr/>
        </p:nvPicPr>
        <p:blipFill>
          <a:blip r:embed="rId2"/>
          <a:srcRect l="10393" t="91462" r="10393" b="0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E:\设计素材\图片\CG\1273629436653.jpg"/>
          <p:cNvPicPr/>
          <p:nvPr/>
        </p:nvPicPr>
        <p:blipFill>
          <a:blip r:embed="rId3"/>
          <a:srcRect l="10393" t="0" r="10393" b="98905"/>
          <a:stretch/>
        </p:blipFill>
        <p:spPr>
          <a:xfrm>
            <a:off x="0" y="6195960"/>
            <a:ext cx="914400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B18A-AF92-4F1E-B54C-E472F4492CAB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7A70-8086-42C9-B4E0-F35075E960E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设计素材\图片\CG\1273629436653.jpg"/>
          <p:cNvPicPr/>
          <p:nvPr/>
        </p:nvPicPr>
        <p:blipFill>
          <a:blip r:embed="rId2"/>
          <a:srcRect l="10393" t="91462" r="10393" b="0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设计素材\图片\CG\1273629436653.jpg"/>
          <p:cNvPicPr/>
          <p:nvPr/>
        </p:nvPicPr>
        <p:blipFill>
          <a:blip r:embed="rId3"/>
          <a:srcRect l="10393" t="0" r="10393" b="98905"/>
          <a:stretch/>
        </p:blipFill>
        <p:spPr>
          <a:xfrm>
            <a:off x="0" y="619596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设计素材\图片\CG\1273629436653.jpg"/>
          <p:cNvPicPr/>
          <p:nvPr/>
        </p:nvPicPr>
        <p:blipFill>
          <a:blip r:embed="rId4"/>
          <a:srcRect l="10393" t="0" r="103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7E5-563E-4CCE-ABD3-ED92A43226E7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746-EC57-4780-AEB1-A42E3ED95CE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3840" y="2707920"/>
            <a:ext cx="83563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935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D7B4-7FD2-4178-87F9-6313D7A54907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F03D-2489-4E52-A271-DCB0FCA719DA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dcterms:modified xsi:type="dcterms:W3CDTF">2015-01-11T07:21:45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