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97C-8113-4321-A2A8-3540D8FD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AF6-9F29-4DFC-A618-2F46D78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1B1-40F8-4DB5-AC99-0E7E88B0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CD53-C88E-4FAA-8EC3-0B228780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C18A-2D64-4BDD-9FB1-28BE8438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6FDC-A509-44CD-8B92-DA6A1580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8A42-3E19-4E23-8FC8-CF720F4B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07ED-F137-47C4-9F59-F4B3A56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9DDA-DAD8-42C2-B9B7-11480DFF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89CF-9C64-4B93-ADC0-7B89053B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A51E-9FDB-4D06-90DD-5C3163E2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E5B-3BCF-4282-8043-FDB67075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917C-DAC3-4707-8288-BB744D55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77EC-5680-47BA-BDFB-1376D3A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BA4-08A4-4EDB-B657-829BE1B6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1079-1A4B-457D-8CC8-5BA174C9B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0647-0F10-4B3F-A0C6-C34E20DC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B3F-9208-45A1-91B3-1BA91C2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66C-E0B4-4448-957B-AEFAD02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9E4-9DDF-48E3-9431-1DE2FFF8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DBC-F626-4C8D-B2A3-0B3A3DFD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C65-8653-4C9B-AF48-B6238DC8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E53B-F893-4EB4-8123-5DCB62A1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60D-07E2-44D9-90D5-AB6B389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E8DF-CE5A-4586-8BB7-4C187FC760E4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710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247F-F639-449F-AA41-8D2A92593C0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0c0c0c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459400" y="5110200"/>
            <a:ext cx="3156120" cy="26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双击添加署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公司名</a:t>
            </a: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/</a:t>
            </a: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日期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3" name=""/>
          <p:cNvSpPr/>
          <p:nvPr/>
        </p:nvSpPr>
        <p:spPr>
          <a:xfrm>
            <a:off x="6189840" y="443700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7102"/>
                </a:solidFill>
                <a:latin typeface="黑体"/>
              </a:rPr>
              <a:t>模板的使用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7859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配色方案修改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格式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设计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编辑配色方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的添加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添加修改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直接选择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logo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图片删除或修改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c0c0c"/>
                </a:solidFill>
                <a:latin typeface="黑体"/>
              </a:rPr>
              <a:t>字体格式的设置：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51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括标题和文本格式的设置在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视图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--&gt;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【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幻灯片母版</a:t>
            </a:r>
            <a:r>
              <a:rPr b="0" lang="en-US" sz="1800" spc="-1" strike="noStrike">
                <a:solidFill>
                  <a:srgbClr val="0c0c0c"/>
                </a:solidFill>
                <a:latin typeface="黑体"/>
              </a:rPr>
              <a:t>】</a:t>
            </a:r>
            <a:r>
              <a:rPr b="0" lang="zh-CN" sz="1800" spc="-1" strike="noStrike">
                <a:solidFill>
                  <a:srgbClr val="0c0c0c"/>
                </a:solidFill>
                <a:latin typeface="黑体"/>
              </a:rPr>
              <a:t>下调整。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5456160" y="491328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5934240" y="5627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999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c0c0c">
                      <a:alpha val="77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99999"/>
                  </a:gs>
                </a:gsLst>
                <a:lin ang="5400000"/>
              </a:gradFill>
              <a:effectLst>
                <a:outerShdw dist="17819" dir="2700000" blurRad="0" rotWithShape="0">
                  <a:srgbClr val="0c0c0c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07102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e07102"/>
              </a:solidFill>
              <a:latin typeface="黑体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黑体"/>
              </a:rPr>
              <a:t>模板！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8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777777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/>
  <dc:description/>
  <dc:language>en-US</dc:language>
  <cp:lastModifiedBy>雨林木风</cp:lastModifiedBy>
  <dcterms:modified xsi:type="dcterms:W3CDTF">2015-01-11T14:06:01Z</dcterms:modified>
  <cp:revision>1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