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3A8-4223-4862-9AA0-C0365F79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788-60A9-42FE-80FD-A1DD1C90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63D0-7B27-4E07-A87F-57817ED3D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DA7-30D9-409F-89FE-D47F778E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1223-ADA6-471D-B490-A2A1DEC9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61A4-8BF2-42AC-BE87-C1C46F82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946C-75FB-4AB4-8379-32F5BB5D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87E3-1467-42AB-A5C5-923FEAD7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31F4-A156-4102-B792-0C55FA09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B9B7-9D19-4E06-9C7A-B8660C79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A537-E6D9-4C3B-8401-51B63AEC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917E-7F8C-4A10-BE40-F1BAAD1C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FE22-6903-4FAE-8B45-59B70842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B7FA-9EB9-44CC-B8EA-AB39A366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4BC2-06F8-4ADB-BE6A-90A6C063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663C-25CD-48C7-BC22-77D0B012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FA6E-7876-4772-A339-43A39448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29A4-9967-4B45-92A7-C8DA086F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40DC-E1B7-4D6C-B90E-A07F5C67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E9C-683B-4A34-9A9E-AEF3A5BB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82B-2819-4254-A1B3-C6B57B9E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9F9-D2F5-4405-9C18-8D451289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0CB-8E78-426C-B614-E2FFA96D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7EA9-8A9B-4540-9D15-5BF5E841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Valentine-wallpapers-3"/>
          <p:cNvPicPr/>
          <p:nvPr/>
        </p:nvPicPr>
        <p:blipFill>
          <a:blip r:embed="rId2"/>
          <a:srcRect l="0" t="75954" r="0" b="0"/>
          <a:stretch/>
        </p:blipFill>
        <p:spPr>
          <a:xfrm>
            <a:off x="0" y="0"/>
            <a:ext cx="9144000" cy="1374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F9AA-6D52-4DBA-B801-DEA0AF839B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4CE3-9C32-4ED0-AB93-F610BF95A91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E9E3-2CB4-449B-B8D8-B9A8D0982F1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31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5613480"/>
            <a:ext cx="640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9T07:38:18Z</dcterms:created>
  <dc:creator>Administrator</dc:creator>
  <dc:description/>
  <cp:keywords/>
  <dc:language>en-US</dc:language>
  <cp:lastModifiedBy>a</cp:lastModifiedBy>
  <dcterms:modified xsi:type="dcterms:W3CDTF">2014-07-15T02:13:09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