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9.png" ContentType="image/png"/>
  <Override PartName="/ppt/media/image22.jpeg" ContentType="image/jpeg"/>
  <Override PartName="/ppt/media/image29.png" ContentType="image/png"/>
  <Override PartName="/ppt/media/image2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684053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A143F-2170-473C-BFA0-8C2DCA1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C95F-8D83-41FB-9B1F-CB845A2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6F38-703B-4DFA-B30A-E2CB08B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AABF-DCD9-4E8A-8B11-40D2A1A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C314-086A-4243-B8C5-4DF791A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A5DE5-23AF-4594-B22A-35BEBA3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5E3C-6C5D-4C06-BB02-4D11764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D57F-37DD-4053-993B-E049A32A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50AC-0883-46F6-B52A-6D25D28E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A770D-A9B9-4671-8D24-2B7D4631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2E04-7B27-45A1-AA68-0EB2361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CD798-9B7D-4EC2-A557-786DA4FD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3D38-98CA-49BE-8063-A4A4112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CE4F0-10F3-4752-AFC4-4B468A5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CDFBD-9CAA-458E-83C9-CEB6827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3388D-F8AD-4EDB-90A3-3DE944A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EB289-D097-42E7-8EE4-B3903A2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F4A40-44F8-411C-869A-5200CCF9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8B8B-2832-42AE-A262-AA4724F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64496-2647-4AE7-8FDB-4CAE6846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A6FE0-2B22-4D0A-9D56-087E428C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C681-12AB-478B-B695-98545403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0ABD5-77EC-428D-8228-21F792B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A0C9F-1DAE-429B-838C-5D251848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B72E5-38E3-4550-95B5-1254009E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9EBD1-100C-4E33-9A99-882B602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AF41A-529D-4C40-88BE-4F2DE87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F4A0D-FEBB-4A0D-9652-C56BEFA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D21E-F064-4D6A-914F-8198E29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0619-643A-4FE7-ADA3-B083AA3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A05-ACC2-470C-A4E0-C21206F8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62263-9F3A-4ECF-9199-A760909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DC0D5-8E5F-4D56-B016-5FA27B6E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38CC4-FF69-465B-B779-EBEDEAE5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65952-6727-44DE-9A6C-5E785121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BBA70-F0C9-4D07-A3E3-8D87F1A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D9745-DA5F-46CB-89B4-4693F3A1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66296-36EE-40E7-AF40-313E7C9E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3073F-DF8C-4925-9A1A-8F14C5AD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ACBA9-E895-41FA-8079-3D3B2E98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CE02-B09F-45AF-8E5E-6944A91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772-F531-4643-A7E7-AA07BC46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36397-BE24-4104-8798-0B36EEF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835AC-F914-4DD1-8130-25F2CBB9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DB8CD-7572-411C-8594-AB03B55D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553EE-A218-4AC2-AD81-325F8C3F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8BE6D-E11F-4016-895E-1DBD49E8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A316-80A7-4FDD-970B-9F1E9670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B6AFE-60D0-4C17-A0A8-9AF709E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D3888-1E9C-48D5-874D-399DC071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03A2-3CA5-4682-8CF9-F6B1A53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25BC7-1CC0-4397-88C5-BF63CFD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BC8-8E9F-417D-B294-8691D10B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864AB-A239-49FF-98CC-E0793D7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FD236-A36B-45B9-A29D-47A8C1C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E4925-445B-4A33-B6C0-8EA3575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28352-C749-4C52-87E7-C3A93CA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D724D-C61D-44D9-8FB7-ECAACD7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AD78C-C8E6-43E0-97FB-2A6B50AB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7CB47-FE86-4620-9A35-126C5086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9FF1A-BEF7-401D-AAB1-F8A8A7D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20552-44F5-4B65-B473-9AF0F1DB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7A05A-2576-40BC-971C-E6FCF658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AC4-54D6-4E9E-A48F-9060CBCE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39A6A-253E-4EF4-B7E4-4D94E66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144FA-C477-40EE-9E06-5036A86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69D17-6C8F-40C9-8079-BAEC6FA4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12BCE-52CC-4F94-83CE-054AD23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6698-69F3-4B62-9F53-1786071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91F91-4CE4-496A-83DA-28E6F04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5C545-21C1-4C37-A78B-5362DE3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68DBA-B450-4035-AD91-EF9C582C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54BDA-5EA0-49BF-9F10-A67A06C8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9BB-A121-4B5B-BEAE-6E15D3B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15D-E16A-4017-8A73-762A0FD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C45-50B8-4850-AFBA-4BE5998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3CB-6027-477C-8F4B-F13B950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E9B-6C0E-457B-9594-D676181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EC4-B128-4401-8DA9-22E2062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0FA-DDAB-4204-8602-5661A303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1D2-D4E7-4420-B1B7-679C074E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D93-C872-4D28-9A47-D7BFF72C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D40E-019D-4FC5-9043-944224F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3F1-191F-494D-AA00-9C5AA8A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F12-7244-49C5-BED1-11D6CC7A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D0D-8A0E-4423-81A3-C9B671F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DCB6-3FEA-4F69-94E7-614CCD37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8040-1A40-411D-BBCF-E1FBD83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66D-8342-4560-BED6-5F5FDC7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2F4E-EA10-43EE-AE22-7B04C47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FC9-5268-48AC-B7A2-4363840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3700-7B43-4F4D-94AC-8789A06F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AE6B-D6B1-40C0-A7BF-3ABA34E0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CEFA-1C6D-42B8-BDEA-CD1F575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C16D-386D-4289-B08C-A37E439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BACC-4762-4623-A406-76320BAD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6CE4-E72D-4819-A31B-292EAAA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FA58-DBB3-480C-8B5B-D3AC415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AF046-2429-48B7-9317-D08176B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F950-F66B-4FC3-8872-6F2B4E15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6589-BBA9-42B8-8DB2-453C122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B61A-6391-493D-AC1C-0461621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23E0-B3BD-4615-A04D-E6BD77F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FC95-A680-4C9F-9FD6-8034E772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6F04-5245-4D46-9AA9-D2A3B09B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14F5-BBF1-4E0F-83CD-C55DCF14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0D45-A595-4F83-88C8-B0CAB483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DB9A-4E04-4B19-8C73-52BB994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D6FC-8AF6-488A-987E-81A0224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9CAE-8D68-49D1-AF2B-7931766C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0885-FB5D-4DB1-AB8F-9E5BFCE5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D708-0012-4191-AAAB-4270CE4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4068-B9C7-46C6-9533-1B50E22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20BF-FE75-4C4A-96C3-9571717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6651-A2BF-4D71-9626-37160650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5956-BED1-4A93-83BE-CADD2818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F3E0-938F-4B3D-98D1-9C10DC26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7E4A-3A34-4E07-87DA-B8994126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781A-4523-4428-8E3E-6BCC27CF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0980-0598-418A-9C6B-7948358D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6C62-5338-4B5E-8757-F6D8FFA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C662-5770-4672-84CF-9F9CD3D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A57D3-8FDC-4355-8418-8D12662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0243-0949-46B0-8F93-0915E416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BC53-D355-428E-81AD-93051DE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607C-D208-4383-B786-5942916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8077-24E7-4E1F-AC72-C32C5FF4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6696-FCE9-4669-A568-158D1B69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2654-926E-4FD6-9D18-D3F42A03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17BF-4357-4DFB-A210-9C61175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CBB1-8CAB-411E-B690-98913215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E337-3F10-49C3-9BE6-E273176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A1F3-D328-42B2-93AA-78CA3B5F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56E2-B3F2-4FFC-94FF-1250AA2C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B660-E09E-4D96-9DB1-F0AD4AA1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2180-9499-48CD-BD96-8AD8560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98D6-62DA-489E-8E1C-6F516CA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DA73-29D1-4E62-BF52-DF7BBF9E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7D060-9BD4-4495-8C1A-9113871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33028-285F-4DEC-9051-48D86083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9119-83A2-4896-BC49-34843F2C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BB1EA-5037-4EFF-A671-A706ED27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1DB8D-D845-487B-8F6A-DED0383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4625-588B-4931-AA65-DC77669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2853-E8E6-467B-B5A9-3B0FF7B5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98CA-B6EA-4715-B2DA-18AB6A3B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40920" y="187200"/>
            <a:ext cx="61578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7BF4-2693-4C83-B53D-5D1C9A9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8164-7002-4343-803D-13D8B23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DB474-3655-434E-BD22-3D30524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8A538-F525-47C9-8DB6-9034A2C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40920" y="2705040"/>
            <a:ext cx="6157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C16C-29AB-4FBD-96B5-EEC556F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96320" y="109188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409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496320" y="2705040"/>
            <a:ext cx="30049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8667-3071-49BD-B51D-1F2DC6BD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42280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05040" y="109188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4092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42280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505040" y="2705040"/>
            <a:ext cx="1982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3A40E-464C-4193-9896-95F7480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B13CF-A85D-4011-AB3E-A8DA4D9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5843D-D98E-45A7-8F77-091A370D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AEDB-7CE4-4E7B-AAF8-A609E46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65160" y="4108320"/>
            <a:ext cx="1482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Dec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2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938E-FF3B-407C-A01F-37289B5EB8ED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E1B-091B-4ECE-81EE-B68B6F12EE4A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69D-D03E-4E9D-B91B-237A274A594D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4001-CADC-4920-9560-943FCBA1B701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7659-D968-495D-A028-6FA22F07F0C1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1FA-33E9-491B-ADC8-1614161951CD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E3E8-CBC4-4104-A042-5A2B09123CEA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206-3BF8-40C3-809D-5FEF0940E89B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01BE-C0AB-4BE0-ADAF-6E34751BB630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C3FE-2481-4342-A919-DB7F64BB41C4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87200"/>
            <a:ext cx="615456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3080" y="1091880"/>
            <a:ext cx="615456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4262400"/>
            <a:ext cx="159516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36400" y="4262400"/>
            <a:ext cx="216684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02120" y="4262400"/>
            <a:ext cx="1595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6ACFEB60-28EB-4A9C-8241-86D8254B7AD6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684036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BDD2-6F4F-4EE6-9A8A-09D226D3794B}" type="datetime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8B3A-5B4B-4C36-A9D5-C1D65D5FF4C0}" type="slidenum"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D61-2A7D-471B-B2D2-7236EA126ECF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85B-D952-4FB8-BCAE-169C80D975AF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5B1-49A0-4036-8669-19E58E05CF98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6DF-6F7E-47A3-B10C-9E1D5EEE02AA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8006-4529-4315-8257-292259B18567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2F7-2EC2-442F-8182-170D51008E60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C9F-35E0-4ACA-B558-6AFCBFBE9CFB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CDE-FC78-4521-9FC0-4E31596BBB4B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062-B8B2-455D-BE5D-87D2ADA51A38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2C7-9F67-4CD4-8259-92671417FF4B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40920" y="187200"/>
            <a:ext cx="6157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40920" y="1091880"/>
            <a:ext cx="6157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93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-155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155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403280" indent="-155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4128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1B7-6F29-4B01-8977-1428F8C27248}" type="datetime">
              <a:rPr b="0" lang="zh-CN" sz="9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336400" y="4262400"/>
            <a:ext cx="2166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4902120" y="4262400"/>
            <a:ext cx="15969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76A-72CA-41DF-B796-2631E8BE2A28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1303277390596ae1vno905d2"/>
          <p:cNvPicPr/>
          <p:nvPr/>
        </p:nvPicPr>
        <p:blipFill>
          <a:blip r:embed="rId1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1303277390596ae1vno905d1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1052640" y="303516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の 思 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1303277390596bhumydaz19副本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1303277390596bhumydaz19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4"/>
          <p:cNvSpPr/>
          <p:nvPr/>
        </p:nvSpPr>
        <p:spPr>
          <a:xfrm>
            <a:off x="1006560" y="3418920"/>
            <a:ext cx="193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爱 是 花 的 芳 香，爱 是 深 蓝 的 海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1303277390595pidxturogj副本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1303277390595pidxturogj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4"/>
          <p:cNvSpPr/>
          <p:nvPr/>
        </p:nvSpPr>
        <p:spPr>
          <a:xfrm>
            <a:off x="1955880" y="320292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花 的 芳 香 沐 浴 着 你 的 情 感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"/>
          <p:cNvSpPr/>
          <p:nvPr/>
        </p:nvSpPr>
        <p:spPr>
          <a:xfrm>
            <a:off x="3276720" y="2194920"/>
            <a:ext cx="32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深 蓝 的 海 容 不 下 你 的 心 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47163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13032773905967lkewnrojp副本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13032773905967lkewnrojp"/>
          <p:cNvPicPr/>
          <p:nvPr/>
        </p:nvPicPr>
        <p:blipFill>
          <a:blip r:embed="rId3"/>
          <a:stretch/>
        </p:blipFill>
        <p:spPr>
          <a:xfrm>
            <a:off x="0" y="0"/>
            <a:ext cx="6840360" cy="47880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1011960" y="262656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爱 情 到 底 是 虚 幻 还 是 飘 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1303277390596mqdgjsu4fv"/>
          <p:cNvPicPr/>
          <p:nvPr/>
        </p:nvPicPr>
        <p:blipFill>
          <a:blip r:embed="rId2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4034520" y="2267640"/>
            <a:ext cx="1697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爱 到 底 是 浪 漫 还 是 梦 幻！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1303277390596tmd4pb24cs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不是你的天使"/>
          <p:cNvPicPr/>
          <p:nvPr/>
        </p:nvPicPr>
        <p:blipFill>
          <a:blip r:embed="rId3"/>
          <a:stretch/>
        </p:blipFill>
        <p:spPr>
          <a:xfrm>
            <a:off x="611280" y="1547640"/>
            <a:ext cx="5670360" cy="127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7"/>
          <p:cNvSpPr/>
          <p:nvPr/>
        </p:nvSpPr>
        <p:spPr>
          <a:xfrm>
            <a:off x="324000" y="4164120"/>
            <a:ext cx="23050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微软雅黑"/>
              </a:rPr>
              <a:t>——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の思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0">
    <p:blinds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299880" y="0"/>
            <a:ext cx="5778720" cy="4680000"/>
            <a:chOff x="299880" y="0"/>
            <a:chExt cx="5778720" cy="4680000"/>
          </a:xfrm>
        </p:grpSpPr>
        <p:sp>
          <p:nvSpPr>
            <p:cNvPr id="623" name="矩形 4"/>
            <p:cNvSpPr/>
            <p:nvPr/>
          </p:nvSpPr>
          <p:spPr>
            <a:xfrm>
              <a:off x="745200" y="0"/>
              <a:ext cx="4608720" cy="505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99880" y="1170000"/>
              <a:ext cx="577872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Box 7"/>
            <p:cNvSpPr/>
            <p:nvPr/>
          </p:nvSpPr>
          <p:spPr>
            <a:xfrm rot="20926800">
              <a:off x="1607040" y="2419920"/>
              <a:ext cx="318564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13032773905964i1p17g9o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13032773905964i1p17g9oh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1153440" y="765000"/>
            <a:ext cx="13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Arial"/>
                <a:ea typeface="迷你简汉真广标"/>
              </a:rPr>
              <a:t>爱の思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，怎能够一语道破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有些时候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痛，也在快乐着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青春的容颜渐渐地消褪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成熟的情感就会变得深刻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忙碌的生活慢慢的安逸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稳重的爱恋就成了无言的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人啊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真的应该追忆一下往昔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在那漂白的岁月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谁说没有新的收获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怎说没有新的思索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1303277390596nt88uhxtb2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1303277390596nt88uhxtbq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4"/>
          <p:cNvSpPr/>
          <p:nvPr/>
        </p:nvSpPr>
        <p:spPr>
          <a:xfrm>
            <a:off x="839880" y="1774800"/>
            <a:ext cx="164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甜 美 的 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1303277390596vpnthj5a9n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4"/>
          <p:cNvSpPr/>
          <p:nvPr/>
        </p:nvSpPr>
        <p:spPr>
          <a:xfrm>
            <a:off x="3783240" y="31291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忧 伤 的 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1303277390595jta9lvi6"/>
          <p:cNvPicPr/>
          <p:nvPr/>
        </p:nvPicPr>
        <p:blipFill>
          <a:blip r:embed="rId1"/>
          <a:stretch/>
        </p:blipFill>
        <p:spPr>
          <a:xfrm>
            <a:off x="-12600" y="0"/>
            <a:ext cx="6852960" cy="4716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1303277390595jta9lvigx6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4"/>
          <p:cNvSpPr/>
          <p:nvPr/>
        </p:nvSpPr>
        <p:spPr>
          <a:xfrm>
            <a:off x="926640" y="3419640"/>
            <a:ext cx="1598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甜 美 的 梦 就 像 一 杯 牛 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13032773905965lufsu4zkc"/>
          <p:cNvPicPr/>
          <p:nvPr/>
        </p:nvPicPr>
        <p:blipFill>
          <a:blip r:embed="rId2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4"/>
          <p:cNvSpPr/>
          <p:nvPr/>
        </p:nvSpPr>
        <p:spPr>
          <a:xfrm>
            <a:off x="3995640" y="3134520"/>
            <a:ext cx="264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忧 伤 的 痛 就 如 苦 涩 的 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1303277390596kq8hy1meg3"/>
          <p:cNvPicPr/>
          <p:nvPr/>
        </p:nvPicPr>
        <p:blipFill>
          <a:blip r:embed="rId1"/>
          <a:stretch/>
        </p:blipFill>
        <p:spPr>
          <a:xfrm>
            <a:off x="-12600" y="0"/>
            <a:ext cx="6852960" cy="4716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1303277390596kq8hy1meg2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3492360" y="306000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爱 是 自 由 的 风，爱 是 寂 寞 的 泪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1303277390596lt19pop6cy副本"/>
          <p:cNvPicPr/>
          <p:nvPr/>
        </p:nvPicPr>
        <p:blipFill>
          <a:blip r:embed="rId3"/>
          <a:stretch/>
        </p:blipFill>
        <p:spPr>
          <a:xfrm>
            <a:off x="0" y="0"/>
            <a:ext cx="6877080" cy="478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1303277390596lt19pop6cy"/>
          <p:cNvPicPr/>
          <p:nvPr/>
        </p:nvPicPr>
        <p:blipFill>
          <a:blip r:embed="rId4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941760" y="2483640"/>
            <a:ext cx="202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自 由 的 风 可 以 载 你 到 天 涯 海 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1303277390596eh12j6i5g2"/>
          <p:cNvPicPr/>
          <p:nvPr/>
        </p:nvPicPr>
        <p:blipFill>
          <a:blip r:embed="rId2"/>
          <a:stretch/>
        </p:blipFill>
        <p:spPr>
          <a:xfrm>
            <a:off x="-12600" y="0"/>
            <a:ext cx="6852960" cy="4788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4"/>
          <p:cNvSpPr/>
          <p:nvPr/>
        </p:nvSpPr>
        <p:spPr>
          <a:xfrm>
            <a:off x="3132000" y="3276000"/>
            <a:ext cx="367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</a:rPr>
              <a:t>寂 寞 的 泪 可 以 把 你 淹 没 在 黑 夜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a</cp:lastModifiedBy>
  <dcterms:modified xsi:type="dcterms:W3CDTF">2014-07-19T10:04:46Z</dcterms:modified>
  <cp:revision>126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