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29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0FA5-6F2D-42C8-A714-93AFA3051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0D60-7CCC-4D0D-B95A-28476FE23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230416-E796-49AC-BA9C-5B0071428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BB31D7-04B2-4985-B1B1-D91024BFC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B4BA40-3E2D-4BBE-A325-A26E622E6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E89D4A-379C-49FF-9919-5456314F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77C28A-46D4-4DD2-86D5-81F289FBE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E423D2-C70C-40A5-B84E-5C38D37A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C91774-06DE-4D19-9825-E271176A7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D695E1-4E54-49E4-B3A5-016BD1680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096E21-1D43-42CB-8EEC-4A77D1103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D73BF7-9191-4737-A5B6-4C969FC07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5971-206D-42B1-88AE-52D5DA923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50E294-40A2-41ED-B0C2-314F0FE76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10A89A-9C8D-4B7D-BFBD-B21373F34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304B6C-C1DD-462F-B8DB-168F2967C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718BB8-A042-4A82-A604-4D6F86A2C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5FB845-2B2F-430D-AF93-BE431748D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FB263A-9F93-479B-9A25-06724D6B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21F27C-269E-45F4-BD77-A108B87D0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CCD4D9-ADE2-4A00-9FE1-E138CBD82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FD22AC-9223-4DE3-9443-2940ADEBD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308391-DB62-4050-A3BF-9044DAFC4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0D26-30D5-44F3-8E8E-539EB96DA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E1AF33-94F7-4F96-B073-DCA29F81C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9EFE52-F729-4DCE-B9D5-DFC2B313A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74E584-E95D-431D-8873-B27564DCF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B63A35-DCED-43C1-BD49-D6772A69F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893A45-2907-43E6-A719-AB5D25416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EAD067-686B-48E8-995E-7757A124B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879D08-0967-480E-A047-24A811166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1189E3-7E35-41BB-924F-3C909E74F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00FF15-A3CF-4787-ACAF-C18B52A8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EDA87E-DE94-4834-A364-21DBFE041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CD054-3EB5-4011-81D6-F297C763A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5DD41A-CBDE-4DBB-AF22-051556E03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75804F-448F-4010-BDA7-1ACDD819C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F70221-79F0-4AA5-A4C2-DC32C7805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B3C359-BFE7-4321-B68E-5435CF97C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543A0E-5F24-4181-90E4-3A97D1B53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8C2764-DA59-4EAD-B94A-59F63C9A7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EDA54E-8835-4B40-8FDB-B618B0C0F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C8D5B4-9774-46C2-876B-89A1101ED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F3AD77-24E1-46D7-B557-79E69544F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35F0C5-0691-479E-BFE7-E5E630EBA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F3B2D-9360-46CA-85B1-E7C92B0FE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E5072E-94E1-489E-8F17-6A08E3C29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708559-57F0-4454-A41E-E53FB0DB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037E7B-75F2-4B89-A1C1-E7F795512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36AA4D-BBE9-4C7D-B6A6-22AC2ED9C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D18136-2620-4AF8-9902-6B6FC8A9F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27E542-B68D-4865-8AC8-54E6CE1E8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4C40E8-474A-44AD-8EE3-9825C3BF6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B2E814-F0BC-41AB-8EF6-50976FAE4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E610CC-6C7E-49AD-9CF1-8441C540F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DD0F0B-8CB8-42F9-AA15-4E97C8C2A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8E44E-9577-44E6-9C15-BC29B970C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B2F41C-5C1B-4DFA-A4FE-540405A12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1FA4FC-1EA2-4C6B-AF04-8C5076948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9098F7-DC0D-46B5-A741-9B47237B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FA07BF-678F-4ED3-91AB-239CB7494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00632B-E6FB-410E-95AC-086C4F78B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E2A784-DBD8-4B8E-A297-F732D039F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64B25B-5624-4837-BECD-CF74EE8A0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7751E-F0E8-45F5-B489-555FE9154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C3800-3553-4463-9904-B905E5A99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C4C78-5C77-471E-8E52-6D6B6D6EA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498F9-6D0B-44DD-9FBA-5AEDCE4AF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188C-A554-4BD4-860E-D97E9260D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EEB1C-70DF-4875-AAD1-D30E11A18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DAA25-DCF4-45C9-BECA-0120A3216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A1290-3EAA-4104-AA62-56C8E1F42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1AEC2-2429-43EB-87D8-33D6F8826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D4C19-8DA0-41AF-933C-7E0927E41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C30AD-73ED-4A62-A721-22E3FC944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4E980-822C-44FB-B96F-43CB81988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ADB8A-C3D7-44E9-BFC6-B332250B5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5BA7A-B10A-4299-8BA1-1F4A70D93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47E73-2E88-4856-AB7D-7AE172B06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E2CB-BBC5-41A2-B022-D2009CEFD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0E589-B3EB-40BE-84CA-1EB5FE077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FC11D-BFF8-4BD0-83CD-7A8281EA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65427-B7DB-4A00-B058-DFB63F2D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1D3C9-6036-44E5-96C4-97EB4694C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60EF6-57BD-4925-B545-0EBA3EE00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B496D-0910-4915-83E1-A8BBE4077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76C8F-A0D4-498B-995A-E8A4BF3C4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2F0B8-57AD-41FE-8204-ACA3A279C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8E76C-2D86-4D73-95DA-2FE07AAB1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0BF23-7421-4814-A763-118B25751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2B58-897A-4067-A5C0-4003138BE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B2EE5-FB6B-4F19-AB40-7EDCADF73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1D68E-273E-4CF1-85B1-E84F01F33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B7A2F-3676-4585-809E-6809D8AD0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C86A7-F374-484D-8E49-59CF56C42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29F63-3E1C-4D91-A6EE-191720BB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69796-5B8A-4DD5-B2BB-4232675C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0D4E2-0833-4685-B83E-1FBE3CFF4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07D62-3157-4B84-A9FA-8CF2292E1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2579E-5118-4E78-8865-338E1712D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BD353-4005-45B3-A33A-806367AAE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6397-A2DA-4B81-88FD-65691C513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901985-60E9-424F-8308-248210631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CD656B-3630-464A-A8CF-5B465D506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14CF2B-64BB-4B5D-93B1-917CE651F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CFA15C-0859-4484-AD6B-2D6C4A1AD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65FBFA-1FDB-4716-8E0F-A19742D01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958D98-1DA3-425E-BEC8-433EEA7A0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49755E-9B2A-4BD2-B9C2-34358884E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EC839D-4D61-4211-B450-704910C84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2B1C71-DD8C-4D3F-B17A-DA0AFB7EA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E2586-7CEB-4EDA-837A-E206F4FE4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EF7A-79AF-4B7B-B052-24403D522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8D675-C231-4880-9CC6-57665B97A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1C3024-BB19-437D-98C4-5E17F1FD2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F2327F-97EF-4B70-9170-D1A455883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48DEFC-C77B-4980-9F9F-94BB77C37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4D7CF5-3C08-4BEE-BBE2-7461BA262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4D85A0-8633-4517-ADCB-0742591C3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9E6833-B3B2-4BB7-BBA7-0F99BC311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967E42-621A-47C5-8889-C36B923A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D92722-47E2-49A9-91CC-B5452064E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C8FEAB-3687-4B1C-8BD1-9F5411027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FEC5-D71C-4D92-B43E-6E16FE66F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1B09B8-EA41-499D-BCCF-866F187FF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746866-C482-4FF7-AC8F-8778E6822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2A696E-6A6D-4DD4-854C-BA5990B3B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2C66DC-C3D0-4EEE-9A80-569E1908E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242A82-E2E7-415A-A8F1-DAC01E7A9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8DCF07-F446-42DD-9B3B-DCC09EB16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A916E9-7260-48D5-9311-628B665D6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ED975B-9C60-4471-B4C2-049B430B9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602C63-BA0D-4F71-840E-624733F08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23D95A-5E05-4A70-B933-32F868F9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EABF-8853-4887-9DFB-198B3FA7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F252DF-9A4D-4AD4-84AC-9F8F27050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540616-49AC-4962-B250-B976FB98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4AE7B4-1F79-4481-8E08-59B279893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CFAFDD-EA71-4BE2-8889-51ADABD83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1A39E2-E11D-4539-B9FB-3A85CE73E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813F69-DDA4-4BA3-952F-09C2159AC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17EBE9-80F4-44AA-91BB-E329036EB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64C90E-3573-410D-BB29-9A000351C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DC8557-EAC8-4EC7-8011-7B507568D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672774-CDE2-40EF-938D-A54A781B3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2E62-6B3A-468D-BD15-B4E78DF8F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96C7C7-5BAC-4DE2-83BA-C9AB89851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2C01DE-FA1D-4228-8E75-8BCE1221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06B3BD-189E-471D-9EEC-1F8576F3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A5C9AE-59DE-4191-97F5-95BF03A4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7385A7-63C9-4D16-AA78-908C08BA4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0CCDDA-AFD0-4238-97B1-E7FB691B2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B2229B-577C-49F7-BF68-353470F3F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9B8FF6-96B5-49C2-B0C1-8BAB8AAA6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6D5FA9-62B9-4FE1-9DE9-B4D9B0535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71AE4C-D2E2-4258-896C-B24658914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37B02-7A8F-4334-B962-53178D95FC4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A592A-E8C2-40E7-AE6B-4598646DEA26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10173-1EB9-424B-AADD-84DD4E33B147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10D12-2B78-44B1-B9A4-27937245A404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4D374-F1BC-4023-BD7A-00CBBDEF2B31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9E430-DF9E-4D6E-9863-2E8854475323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FF9F1-164C-4771-B63E-2EBA2D231EBA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998A0-BB53-49C7-9B7B-C2B2FE1CCD1E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63DBB-DB29-490E-BB14-23DCFA2B6BDB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58B39-9303-41E0-B5EC-997B1565751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EA6C5-1DC5-4CE3-A98B-48D991C4B5D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48B38-4C04-462E-8ABF-77FA12644D84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41BCB-8CB5-439C-B7BC-107D4FB87111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E146F-4B9E-4922-BF07-229640C87792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5530C-EDE1-47ED-8DD3-304EBE8126AF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F84B1-748F-480F-8C14-9E3C0E082635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AD6B6-F0EA-45EC-ADF6-BD9CEF9ED93C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EA051-3119-41C6-AB01-076486C871FC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1CF20-398B-483C-A3DD-B7FF16E34B18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A628C-AD10-4D78-95C7-105C98110CF1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5D79A-E869-4699-B974-B53744312CF8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97D0F-292D-4E6C-ABD9-3FFB946745F1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30B38-227E-4B73-8D6E-B9F29ADB6CE0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64178-B5F0-417A-80D6-CF9034624408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9C808-F39A-4F10-85C0-714866F5B6C1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18.png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26.png"/><Relationship Id="rId6" Type="http://schemas.openxmlformats.org/officeDocument/2006/relationships/image" Target="../media/image11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18.png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9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3" name="Group 2"/>
          <p:cNvGrpSpPr/>
          <p:nvPr/>
        </p:nvGrpSpPr>
        <p:grpSpPr>
          <a:xfrm>
            <a:off x="-1440" y="12600"/>
            <a:ext cx="12199680" cy="6851520"/>
            <a:chOff x="-1440" y="12600"/>
            <a:chExt cx="12199680" cy="6851520"/>
          </a:xfrm>
        </p:grpSpPr>
        <p:pic>
          <p:nvPicPr>
            <p:cNvPr id="534" name="TextBox 3" descr=""/>
            <p:cNvPicPr/>
            <p:nvPr/>
          </p:nvPicPr>
          <p:blipFill>
            <a:blip r:embed="rId1"/>
            <a:stretch/>
          </p:blipFill>
          <p:spPr>
            <a:xfrm>
              <a:off x="-1440" y="12600"/>
              <a:ext cx="12199680" cy="685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5" name="Text Box 4"/>
            <p:cNvSpPr/>
            <p:nvPr/>
          </p:nvSpPr>
          <p:spPr>
            <a:xfrm>
              <a:off x="4680" y="17280"/>
              <a:ext cx="12186720" cy="68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6" name="Text Box 2"/>
          <p:cNvSpPr/>
          <p:nvPr/>
        </p:nvSpPr>
        <p:spPr>
          <a:xfrm>
            <a:off x="1884240" y="266544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封面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TextBox 2"/>
          <p:cNvSpPr/>
          <p:nvPr/>
        </p:nvSpPr>
        <p:spPr>
          <a:xfrm>
            <a:off x="0" y="0"/>
            <a:ext cx="12192120" cy="38163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8" name="Group 7"/>
          <p:cNvGrpSpPr/>
          <p:nvPr/>
        </p:nvGrpSpPr>
        <p:grpSpPr>
          <a:xfrm>
            <a:off x="-1440" y="6381720"/>
            <a:ext cx="12212640" cy="482760"/>
            <a:chOff x="-1440" y="6381720"/>
            <a:chExt cx="12212640" cy="482760"/>
          </a:xfrm>
        </p:grpSpPr>
        <p:pic>
          <p:nvPicPr>
            <p:cNvPr id="539" name="TextBox 6" descr=""/>
            <p:cNvPicPr/>
            <p:nvPr/>
          </p:nvPicPr>
          <p:blipFill>
            <a:blip r:embed="rId3"/>
            <a:stretch/>
          </p:blipFill>
          <p:spPr>
            <a:xfrm>
              <a:off x="-1440" y="6381720"/>
              <a:ext cx="12212640" cy="4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0" name="Text Box 9"/>
            <p:cNvSpPr/>
            <p:nvPr/>
          </p:nvSpPr>
          <p:spPr>
            <a:xfrm>
              <a:off x="4680" y="6389640"/>
              <a:ext cx="122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41" name="图片 8" descr="ThemePictures.png"/>
          <p:cNvPicPr/>
          <p:nvPr/>
        </p:nvPicPr>
        <p:blipFill>
          <a:blip r:embed="rId4"/>
          <a:stretch/>
        </p:blipFill>
        <p:spPr>
          <a:xfrm>
            <a:off x="4351320" y="3159000"/>
            <a:ext cx="3200400" cy="3029040"/>
          </a:xfrm>
          <a:prstGeom prst="rect">
            <a:avLst/>
          </a:prstGeom>
          <a:ln w="0">
            <a:noFill/>
          </a:ln>
        </p:spPr>
      </p:pic>
      <p:pic>
        <p:nvPicPr>
          <p:cNvPr id="542" name="Text Box 2" descr=""/>
          <p:cNvPicPr/>
          <p:nvPr/>
        </p:nvPicPr>
        <p:blipFill>
          <a:blip r:embed="rId5"/>
          <a:stretch/>
        </p:blipFill>
        <p:spPr>
          <a:xfrm>
            <a:off x="-19080" y="6456240"/>
            <a:ext cx="2786040" cy="328680"/>
          </a:xfrm>
          <a:prstGeom prst="rect">
            <a:avLst/>
          </a:prstGeom>
          <a:ln w="0">
            <a:noFill/>
          </a:ln>
        </p:spPr>
      </p:pic>
      <p:pic>
        <p:nvPicPr>
          <p:cNvPr id="543" name="图片 9" descr="Title-img.png"/>
          <p:cNvPicPr/>
          <p:nvPr/>
        </p:nvPicPr>
        <p:blipFill>
          <a:blip r:embed="rId6"/>
          <a:stretch/>
        </p:blipFill>
        <p:spPr>
          <a:xfrm>
            <a:off x="3174840" y="1714680"/>
            <a:ext cx="5686560" cy="1600200"/>
          </a:xfrm>
          <a:prstGeom prst="rect">
            <a:avLst/>
          </a:prstGeom>
          <a:ln w="0">
            <a:noFill/>
          </a:ln>
        </p:spPr>
      </p:pic>
      <p:pic>
        <p:nvPicPr>
          <p:cNvPr id="544" name="Text Box 2" descr=""/>
          <p:cNvPicPr/>
          <p:nvPr/>
        </p:nvPicPr>
        <p:blipFill>
          <a:blip r:embed="rId7"/>
          <a:stretch/>
        </p:blipFill>
        <p:spPr>
          <a:xfrm>
            <a:off x="4011480" y="1249200"/>
            <a:ext cx="3980160" cy="762120"/>
          </a:xfrm>
          <a:prstGeom prst="rect">
            <a:avLst/>
          </a:prstGeom>
          <a:ln w="0">
            <a:noFill/>
          </a:ln>
        </p:spPr>
      </p:pic>
      <p:pic>
        <p:nvPicPr>
          <p:cNvPr id="545" name="Text Box 2" descr=""/>
          <p:cNvPicPr/>
          <p:nvPr/>
        </p:nvPicPr>
        <p:blipFill>
          <a:blip r:embed="rId8"/>
          <a:stretch/>
        </p:blipFill>
        <p:spPr>
          <a:xfrm>
            <a:off x="4486320" y="1944720"/>
            <a:ext cx="329868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Group 2"/>
          <p:cNvGrpSpPr/>
          <p:nvPr/>
        </p:nvGrpSpPr>
        <p:grpSpPr>
          <a:xfrm>
            <a:off x="-1440" y="-1440"/>
            <a:ext cx="12199680" cy="6846840"/>
            <a:chOff x="-1440" y="-1440"/>
            <a:chExt cx="12199680" cy="6846840"/>
          </a:xfrm>
        </p:grpSpPr>
        <p:pic>
          <p:nvPicPr>
            <p:cNvPr id="547" name="TextBox 3" descr=""/>
            <p:cNvPicPr/>
            <p:nvPr/>
          </p:nvPicPr>
          <p:blipFill>
            <a:blip r:embed="rId1"/>
            <a:stretch/>
          </p:blipFill>
          <p:spPr>
            <a:xfrm>
              <a:off x="-1440" y="-1440"/>
              <a:ext cx="12199680" cy="684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8" name="Text Box 4"/>
            <p:cNvSpPr/>
            <p:nvPr/>
          </p:nvSpPr>
          <p:spPr>
            <a:xfrm>
              <a:off x="4680" y="4680"/>
              <a:ext cx="12186720" cy="68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9" name="Text Box 2"/>
          <p:cNvSpPr/>
          <p:nvPr/>
        </p:nvSpPr>
        <p:spPr>
          <a:xfrm>
            <a:off x="673200" y="1041480"/>
            <a:ext cx="221940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77777"/>
                </a:solidFill>
                <a:latin typeface="微软雅黑"/>
                <a:ea typeface="微软雅黑"/>
              </a:rPr>
              <a:t>设计</a:t>
            </a:r>
            <a:r>
              <a:rPr b="0" lang="en-US" sz="2000" spc="-1" strike="noStrike">
                <a:solidFill>
                  <a:srgbClr val="777777"/>
                </a:solidFill>
                <a:latin typeface="微软雅黑"/>
                <a:ea typeface="微软雅黑"/>
              </a:rPr>
              <a:t>&amp;</a:t>
            </a:r>
            <a:r>
              <a:rPr b="0" lang="zh-CN" sz="3200" spc="-1" strike="noStrike">
                <a:solidFill>
                  <a:srgbClr val="777777"/>
                </a:solidFill>
                <a:latin typeface="微软雅黑"/>
                <a:ea typeface="微软雅黑"/>
              </a:rPr>
              <a:t>编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Design</a:t>
            </a:r>
            <a:r>
              <a:rPr b="0" lang="en-US" sz="1400" spc="-1" strike="noStrike">
                <a:solidFill>
                  <a:srgbClr val="777777"/>
                </a:solidFill>
                <a:latin typeface="Arial"/>
                <a:ea typeface="Arial"/>
              </a:rPr>
              <a:t>&amp;</a:t>
            </a: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Cod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0" name="Group 6"/>
          <p:cNvGrpSpPr/>
          <p:nvPr/>
        </p:nvGrpSpPr>
        <p:grpSpPr>
          <a:xfrm>
            <a:off x="-1440" y="-55440"/>
            <a:ext cx="12212640" cy="579240"/>
            <a:chOff x="-1440" y="-55440"/>
            <a:chExt cx="12212640" cy="579240"/>
          </a:xfrm>
        </p:grpSpPr>
        <p:pic>
          <p:nvPicPr>
            <p:cNvPr id="551" name="TextBox 2" descr=""/>
            <p:cNvPicPr/>
            <p:nvPr/>
          </p:nvPicPr>
          <p:blipFill>
            <a:blip r:embed="rId2"/>
            <a:stretch/>
          </p:blipFill>
          <p:spPr>
            <a:xfrm>
              <a:off x="-1440" y="-55440"/>
              <a:ext cx="1221264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2" name="Text Box 8"/>
            <p:cNvSpPr/>
            <p:nvPr/>
          </p:nvSpPr>
          <p:spPr>
            <a:xfrm>
              <a:off x="4680" y="-52200"/>
              <a:ext cx="1220004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3" name="Group 9"/>
          <p:cNvGrpSpPr/>
          <p:nvPr/>
        </p:nvGrpSpPr>
        <p:grpSpPr>
          <a:xfrm>
            <a:off x="-1440" y="6419880"/>
            <a:ext cx="12212640" cy="474480"/>
            <a:chOff x="-1440" y="6419880"/>
            <a:chExt cx="12212640" cy="474480"/>
          </a:xfrm>
        </p:grpSpPr>
        <p:pic>
          <p:nvPicPr>
            <p:cNvPr id="554" name="TextBox 6" descr=""/>
            <p:cNvPicPr/>
            <p:nvPr/>
          </p:nvPicPr>
          <p:blipFill>
            <a:blip r:embed="rId3"/>
            <a:stretch/>
          </p:blipFill>
          <p:spPr>
            <a:xfrm>
              <a:off x="-1440" y="6419880"/>
              <a:ext cx="1221264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Text Box 11"/>
            <p:cNvSpPr/>
            <p:nvPr/>
          </p:nvSpPr>
          <p:spPr>
            <a:xfrm>
              <a:off x="4680" y="6422760"/>
              <a:ext cx="122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56" name="图片 10" descr="Directory-bg.png"/>
          <p:cNvPicPr/>
          <p:nvPr/>
        </p:nvPicPr>
        <p:blipFill>
          <a:blip r:embed="rId4"/>
          <a:stretch/>
        </p:blipFill>
        <p:spPr>
          <a:xfrm>
            <a:off x="209520" y="-28440"/>
            <a:ext cx="800280" cy="957240"/>
          </a:xfrm>
          <a:prstGeom prst="rect">
            <a:avLst/>
          </a:prstGeom>
          <a:ln w="0">
            <a:noFill/>
          </a:ln>
        </p:spPr>
      </p:pic>
      <p:sp>
        <p:nvSpPr>
          <p:cNvPr id="557" name="TextBox 11"/>
          <p:cNvSpPr/>
          <p:nvPr/>
        </p:nvSpPr>
        <p:spPr>
          <a:xfrm>
            <a:off x="225360" y="136440"/>
            <a:ext cx="7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正准黑简体"/>
                <a:ea typeface="方正正准黑简体"/>
              </a:rPr>
              <a:t>目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8" name="图片 13" descr="Shading.png"/>
          <p:cNvPicPr/>
          <p:nvPr/>
        </p:nvPicPr>
        <p:blipFill>
          <a:blip r:embed="rId5"/>
          <a:stretch/>
        </p:blipFill>
        <p:spPr>
          <a:xfrm>
            <a:off x="631800" y="2560680"/>
            <a:ext cx="2247840" cy="2349360"/>
          </a:xfrm>
          <a:prstGeom prst="rect">
            <a:avLst/>
          </a:prstGeom>
          <a:ln w="0">
            <a:noFill/>
          </a:ln>
        </p:spPr>
      </p:pic>
      <p:pic>
        <p:nvPicPr>
          <p:cNvPr id="559" name="图片 14" descr="Design_bg.png"/>
          <p:cNvPicPr/>
          <p:nvPr/>
        </p:nvPicPr>
        <p:blipFill>
          <a:blip r:embed="rId6"/>
          <a:stretch/>
        </p:blipFill>
        <p:spPr>
          <a:xfrm>
            <a:off x="3144960" y="1989000"/>
            <a:ext cx="5581440" cy="800280"/>
          </a:xfrm>
          <a:prstGeom prst="rect">
            <a:avLst/>
          </a:prstGeom>
          <a:ln w="0">
            <a:noFill/>
          </a:ln>
        </p:spPr>
      </p:pic>
      <p:pic>
        <p:nvPicPr>
          <p:cNvPr id="560" name="图片 15" descr="Coding_bg.png"/>
          <p:cNvPicPr/>
          <p:nvPr/>
        </p:nvPicPr>
        <p:blipFill>
          <a:blip r:embed="rId7"/>
          <a:stretch/>
        </p:blipFill>
        <p:spPr>
          <a:xfrm>
            <a:off x="3144960" y="2903400"/>
            <a:ext cx="5581440" cy="800280"/>
          </a:xfrm>
          <a:prstGeom prst="rect">
            <a:avLst/>
          </a:prstGeom>
          <a:ln w="0">
            <a:noFill/>
          </a:ln>
        </p:spPr>
      </p:pic>
      <p:pic>
        <p:nvPicPr>
          <p:cNvPr id="561" name="图片 16" descr="Format_bg.png"/>
          <p:cNvPicPr/>
          <p:nvPr/>
        </p:nvPicPr>
        <p:blipFill>
          <a:blip r:embed="rId8"/>
          <a:stretch/>
        </p:blipFill>
        <p:spPr>
          <a:xfrm>
            <a:off x="3168720" y="3817800"/>
            <a:ext cx="5581440" cy="80028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17" descr="Browser_bg.png"/>
          <p:cNvPicPr/>
          <p:nvPr/>
        </p:nvPicPr>
        <p:blipFill>
          <a:blip r:embed="rId9"/>
          <a:stretch/>
        </p:blipFill>
        <p:spPr>
          <a:xfrm>
            <a:off x="3168720" y="4743360"/>
            <a:ext cx="5581440" cy="800280"/>
          </a:xfrm>
          <a:prstGeom prst="rect">
            <a:avLst/>
          </a:prstGeom>
          <a:ln w="0">
            <a:noFill/>
          </a:ln>
        </p:spPr>
      </p:pic>
      <p:sp>
        <p:nvSpPr>
          <p:cNvPr id="563" name="TextBox 18"/>
          <p:cNvSpPr/>
          <p:nvPr/>
        </p:nvSpPr>
        <p:spPr>
          <a:xfrm>
            <a:off x="4803840" y="2038320"/>
            <a:ext cx="66294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95959"/>
                </a:solidFill>
                <a:latin typeface="方正正准黑简体"/>
                <a:ea typeface="方正正准黑简体"/>
              </a:rPr>
              <a:t>视觉设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 Unicode MS"/>
                <a:ea typeface="Arial Unicode MS"/>
              </a:rPr>
              <a:t>Photoshop  &amp;  Fireworks  &amp;  Illustrator  &amp;  Flash  ...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文本框 1"/>
          <p:cNvSpPr/>
          <p:nvPr/>
        </p:nvSpPr>
        <p:spPr>
          <a:xfrm>
            <a:off x="4808520" y="2967120"/>
            <a:ext cx="79837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95959"/>
                </a:solidFill>
                <a:latin typeface="方正正准黑简体"/>
                <a:ea typeface="方正正准黑简体"/>
              </a:rPr>
              <a:t>编码开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 Unicode MS"/>
                <a:ea typeface="Arial Unicode MS"/>
              </a:rPr>
              <a:t>Dreamweaver  &amp;  Textmate  &amp;  Coda  &amp;  CSSEdit  &amp;  Espresso ...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文本框 4"/>
          <p:cNvSpPr/>
          <p:nvPr/>
        </p:nvSpPr>
        <p:spPr>
          <a:xfrm>
            <a:off x="4808520" y="3873600"/>
            <a:ext cx="73836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95959"/>
                </a:solidFill>
                <a:latin typeface="方正正准黑简体"/>
                <a:ea typeface="方正正准黑简体"/>
              </a:rPr>
              <a:t>编码类型</a:t>
            </a:r>
            <a:r>
              <a:rPr b="0" lang="en-US" sz="2400" spc="-1" strike="noStrike">
                <a:solidFill>
                  <a:srgbClr val="595959"/>
                </a:solidFill>
                <a:latin typeface="方正正准黑简体"/>
                <a:ea typeface="方正正准黑简体"/>
              </a:rPr>
              <a:t>&amp;</a:t>
            </a:r>
            <a:r>
              <a:rPr b="0" lang="zh-CN" sz="2400" spc="-1" strike="noStrike">
                <a:solidFill>
                  <a:srgbClr val="595959"/>
                </a:solidFill>
                <a:latin typeface="方正正准黑简体"/>
                <a:ea typeface="方正正准黑简体"/>
              </a:rPr>
              <a:t>文件格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595959"/>
                </a:solidFill>
                <a:latin typeface="Arial Unicode MS"/>
                <a:ea typeface="Arial Unicode MS"/>
              </a:rPr>
              <a:t>Html  &amp;  js  &amp; CSS  &amp; Swf  &amp;  Png  &amp; Gif  &amp;Jpg  &amp; Bmp  &amp; Ico  .....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文本框 7"/>
          <p:cNvSpPr/>
          <p:nvPr/>
        </p:nvSpPr>
        <p:spPr>
          <a:xfrm>
            <a:off x="4832280" y="4768920"/>
            <a:ext cx="72486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95959"/>
                </a:solidFill>
                <a:latin typeface="方正正准黑简体"/>
                <a:ea typeface="方正正准黑简体"/>
              </a:rPr>
              <a:t>浏览器测试</a:t>
            </a:r>
            <a:r>
              <a:rPr b="0" lang="en-US" sz="2400" spc="-1" strike="noStrike">
                <a:solidFill>
                  <a:srgbClr val="595959"/>
                </a:solidFill>
                <a:latin typeface="方正正准黑简体"/>
                <a:ea typeface="方正正准黑简体"/>
              </a:rPr>
              <a:t>&amp;</a:t>
            </a:r>
            <a:r>
              <a:rPr b="0" lang="zh-CN" sz="2400" spc="-1" strike="noStrike">
                <a:solidFill>
                  <a:srgbClr val="595959"/>
                </a:solidFill>
                <a:latin typeface="方正正准黑简体"/>
                <a:ea typeface="方正正准黑简体"/>
              </a:rPr>
              <a:t>调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595959"/>
                </a:solidFill>
                <a:latin typeface="Arial Unicode MS"/>
                <a:ea typeface="Arial Unicode MS"/>
              </a:rPr>
              <a:t>IE   &amp;  Chrome   &amp;  Firefox   &amp;  Opera  &amp;  Safari   &amp;  firebug  .....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7" name="Text Box 2" descr=""/>
          <p:cNvPicPr/>
          <p:nvPr/>
        </p:nvPicPr>
        <p:blipFill>
          <a:blip r:embed="rId10"/>
          <a:stretch/>
        </p:blipFill>
        <p:spPr>
          <a:xfrm>
            <a:off x="-19080" y="6480000"/>
            <a:ext cx="2786040" cy="328680"/>
          </a:xfrm>
          <a:prstGeom prst="rect">
            <a:avLst/>
          </a:prstGeom>
          <a:ln w="0">
            <a:noFill/>
          </a:ln>
        </p:spPr>
      </p:pic>
      <p:pic>
        <p:nvPicPr>
          <p:cNvPr id="568" name="Text Box 2" descr=""/>
          <p:cNvPicPr/>
          <p:nvPr/>
        </p:nvPicPr>
        <p:blipFill>
          <a:blip r:embed="rId11"/>
          <a:stretch/>
        </p:blipFill>
        <p:spPr>
          <a:xfrm>
            <a:off x="8381880" y="-38160"/>
            <a:ext cx="3829320" cy="4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9" name="Group 2"/>
          <p:cNvGrpSpPr/>
          <p:nvPr/>
        </p:nvGrpSpPr>
        <p:grpSpPr>
          <a:xfrm>
            <a:off x="0" y="-1440"/>
            <a:ext cx="12204720" cy="6846840"/>
            <a:chOff x="0" y="-1440"/>
            <a:chExt cx="12204720" cy="6846840"/>
          </a:xfrm>
        </p:grpSpPr>
        <p:pic>
          <p:nvPicPr>
            <p:cNvPr id="570" name="TextBox 3" descr=""/>
            <p:cNvPicPr/>
            <p:nvPr/>
          </p:nvPicPr>
          <p:blipFill>
            <a:blip r:embed="rId1"/>
            <a:stretch/>
          </p:blipFill>
          <p:spPr>
            <a:xfrm>
              <a:off x="0" y="-1440"/>
              <a:ext cx="12204720" cy="684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Text Box 4"/>
            <p:cNvSpPr/>
            <p:nvPr/>
          </p:nvSpPr>
          <p:spPr>
            <a:xfrm>
              <a:off x="4680" y="4680"/>
              <a:ext cx="12192120" cy="68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72" name="图片 5" descr="test3-bg.png"/>
          <p:cNvPicPr/>
          <p:nvPr/>
        </p:nvPicPr>
        <p:blipFill>
          <a:blip r:embed="rId2"/>
          <a:stretch/>
        </p:blipFill>
        <p:spPr>
          <a:xfrm>
            <a:off x="3289320" y="501480"/>
            <a:ext cx="5460840" cy="5322960"/>
          </a:xfrm>
          <a:prstGeom prst="rect">
            <a:avLst/>
          </a:prstGeom>
          <a:ln w="0">
            <a:noFill/>
          </a:ln>
        </p:spPr>
      </p:pic>
      <p:grpSp>
        <p:nvGrpSpPr>
          <p:cNvPr id="573" name="Group 6"/>
          <p:cNvGrpSpPr/>
          <p:nvPr/>
        </p:nvGrpSpPr>
        <p:grpSpPr>
          <a:xfrm>
            <a:off x="-1440" y="-55440"/>
            <a:ext cx="12212640" cy="579240"/>
            <a:chOff x="-1440" y="-55440"/>
            <a:chExt cx="12212640" cy="579240"/>
          </a:xfrm>
        </p:grpSpPr>
        <p:pic>
          <p:nvPicPr>
            <p:cNvPr id="574" name="TextBox 2" descr=""/>
            <p:cNvPicPr/>
            <p:nvPr/>
          </p:nvPicPr>
          <p:blipFill>
            <a:blip r:embed="rId3"/>
            <a:stretch/>
          </p:blipFill>
          <p:spPr>
            <a:xfrm>
              <a:off x="-1440" y="-55440"/>
              <a:ext cx="1221264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5" name="Text Box 8"/>
            <p:cNvSpPr/>
            <p:nvPr/>
          </p:nvSpPr>
          <p:spPr>
            <a:xfrm>
              <a:off x="4680" y="-52200"/>
              <a:ext cx="1220004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6" name="Group 9"/>
          <p:cNvGrpSpPr/>
          <p:nvPr/>
        </p:nvGrpSpPr>
        <p:grpSpPr>
          <a:xfrm>
            <a:off x="-1440" y="6419880"/>
            <a:ext cx="12212640" cy="474480"/>
            <a:chOff x="-1440" y="6419880"/>
            <a:chExt cx="12212640" cy="474480"/>
          </a:xfrm>
        </p:grpSpPr>
        <p:pic>
          <p:nvPicPr>
            <p:cNvPr id="577" name="TextBox 6" descr=""/>
            <p:cNvPicPr/>
            <p:nvPr/>
          </p:nvPicPr>
          <p:blipFill>
            <a:blip r:embed="rId4"/>
            <a:stretch/>
          </p:blipFill>
          <p:spPr>
            <a:xfrm>
              <a:off x="-1440" y="6419880"/>
              <a:ext cx="1221264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Text Box 11"/>
            <p:cNvSpPr/>
            <p:nvPr/>
          </p:nvSpPr>
          <p:spPr>
            <a:xfrm>
              <a:off x="4680" y="6422760"/>
              <a:ext cx="122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79" name="图片 10" descr="Directory-bg.png"/>
          <p:cNvPicPr/>
          <p:nvPr/>
        </p:nvPicPr>
        <p:blipFill>
          <a:blip r:embed="rId5"/>
          <a:stretch/>
        </p:blipFill>
        <p:spPr>
          <a:xfrm>
            <a:off x="209520" y="-28440"/>
            <a:ext cx="800280" cy="957240"/>
          </a:xfrm>
          <a:prstGeom prst="rect">
            <a:avLst/>
          </a:prstGeom>
          <a:ln w="0">
            <a:noFill/>
          </a:ln>
        </p:spPr>
      </p:pic>
      <p:sp>
        <p:nvSpPr>
          <p:cNvPr id="580" name="TextBox 11"/>
          <p:cNvSpPr/>
          <p:nvPr/>
        </p:nvSpPr>
        <p:spPr>
          <a:xfrm>
            <a:off x="282600" y="136440"/>
            <a:ext cx="63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正准黑简体"/>
                <a:ea typeface="方正正准黑简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文本框 11"/>
          <p:cNvSpPr/>
          <p:nvPr/>
        </p:nvSpPr>
        <p:spPr>
          <a:xfrm>
            <a:off x="0" y="2027160"/>
            <a:ext cx="12192120" cy="248436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2" name="图片 10" descr="label-bg.png"/>
          <p:cNvPicPr/>
          <p:nvPr/>
        </p:nvPicPr>
        <p:blipFill>
          <a:blip r:embed="rId7"/>
          <a:stretch/>
        </p:blipFill>
        <p:spPr>
          <a:xfrm>
            <a:off x="3098880" y="2362320"/>
            <a:ext cx="1795320" cy="1795320"/>
          </a:xfrm>
          <a:prstGeom prst="rect">
            <a:avLst/>
          </a:prstGeom>
          <a:ln w="0">
            <a:noFill/>
          </a:ln>
        </p:spPr>
      </p:pic>
      <p:pic>
        <p:nvPicPr>
          <p:cNvPr id="583" name="Text Box 2" descr=""/>
          <p:cNvPicPr/>
          <p:nvPr/>
        </p:nvPicPr>
        <p:blipFill>
          <a:blip r:embed="rId8"/>
          <a:stretch/>
        </p:blipFill>
        <p:spPr>
          <a:xfrm>
            <a:off x="4784760" y="2468520"/>
            <a:ext cx="3548160" cy="1420920"/>
          </a:xfrm>
          <a:prstGeom prst="rect">
            <a:avLst/>
          </a:prstGeom>
          <a:ln w="0">
            <a:noFill/>
          </a:ln>
        </p:spPr>
      </p:pic>
      <p:sp>
        <p:nvSpPr>
          <p:cNvPr id="584" name="文本框 4"/>
          <p:cNvSpPr/>
          <p:nvPr/>
        </p:nvSpPr>
        <p:spPr>
          <a:xfrm>
            <a:off x="3205080" y="2930400"/>
            <a:ext cx="152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6c93"/>
                </a:solidFill>
                <a:latin typeface="Swiss921 BT"/>
                <a:ea typeface="Gungsuh"/>
              </a:rPr>
              <a:t>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5" name="Text Box 2" descr=""/>
          <p:cNvPicPr/>
          <p:nvPr/>
        </p:nvPicPr>
        <p:blipFill>
          <a:blip r:embed="rId9"/>
          <a:stretch/>
        </p:blipFill>
        <p:spPr>
          <a:xfrm>
            <a:off x="8381880" y="-38160"/>
            <a:ext cx="3829320" cy="439920"/>
          </a:xfrm>
          <a:prstGeom prst="rect">
            <a:avLst/>
          </a:prstGeom>
          <a:ln w="0">
            <a:noFill/>
          </a:ln>
        </p:spPr>
      </p:pic>
      <p:pic>
        <p:nvPicPr>
          <p:cNvPr id="586" name="Text Box 2" descr=""/>
          <p:cNvPicPr/>
          <p:nvPr/>
        </p:nvPicPr>
        <p:blipFill>
          <a:blip r:embed="rId10"/>
          <a:stretch/>
        </p:blipFill>
        <p:spPr>
          <a:xfrm>
            <a:off x="-19080" y="6480000"/>
            <a:ext cx="278604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7" name="Group 2"/>
          <p:cNvGrpSpPr/>
          <p:nvPr/>
        </p:nvGrpSpPr>
        <p:grpSpPr>
          <a:xfrm>
            <a:off x="-1440" y="-1440"/>
            <a:ext cx="12199680" cy="6846840"/>
            <a:chOff x="-1440" y="-1440"/>
            <a:chExt cx="12199680" cy="6846840"/>
          </a:xfrm>
        </p:grpSpPr>
        <p:pic>
          <p:nvPicPr>
            <p:cNvPr id="588" name="TextBox 3" descr=""/>
            <p:cNvPicPr/>
            <p:nvPr/>
          </p:nvPicPr>
          <p:blipFill>
            <a:blip r:embed="rId1"/>
            <a:stretch/>
          </p:blipFill>
          <p:spPr>
            <a:xfrm>
              <a:off x="-1440" y="-1440"/>
              <a:ext cx="12199680" cy="684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9" name="Text Box 4"/>
            <p:cNvSpPr/>
            <p:nvPr/>
          </p:nvSpPr>
          <p:spPr>
            <a:xfrm>
              <a:off x="4680" y="4680"/>
              <a:ext cx="12186720" cy="68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0" name="Group 5"/>
          <p:cNvGrpSpPr/>
          <p:nvPr/>
        </p:nvGrpSpPr>
        <p:grpSpPr>
          <a:xfrm>
            <a:off x="-1440" y="-55440"/>
            <a:ext cx="12212640" cy="579240"/>
            <a:chOff x="-1440" y="-55440"/>
            <a:chExt cx="12212640" cy="579240"/>
          </a:xfrm>
        </p:grpSpPr>
        <p:pic>
          <p:nvPicPr>
            <p:cNvPr id="591" name="TextBox 2" descr=""/>
            <p:cNvPicPr/>
            <p:nvPr/>
          </p:nvPicPr>
          <p:blipFill>
            <a:blip r:embed="rId2"/>
            <a:stretch/>
          </p:blipFill>
          <p:spPr>
            <a:xfrm>
              <a:off x="-1440" y="-55440"/>
              <a:ext cx="1221264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Text Box 7"/>
            <p:cNvSpPr/>
            <p:nvPr/>
          </p:nvSpPr>
          <p:spPr>
            <a:xfrm>
              <a:off x="4680" y="-52200"/>
              <a:ext cx="1220004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3" name="Group 8"/>
          <p:cNvGrpSpPr/>
          <p:nvPr/>
        </p:nvGrpSpPr>
        <p:grpSpPr>
          <a:xfrm>
            <a:off x="-1440" y="6419880"/>
            <a:ext cx="12212640" cy="474480"/>
            <a:chOff x="-1440" y="6419880"/>
            <a:chExt cx="12212640" cy="474480"/>
          </a:xfrm>
        </p:grpSpPr>
        <p:pic>
          <p:nvPicPr>
            <p:cNvPr id="594" name="TextBox 6" descr=""/>
            <p:cNvPicPr/>
            <p:nvPr/>
          </p:nvPicPr>
          <p:blipFill>
            <a:blip r:embed="rId3"/>
            <a:stretch/>
          </p:blipFill>
          <p:spPr>
            <a:xfrm>
              <a:off x="-1440" y="6419880"/>
              <a:ext cx="1221264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5" name="Text Box 10"/>
            <p:cNvSpPr/>
            <p:nvPr/>
          </p:nvSpPr>
          <p:spPr>
            <a:xfrm>
              <a:off x="4680" y="6422760"/>
              <a:ext cx="122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96" name="图片 10" descr="Directory-bg.png"/>
          <p:cNvPicPr/>
          <p:nvPr/>
        </p:nvPicPr>
        <p:blipFill>
          <a:blip r:embed="rId4"/>
          <a:stretch/>
        </p:blipFill>
        <p:spPr>
          <a:xfrm>
            <a:off x="209520" y="-28440"/>
            <a:ext cx="800280" cy="957240"/>
          </a:xfrm>
          <a:prstGeom prst="rect">
            <a:avLst/>
          </a:prstGeom>
          <a:ln w="0">
            <a:noFill/>
          </a:ln>
        </p:spPr>
      </p:pic>
      <p:sp>
        <p:nvSpPr>
          <p:cNvPr id="597" name="TextBox 11"/>
          <p:cNvSpPr/>
          <p:nvPr/>
        </p:nvSpPr>
        <p:spPr>
          <a:xfrm>
            <a:off x="282600" y="136440"/>
            <a:ext cx="63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正准黑简体"/>
                <a:ea typeface="方正正准黑简体"/>
              </a:rPr>
              <a:t>1.</a:t>
            </a:r>
            <a:r>
              <a:rPr b="0" lang="en-US" sz="1400" spc="-1" strike="noStrike">
                <a:solidFill>
                  <a:srgbClr val="ffffff"/>
                </a:solidFill>
                <a:latin typeface="方正正准黑简体"/>
                <a:ea typeface="方正正准黑简体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8" name="图片 13" descr="content-title_bg.png"/>
          <p:cNvPicPr/>
          <p:nvPr/>
        </p:nvPicPr>
        <p:blipFill>
          <a:blip r:embed="rId5"/>
          <a:stretch/>
        </p:blipFill>
        <p:spPr>
          <a:xfrm>
            <a:off x="0" y="835200"/>
            <a:ext cx="4762440" cy="1257120"/>
          </a:xfrm>
          <a:prstGeom prst="rect">
            <a:avLst/>
          </a:prstGeom>
          <a:ln w="0">
            <a:noFill/>
          </a:ln>
        </p:spPr>
      </p:pic>
      <p:pic>
        <p:nvPicPr>
          <p:cNvPr id="599" name="Text Box 2" descr=""/>
          <p:cNvPicPr/>
          <p:nvPr/>
        </p:nvPicPr>
        <p:blipFill>
          <a:blip r:embed="rId6"/>
          <a:stretch/>
        </p:blipFill>
        <p:spPr>
          <a:xfrm>
            <a:off x="817560" y="1122480"/>
            <a:ext cx="3662280" cy="577800"/>
          </a:xfrm>
          <a:prstGeom prst="rect">
            <a:avLst/>
          </a:prstGeom>
          <a:ln w="0">
            <a:noFill/>
          </a:ln>
        </p:spPr>
      </p:pic>
      <p:sp>
        <p:nvSpPr>
          <p:cNvPr id="600" name="TextBox 15"/>
          <p:cNvSpPr/>
          <p:nvPr/>
        </p:nvSpPr>
        <p:spPr>
          <a:xfrm>
            <a:off x="731880" y="2092320"/>
            <a:ext cx="9647280" cy="33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Calibri"/>
              </a:rPr>
              <a:t>视觉设计的理论范畴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　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眼睛器官的生理分析；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视觉信号传递的生理分析；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视觉经验形成分析理论；其它感官对视觉的影响；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视觉心理学；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与视觉科学的交叉学科；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视觉仿生学；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视觉与认知的关系研究；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视觉信息分析；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视觉科学展望；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视觉哲学；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视觉效率；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视错心理研究；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增强视觉途径研究；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极端视觉的形态与意识影响分析；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.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Calibri"/>
              </a:rPr>
              <a:t>视觉设计的几个分类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　　</a:t>
            </a:r>
            <a:r>
              <a:rPr b="1" lang="zh-CN" sz="1300" spc="-1" strike="noStrike">
                <a:solidFill>
                  <a:srgbClr val="000000"/>
                </a:solidFill>
                <a:latin typeface="Calibri"/>
              </a:rPr>
              <a:t>标志设计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　　人们可以获取大量信息，并很大程度地影响自己的生活观念和生活方式。分为政治性、公益性、文化性、商业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　　</a:t>
            </a:r>
            <a:r>
              <a:rPr b="1" lang="zh-CN" sz="1300" spc="-1" strike="noStrike">
                <a:solidFill>
                  <a:srgbClr val="000000"/>
                </a:solidFill>
                <a:latin typeface="Calibri"/>
              </a:rPr>
              <a:t>包装设计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　　对书籍的封面及排版等进行艺术化的设计，提高读者的阅读兴趣，从而加深对其思想性、文化性和知识性的认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　　</a:t>
            </a:r>
            <a:r>
              <a:rPr b="1" lang="zh-CN" sz="1300" spc="-1" strike="noStrike">
                <a:solidFill>
                  <a:srgbClr val="000000"/>
                </a:solidFill>
                <a:latin typeface="Calibri"/>
              </a:rPr>
              <a:t>字体设计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　　以特定的图形象征或代表某一国家、机构、团体、企业或产品的符号。简明、直观、易识别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　　</a:t>
            </a:r>
            <a:r>
              <a:rPr b="1" lang="zh-CN" sz="1300" spc="-1" strike="noStrike">
                <a:solidFill>
                  <a:srgbClr val="000000"/>
                </a:solidFill>
                <a:latin typeface="Calibri"/>
              </a:rPr>
              <a:t>图像设计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　　指运用视觉设计手段，通过标志的造型和特定的色彩等表现手法，使企业的经营理念、行为观念、管理特色、产品包装风格、营销准则与策略形成一种整体形象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　　</a:t>
            </a:r>
            <a:r>
              <a:rPr b="1" lang="zh-CN" sz="1300" spc="-1" strike="noStrike">
                <a:solidFill>
                  <a:srgbClr val="000000"/>
                </a:solidFill>
                <a:latin typeface="Calibri"/>
              </a:rPr>
              <a:t>书籍设计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　　为达到有效传达企业特定信息的目的，对文字的笔画、结构、造型、色彩以及编排等方面进行一定的艺术处理，使其形成鲜明的个性，使人易认易记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　　</a:t>
            </a:r>
            <a:r>
              <a:rPr b="1" lang="zh-CN" sz="1300" spc="-1" strike="noStrike">
                <a:solidFill>
                  <a:srgbClr val="000000"/>
                </a:solidFill>
                <a:latin typeface="Calibri"/>
              </a:rPr>
              <a:t>广告设计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　　各种手工或电脑的绘画手段或影像技术，以及利用复合方式进行创造性的图像设计，构思巧妙，表现独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1" name="Text Box 2" descr=""/>
          <p:cNvPicPr/>
          <p:nvPr/>
        </p:nvPicPr>
        <p:blipFill>
          <a:blip r:embed="rId7"/>
          <a:stretch/>
        </p:blipFill>
        <p:spPr>
          <a:xfrm>
            <a:off x="-19080" y="6480000"/>
            <a:ext cx="2786040" cy="328680"/>
          </a:xfrm>
          <a:prstGeom prst="rect">
            <a:avLst/>
          </a:prstGeom>
          <a:ln w="0">
            <a:noFill/>
          </a:ln>
        </p:spPr>
      </p:pic>
      <p:pic>
        <p:nvPicPr>
          <p:cNvPr id="602" name="Text Box 2" descr=""/>
          <p:cNvPicPr/>
          <p:nvPr/>
        </p:nvPicPr>
        <p:blipFill>
          <a:blip r:embed="rId8"/>
          <a:stretch/>
        </p:blipFill>
        <p:spPr>
          <a:xfrm>
            <a:off x="8381880" y="-38160"/>
            <a:ext cx="3829320" cy="4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3" name="Group 2"/>
          <p:cNvGrpSpPr/>
          <p:nvPr/>
        </p:nvGrpSpPr>
        <p:grpSpPr>
          <a:xfrm>
            <a:off x="-1440" y="-1440"/>
            <a:ext cx="12199680" cy="6846840"/>
            <a:chOff x="-1440" y="-1440"/>
            <a:chExt cx="12199680" cy="6846840"/>
          </a:xfrm>
        </p:grpSpPr>
        <p:pic>
          <p:nvPicPr>
            <p:cNvPr id="604" name="TextBox 3" descr=""/>
            <p:cNvPicPr/>
            <p:nvPr/>
          </p:nvPicPr>
          <p:blipFill>
            <a:blip r:embed="rId1"/>
            <a:stretch/>
          </p:blipFill>
          <p:spPr>
            <a:xfrm>
              <a:off x="-1440" y="-1440"/>
              <a:ext cx="12199680" cy="684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5" name="Text Box 4"/>
            <p:cNvSpPr/>
            <p:nvPr/>
          </p:nvSpPr>
          <p:spPr>
            <a:xfrm>
              <a:off x="4680" y="4680"/>
              <a:ext cx="12186720" cy="68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6" name="TextBox 12"/>
          <p:cNvSpPr/>
          <p:nvPr/>
        </p:nvSpPr>
        <p:spPr>
          <a:xfrm>
            <a:off x="0" y="2843280"/>
            <a:ext cx="12192120" cy="1116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7" name="Group 6"/>
          <p:cNvGrpSpPr/>
          <p:nvPr/>
        </p:nvGrpSpPr>
        <p:grpSpPr>
          <a:xfrm>
            <a:off x="-1440" y="-55440"/>
            <a:ext cx="12212640" cy="579240"/>
            <a:chOff x="-1440" y="-55440"/>
            <a:chExt cx="12212640" cy="579240"/>
          </a:xfrm>
        </p:grpSpPr>
        <p:pic>
          <p:nvPicPr>
            <p:cNvPr id="608" name="TextBox 2" descr=""/>
            <p:cNvPicPr/>
            <p:nvPr/>
          </p:nvPicPr>
          <p:blipFill>
            <a:blip r:embed="rId3"/>
            <a:stretch/>
          </p:blipFill>
          <p:spPr>
            <a:xfrm>
              <a:off x="-1440" y="-55440"/>
              <a:ext cx="1221264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9" name="Text Box 8"/>
            <p:cNvSpPr/>
            <p:nvPr/>
          </p:nvSpPr>
          <p:spPr>
            <a:xfrm>
              <a:off x="4680" y="-52200"/>
              <a:ext cx="1220004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0" name="Group 9"/>
          <p:cNvGrpSpPr/>
          <p:nvPr/>
        </p:nvGrpSpPr>
        <p:grpSpPr>
          <a:xfrm>
            <a:off x="-1440" y="6419880"/>
            <a:ext cx="12212640" cy="474480"/>
            <a:chOff x="-1440" y="6419880"/>
            <a:chExt cx="12212640" cy="474480"/>
          </a:xfrm>
        </p:grpSpPr>
        <p:pic>
          <p:nvPicPr>
            <p:cNvPr id="611" name="TextBox 6" descr=""/>
            <p:cNvPicPr/>
            <p:nvPr/>
          </p:nvPicPr>
          <p:blipFill>
            <a:blip r:embed="rId4"/>
            <a:stretch/>
          </p:blipFill>
          <p:spPr>
            <a:xfrm>
              <a:off x="-1440" y="6419880"/>
              <a:ext cx="1221264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2" name="Text Box 11"/>
            <p:cNvSpPr/>
            <p:nvPr/>
          </p:nvSpPr>
          <p:spPr>
            <a:xfrm>
              <a:off x="4680" y="6422760"/>
              <a:ext cx="122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3" name="TextBox 21"/>
          <p:cNvSpPr/>
          <p:nvPr/>
        </p:nvSpPr>
        <p:spPr>
          <a:xfrm>
            <a:off x="1316160" y="2093760"/>
            <a:ext cx="9431280" cy="251964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4" name="图片 10" descr="Directory-bg.png"/>
          <p:cNvPicPr/>
          <p:nvPr/>
        </p:nvPicPr>
        <p:blipFill>
          <a:blip r:embed="rId6"/>
          <a:stretch/>
        </p:blipFill>
        <p:spPr>
          <a:xfrm>
            <a:off x="209520" y="-28440"/>
            <a:ext cx="800280" cy="957240"/>
          </a:xfrm>
          <a:prstGeom prst="rect">
            <a:avLst/>
          </a:prstGeom>
          <a:ln w="0">
            <a:noFill/>
          </a:ln>
        </p:spPr>
      </p:pic>
      <p:sp>
        <p:nvSpPr>
          <p:cNvPr id="615" name="TextBox 11"/>
          <p:cNvSpPr/>
          <p:nvPr/>
        </p:nvSpPr>
        <p:spPr>
          <a:xfrm>
            <a:off x="149400" y="136440"/>
            <a:ext cx="9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正准黑简体"/>
                <a:ea typeface="方正正准黑简体"/>
              </a:rPr>
              <a:t>结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6" name="Text Box 2" descr=""/>
          <p:cNvPicPr/>
          <p:nvPr/>
        </p:nvPicPr>
        <p:blipFill>
          <a:blip r:embed="rId7"/>
          <a:stretch/>
        </p:blipFill>
        <p:spPr>
          <a:xfrm>
            <a:off x="4170240" y="3078000"/>
            <a:ext cx="1328760" cy="615960"/>
          </a:xfrm>
          <a:prstGeom prst="rect">
            <a:avLst/>
          </a:prstGeom>
          <a:ln w="0">
            <a:noFill/>
          </a:ln>
        </p:spPr>
      </p:pic>
      <p:pic>
        <p:nvPicPr>
          <p:cNvPr id="617" name="Text Box 2" descr=""/>
          <p:cNvPicPr/>
          <p:nvPr/>
        </p:nvPicPr>
        <p:blipFill>
          <a:blip r:embed="rId8"/>
          <a:stretch/>
        </p:blipFill>
        <p:spPr>
          <a:xfrm>
            <a:off x="6638760" y="3078000"/>
            <a:ext cx="1938600" cy="609840"/>
          </a:xfrm>
          <a:prstGeom prst="rect">
            <a:avLst/>
          </a:prstGeom>
          <a:ln w="0">
            <a:noFill/>
          </a:ln>
        </p:spPr>
      </p:pic>
      <p:pic>
        <p:nvPicPr>
          <p:cNvPr id="618" name="Text Box 2" descr=""/>
          <p:cNvPicPr/>
          <p:nvPr/>
        </p:nvPicPr>
        <p:blipFill>
          <a:blip r:embed="rId9"/>
          <a:stretch/>
        </p:blipFill>
        <p:spPr>
          <a:xfrm>
            <a:off x="8381880" y="-38160"/>
            <a:ext cx="3829320" cy="439920"/>
          </a:xfrm>
          <a:prstGeom prst="rect">
            <a:avLst/>
          </a:prstGeom>
          <a:ln w="0">
            <a:noFill/>
          </a:ln>
        </p:spPr>
      </p:pic>
      <p:pic>
        <p:nvPicPr>
          <p:cNvPr id="619" name="Text Box 2" descr=""/>
          <p:cNvPicPr/>
          <p:nvPr/>
        </p:nvPicPr>
        <p:blipFill>
          <a:blip r:embed="rId10"/>
          <a:stretch/>
        </p:blipFill>
        <p:spPr>
          <a:xfrm>
            <a:off x="-19080" y="6480000"/>
            <a:ext cx="278604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2"/>
          <p:cNvGrpSpPr/>
          <p:nvPr/>
        </p:nvGrpSpPr>
        <p:grpSpPr>
          <a:xfrm>
            <a:off x="1523880" y="0"/>
            <a:ext cx="8466120" cy="6858000"/>
            <a:chOff x="1523880" y="0"/>
            <a:chExt cx="8466120" cy="6858000"/>
          </a:xfrm>
        </p:grpSpPr>
        <p:sp>
          <p:nvSpPr>
            <p:cNvPr id="621" name="矩形 4"/>
            <p:cNvSpPr/>
            <p:nvPr/>
          </p:nvSpPr>
          <p:spPr>
            <a:xfrm>
              <a:off x="214092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2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52388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3" name="TextBox 7"/>
            <p:cNvSpPr/>
            <p:nvPr/>
          </p:nvSpPr>
          <p:spPr>
            <a:xfrm rot="20926800">
              <a:off x="344484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zuazua W</dc:creator>
  <dc:description/>
  <cp:keywords/>
  <dc:language>en-US</dc:language>
  <cp:lastModifiedBy>a</cp:lastModifiedBy>
  <dcterms:modified xsi:type="dcterms:W3CDTF">2014-08-01T06:56:42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