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99EA-F8BE-4345-BE6C-B041D188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C0CC-AA22-4553-9B9F-53FA694E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05048-CE96-4DA2-8BE0-E4600983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3A375-CB47-42D9-AC70-55FEA4DA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498D5-EC5D-44E6-A541-A238906F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1892D-5FE5-4CB6-B12D-BC2BA245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134F6-C17A-404C-8604-12E9D9AD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5AE16-7146-4BD3-936C-AE353DE6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877C0-EC91-498E-8E9D-F3209634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C98C1-A6A7-4E58-966F-74C4040C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2E599-0475-46C9-AE97-D84B978E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25E3E-1A57-413D-9FE3-769CE6CA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B2DE-67F7-4013-BA30-C77B45F7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5F863-90CC-43BB-BF0C-9F22F893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15DDC-A7A8-44A6-A1A1-CB42FC92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2E186-B3B3-487E-8DB7-C897A7A4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F3683-DD00-4F17-97D7-21BAF136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1EFD4-3EE5-4301-B095-74723D1C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2B173-36FE-4915-B629-3DE60656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5DA95-297C-46A4-8327-1FAB90E6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34DE7-4C1F-4AC0-9824-10CC7A36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37C7D-3051-444A-B679-29792A93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FED69-C78E-4C41-9B9F-638EFEB2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A828-A5BD-4B46-8C3A-B1224FE6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34078-D70C-4E99-AC1A-53BBE0C5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45811-BFC6-4A9C-AC90-C79FDF3A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33772-5DD1-40CE-BAC3-4126D297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968AA-EFEF-4AB6-AF27-07773287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884A4-BEBB-4452-AC65-9A768F00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9846A-6551-4EDE-BA8A-54A11580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DF371-FB89-41D0-B310-9CFC4C34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5B918-995F-4C56-9605-B9C2C308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8236A-3D17-4976-9BC5-7D10C1F0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2F89E-DA11-4BEA-A4FE-897CE960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EA30-A525-41D5-88B1-F840F68D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C46E8-D5A4-4C78-9BF9-2C153BFC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F3E57-6873-444A-A8C0-61020354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A5E31-B750-4CCC-B604-1610126F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EE7C5-F05B-4C18-AFFF-43F0D9328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24BC1-F1A9-408F-9E08-3E9C1A4C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EBA54-CFD4-45D9-BF6F-A0E876C9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4DBD4-4617-4F31-95EF-0F734649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6D9E9-C034-4D6B-9F45-2BEC3B75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728EB-485C-4E17-85A9-17BADDE0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1F97A-39DE-4D30-9BF9-83CF4AFE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01BC-6C26-460E-8811-3EED2116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ED547-E698-4A1B-A9E1-DA83E4EE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FEAB9B-9840-4378-BD78-73DB083B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56CF3-37F1-4E8B-BFDE-00CB13C0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EDCB17-1374-4DA9-ABCA-FFEC2788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B030B-7EA3-45E1-B534-B3E01826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D572E7-CC24-4258-AC6B-C430F84B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3D9E70-7F25-4E49-B3E9-E28C927A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DA85E8-9C1E-4A0D-849F-A6FF24FA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E96745-523A-4177-A52B-64272BBE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D476C1-4513-4595-91F3-D95036B3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C663-626F-4468-ABEE-A2DD9445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C130BC-1CE6-49E0-A8A8-B93FF3BD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19A8C-06CA-48C8-93CE-ACC5371E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3C45B5-EE2B-42FE-BD22-F174D2CB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F58755-417C-4B94-B1D9-E47215B0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8EF182-F364-469F-8300-72543CDB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8D99FE-EB42-41A1-A844-4A836AED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2226CB-45A6-45B9-8E72-215127BA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E2BB-34BA-4117-A9AB-7FCEB3B3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D8BB-92B0-469E-96A8-17C504F0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CDAE-66F6-45D3-A8B1-53F6F31E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AB85-658D-4499-95C8-5416FF58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B8BE-8D32-4D17-9B49-62237EC3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5660-92D5-44AB-95EE-441FE4F6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1BF2-D480-4C57-AEC1-3A020FB4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A237-6D0A-4361-A025-C018B6F7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F126-CE30-43BF-AFC8-672FB5D5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D9FC-793D-48AB-B633-7C65571A3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58410-BE6B-44DA-B1A9-8E94D172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595AC-F9D3-41FD-95AF-01A544B4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9C972-B3EC-492C-9EBF-7D0D4F81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2100C-4BA9-4856-B6A2-B1A5128B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D501C-16BC-4ED1-BF01-B0FC55AA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F52C-C4A6-40FF-A752-5EEDAAC7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32A9F-532D-4492-9702-06D02E0D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A4237-3CE2-4CDD-AE84-D103A6C1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40D33-B5B7-42B1-848C-0316049D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FB15D-59F5-4B86-A6C5-669A79B0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3F860-D354-4AFB-8D16-1AB89F33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A2227-BA28-4921-B6C8-CA802FA1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E1B02-CDD1-4C95-A95B-358A72AE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66896-1542-4CD9-BF24-64055F85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D5797-3AAE-4B01-9121-ED4F06A3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E7353-1E0B-48A8-B3DC-F74774A3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1FDF-7BE4-4374-A6D0-5A909F3B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11E8A-F93F-404D-813B-4DF41F8D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176D2-1A26-4243-A060-F14C507E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3150C-23C5-4A36-9084-8B459B24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79D20-4CB5-4AF9-8911-5307EB42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0C86D-381B-4232-8A16-32B17221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4B37D-25CA-4AB1-BB01-4963DF1D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E0109-F688-46D9-B1F6-E449A11A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E999E-D0C0-4828-909B-F8CD54B1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23782-B85C-4BC4-8C13-BABA92DD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91CC0-4013-4507-A0E1-4605FDFA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3B7B-028B-4EE5-A5B7-AEB1FF6B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616E2-9A73-4656-9DBF-434CF502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2CC04-0012-4ED9-960F-E12D7C19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05495-1206-4645-B10E-72BBB828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067A9-DEE4-4FE9-8070-DCB6F97D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C7E54-FD77-4175-9A60-7CC066F7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64368-4FAE-4FF7-8E98-6C7DC8E4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2812C-3A1F-4D4D-8AFE-8434C309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10220-2FFD-40DC-9686-6D7729E8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0D986-011C-4CD7-BC84-37DDB83E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49790-B8D7-44B5-935E-F96F4EA4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686E-D05B-4E44-84A5-C943C715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C7A0C-BCB4-4978-BE78-F9FF57C2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19610-2837-4FFB-8BD1-C60F67AD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B074E-E8A4-420E-B28B-2E0DBFF6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69FA1-D2AA-4234-A37D-CCBCEBEC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9465A-83C7-44B6-BBA8-C4D58F41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2ABCD-32F8-4724-9306-5E5D0783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78F3A-271E-4C8A-9FA0-1AE294F0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14992-3244-4ACE-9F28-C548916B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FC774-609A-4C54-87E2-C13D1B67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CA085-9D9E-4C32-9985-E54614C1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6F70-797B-474E-A674-9F5F1A5C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2F423-CBFF-451D-99BE-8EDB75B1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E03B2-A852-4642-9B13-F0CA4C68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43EED-4BF2-478D-86F7-EDAE65D4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2E2FF-6C8C-4793-B418-90BD3B055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A9C8D-2C87-4F51-9945-F07B925A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912E8-7C14-4D4A-96F3-0488E2A7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55973-1D80-45C2-AB93-0D131633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839AA-9DB4-47D1-BC67-64C62293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C02C3-8123-499D-B30A-43F9CF2F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BC259-FC6C-4815-865C-D0BEAB1C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8AE3-8955-47E7-B994-8F79F3E5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ED6BA-7BB2-4DE4-9970-F8B61FE8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8B941-1329-4854-8845-EF43B38F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AD9C0-3FC2-469A-831A-CDAF4699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0F46A-5CEB-419B-94A6-A9EB3200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C2C30-7619-49D2-B2C3-56ACB57C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6D7B8-2803-4D07-94EB-18B614C5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60882-6841-4235-82A8-A97BCCB8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57918-82B1-4950-808A-AED0D62D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F4AC4-8F87-4C74-9C86-BFC16CFB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57CDA-E07A-4C95-A8D4-06817C4E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C619-E820-4124-8619-4AE70ED8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2043D-B4A9-4B80-8A07-016502A4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ACB22-A569-452F-AA45-29D8EA69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69FBA-1FD5-4C14-B4BA-1A34B94F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80F61-1046-4264-878A-78C95FAA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E13F4-AEAF-4879-B550-72C40B3B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6DEE8-60C0-41BB-B7AE-B63E7DDB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A89DD-D295-46F9-B006-F17BB140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B9051-2C41-479A-A63D-BB15162D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973E2-B4CE-467D-80FB-EF115466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BE766-EFC5-486E-B0FE-5D59E039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99CA-E29D-485F-85DA-26F0647478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FFE1-0BDF-4A19-84AE-16815311EB3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5A3A-B5D6-4F4A-8211-47091761210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0A40-7902-4CBA-8751-D3A404D6A99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FA3D-FE90-45B1-9362-F994D759DEC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0328-EC63-4BF8-8393-2830CAEB834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3295-3FF3-4456-BBEA-AEFA5AE15F2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658B-202C-45FE-AC29-4941065FB6D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0405-9243-4827-9A23-CA08B4E9C66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8B39-2B23-4385-83A8-50A5868A78D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57AF-A28D-4B5E-8059-8164BF32FD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39E6-62D4-41D9-AA1E-717FBACCF95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E4C2-0048-4BBE-B917-BE3FB499EEB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6D34-BE08-4C01-AB48-6DF6E4C38A1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7E4E-BB10-48E3-A669-F654292FC6A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BBF5-C62E-47DC-863C-C2542A98468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DABD-3AD1-4F2D-B8CC-5A58618F3CF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F351-D52D-42B2-8C1A-3AD92B4A1D3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6B47-D19B-44AB-8092-C9D0DA63B57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C4B0-D941-402A-ADC1-EE2408548A0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D931-7BF2-4C57-954D-C6C5850B64E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395D-1818-4813-A588-67B3FC54095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E50A-6730-43B7-8E31-7B3686B7DF9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2ED8-17A6-4F9D-AE17-0DE7033C28A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EBD4-3885-4F24-9C93-6631CD895FF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4" name="图片 6" descr="封面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TextBox 7"/>
          <p:cNvSpPr/>
          <p:nvPr/>
        </p:nvSpPr>
        <p:spPr>
          <a:xfrm>
            <a:off x="4327560" y="2889720"/>
            <a:ext cx="551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爱设计 爱生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8" descr="目录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Box 3"/>
          <p:cNvSpPr/>
          <p:nvPr/>
        </p:nvSpPr>
        <p:spPr>
          <a:xfrm>
            <a:off x="1557360" y="664920"/>
            <a:ext cx="552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7"/>
          <p:cNvSpPr/>
          <p:nvPr/>
        </p:nvSpPr>
        <p:spPr>
          <a:xfrm>
            <a:off x="1594440" y="101592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  <a:ea typeface="Arial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图片 9" descr="目录图标.png"/>
          <p:cNvPicPr/>
          <p:nvPr/>
        </p:nvPicPr>
        <p:blipFill>
          <a:blip r:embed="rId2"/>
          <a:stretch/>
        </p:blipFill>
        <p:spPr>
          <a:xfrm>
            <a:off x="3851280" y="1685880"/>
            <a:ext cx="4692600" cy="86688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10" descr="目录图标.png"/>
          <p:cNvPicPr/>
          <p:nvPr/>
        </p:nvPicPr>
        <p:blipFill>
          <a:blip r:embed="rId3"/>
          <a:stretch/>
        </p:blipFill>
        <p:spPr>
          <a:xfrm>
            <a:off x="3851280" y="2589120"/>
            <a:ext cx="4692600" cy="86688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11" descr="目录图标.png"/>
          <p:cNvPicPr/>
          <p:nvPr/>
        </p:nvPicPr>
        <p:blipFill>
          <a:blip r:embed="rId4"/>
          <a:stretch/>
        </p:blipFill>
        <p:spPr>
          <a:xfrm>
            <a:off x="3851280" y="3538440"/>
            <a:ext cx="4692600" cy="86544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12" descr="目录图标.png"/>
          <p:cNvPicPr/>
          <p:nvPr/>
        </p:nvPicPr>
        <p:blipFill>
          <a:blip r:embed="rId5"/>
          <a:stretch/>
        </p:blipFill>
        <p:spPr>
          <a:xfrm>
            <a:off x="3851280" y="4543560"/>
            <a:ext cx="4692600" cy="865080"/>
          </a:xfrm>
          <a:prstGeom prst="rect">
            <a:avLst/>
          </a:prstGeom>
          <a:ln w="0">
            <a:noFill/>
          </a:ln>
        </p:spPr>
      </p:pic>
      <p:sp>
        <p:nvSpPr>
          <p:cNvPr id="543" name="TextBox 13"/>
          <p:cNvSpPr/>
          <p:nvPr/>
        </p:nvSpPr>
        <p:spPr>
          <a:xfrm>
            <a:off x="5498280" y="1908000"/>
            <a:ext cx="13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什么是</a:t>
            </a:r>
            <a:r>
              <a:rPr b="0" lang="en-US" sz="1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WPS</a:t>
            </a:r>
            <a:r>
              <a:rPr b="0" lang="zh-CN" sz="1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14"/>
          <p:cNvSpPr/>
          <p:nvPr/>
        </p:nvSpPr>
        <p:spPr>
          <a:xfrm>
            <a:off x="5035680" y="2811600"/>
            <a:ext cx="24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为什么要学习</a:t>
            </a:r>
            <a:r>
              <a:rPr b="0" lang="en-US" sz="1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WPS</a:t>
            </a:r>
            <a:r>
              <a:rPr b="0" lang="zh-CN" sz="1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15"/>
          <p:cNvSpPr/>
          <p:nvPr/>
        </p:nvSpPr>
        <p:spPr>
          <a:xfrm>
            <a:off x="5274000" y="378216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WPS</a:t>
            </a:r>
            <a:r>
              <a:rPr b="0" lang="zh-CN" sz="1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能给我们带来什么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16"/>
          <p:cNvSpPr/>
          <p:nvPr/>
        </p:nvSpPr>
        <p:spPr>
          <a:xfrm>
            <a:off x="5425200" y="4786920"/>
            <a:ext cx="13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如何学好</a:t>
            </a:r>
            <a:r>
              <a:rPr b="0" lang="en-US" sz="1800" spc="-1" strike="noStrike">
                <a:solidFill>
                  <a:srgbClr val="000000"/>
                </a:solidFill>
                <a:latin typeface="方正正中黑简体"/>
                <a:ea typeface="方正正中黑简体"/>
              </a:rPr>
              <a:t>WP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图片 2" descr="过渡页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5" descr="过渡页图标.png"/>
          <p:cNvPicPr/>
          <p:nvPr/>
        </p:nvPicPr>
        <p:blipFill>
          <a:blip r:embed="rId2"/>
          <a:stretch/>
        </p:blipFill>
        <p:spPr>
          <a:xfrm>
            <a:off x="3213000" y="1271520"/>
            <a:ext cx="5765760" cy="4314960"/>
          </a:xfrm>
          <a:prstGeom prst="rect">
            <a:avLst/>
          </a:prstGeom>
          <a:ln w="0">
            <a:noFill/>
          </a:ln>
        </p:spPr>
      </p:pic>
      <p:sp>
        <p:nvSpPr>
          <p:cNvPr id="549" name="TextBox 4"/>
          <p:cNvSpPr/>
          <p:nvPr/>
        </p:nvSpPr>
        <p:spPr>
          <a:xfrm>
            <a:off x="5769000" y="3353400"/>
            <a:ext cx="13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什么是</a:t>
            </a:r>
            <a:r>
              <a:rPr b="0" lang="en-US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WPS</a:t>
            </a:r>
            <a:r>
              <a:rPr b="0" lang="zh-CN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图片 4" descr="内容页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TextBox 3"/>
          <p:cNvSpPr/>
          <p:nvPr/>
        </p:nvSpPr>
        <p:spPr>
          <a:xfrm>
            <a:off x="1924560" y="654840"/>
            <a:ext cx="23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一、初步接触</a:t>
            </a:r>
            <a:r>
              <a:rPr b="0" lang="en-US" sz="18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WPS OFF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2" name="图片 5" descr="内容页图标.png"/>
          <p:cNvPicPr/>
          <p:nvPr/>
        </p:nvPicPr>
        <p:blipFill>
          <a:blip r:embed="rId2"/>
          <a:stretch/>
        </p:blipFill>
        <p:spPr>
          <a:xfrm>
            <a:off x="700200" y="450720"/>
            <a:ext cx="1015920" cy="944640"/>
          </a:xfrm>
          <a:prstGeom prst="rect">
            <a:avLst/>
          </a:prstGeom>
          <a:ln w="0">
            <a:noFill/>
          </a:ln>
        </p:spPr>
      </p:pic>
      <p:sp>
        <p:nvSpPr>
          <p:cNvPr id="553" name="TextBox 6"/>
          <p:cNvSpPr/>
          <p:nvPr/>
        </p:nvSpPr>
        <p:spPr>
          <a:xfrm>
            <a:off x="2822400" y="3251160"/>
            <a:ext cx="66945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9d9d9"/>
                </a:solidFill>
                <a:latin typeface="宋体"/>
              </a:rPr>
              <a:t>WPS (Word Processing System),</a:t>
            </a:r>
            <a:r>
              <a:rPr b="0" lang="zh-CN" sz="1400" spc="-1" strike="noStrike">
                <a:solidFill>
                  <a:srgbClr val="d9d9d9"/>
                </a:solidFill>
                <a:latin typeface="宋体"/>
              </a:rPr>
              <a:t>中文意为文字编辑系统，是金山软件公司的一种办公软件。最初出现于</a:t>
            </a:r>
            <a:r>
              <a:rPr b="0" lang="en-US" sz="1400" spc="-1" strike="noStrike">
                <a:solidFill>
                  <a:srgbClr val="d9d9d9"/>
                </a:solidFill>
                <a:latin typeface="宋体"/>
              </a:rPr>
              <a:t>1989</a:t>
            </a:r>
            <a:r>
              <a:rPr b="0" lang="zh-CN" sz="1400" spc="-1" strike="noStrike">
                <a:solidFill>
                  <a:srgbClr val="d9d9d9"/>
                </a:solidFill>
                <a:latin typeface="宋体"/>
              </a:rPr>
              <a:t>年，在微软</a:t>
            </a:r>
            <a:r>
              <a:rPr b="0" lang="en-US" sz="1400" spc="-1" strike="noStrike">
                <a:solidFill>
                  <a:srgbClr val="d9d9d9"/>
                </a:solidFill>
                <a:latin typeface="宋体"/>
              </a:rPr>
              <a:t>Windows</a:t>
            </a:r>
            <a:r>
              <a:rPr b="0" lang="zh-CN" sz="1400" spc="-1" strike="noStrike">
                <a:solidFill>
                  <a:srgbClr val="d9d9d9"/>
                </a:solidFill>
                <a:latin typeface="宋体"/>
              </a:rPr>
              <a:t>系统出现以前，</a:t>
            </a:r>
            <a:r>
              <a:rPr b="0" lang="en-US" sz="1400" spc="-1" strike="noStrike">
                <a:solidFill>
                  <a:srgbClr val="d9d9d9"/>
                </a:solidFill>
                <a:latin typeface="宋体"/>
              </a:rPr>
              <a:t>DOS</a:t>
            </a:r>
            <a:r>
              <a:rPr b="0" lang="zh-CN" sz="1400" spc="-1" strike="noStrike">
                <a:solidFill>
                  <a:srgbClr val="d9d9d9"/>
                </a:solidFill>
                <a:latin typeface="宋体"/>
              </a:rPr>
              <a:t>系统盛行的年代，</a:t>
            </a:r>
            <a:r>
              <a:rPr b="0" lang="en-US" sz="1400" spc="-1" strike="noStrike">
                <a:solidFill>
                  <a:srgbClr val="d9d9d9"/>
                </a:solidFill>
                <a:latin typeface="宋体"/>
              </a:rPr>
              <a:t>WPS</a:t>
            </a:r>
            <a:r>
              <a:rPr b="0" lang="zh-CN" sz="1400" spc="-1" strike="noStrike">
                <a:solidFill>
                  <a:srgbClr val="d9d9d9"/>
                </a:solidFill>
                <a:latin typeface="宋体"/>
              </a:rPr>
              <a:t>曾是中国最流行的文字处理软件，现在</a:t>
            </a:r>
            <a:r>
              <a:rPr b="0" lang="en-US" sz="1400" spc="-1" strike="noStrike">
                <a:solidFill>
                  <a:srgbClr val="d9d9d9"/>
                </a:solidFill>
                <a:latin typeface="宋体"/>
              </a:rPr>
              <a:t>WPS</a:t>
            </a:r>
            <a:r>
              <a:rPr b="0" lang="zh-CN" sz="1400" spc="-1" strike="noStrike">
                <a:solidFill>
                  <a:srgbClr val="d9d9d9"/>
                </a:solidFill>
                <a:latin typeface="宋体"/>
              </a:rPr>
              <a:t>最新正式版为</a:t>
            </a:r>
            <a:r>
              <a:rPr b="0" lang="en-US" sz="1400" spc="-1" strike="noStrike">
                <a:solidFill>
                  <a:srgbClr val="d9d9d9"/>
                </a:solidFill>
                <a:latin typeface="宋体"/>
              </a:rPr>
              <a:t>WPS2012</a:t>
            </a:r>
            <a:r>
              <a:rPr b="0" lang="zh-CN" sz="1400" spc="-1" strike="noStrike">
                <a:solidFill>
                  <a:srgbClr val="d9d9d9"/>
                </a:solidFill>
                <a:latin typeface="宋体"/>
              </a:rPr>
              <a:t>，另外</a:t>
            </a:r>
            <a:r>
              <a:rPr b="0" lang="en-US" sz="1400" spc="-1" strike="noStrike">
                <a:solidFill>
                  <a:srgbClr val="d9d9d9"/>
                </a:solidFill>
                <a:latin typeface="宋体"/>
              </a:rPr>
              <a:t>WPS 2009</a:t>
            </a:r>
            <a:r>
              <a:rPr b="0" lang="zh-CN" sz="1400" spc="-1" strike="noStrike">
                <a:solidFill>
                  <a:srgbClr val="d9d9d9"/>
                </a:solidFill>
                <a:latin typeface="宋体"/>
              </a:rPr>
              <a:t>专业版也已面世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图片 2" descr="封面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TextBox 3"/>
          <p:cNvSpPr/>
          <p:nvPr/>
        </p:nvSpPr>
        <p:spPr>
          <a:xfrm>
            <a:off x="4448160" y="2889720"/>
            <a:ext cx="287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000"/>
                </a:solidFill>
                <a:latin typeface="方正正中黑简体"/>
                <a:ea typeface="方正正中黑简体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57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2T02:20:10Z</dcterms:modified>
  <cp:revision>1</cp:revision>
  <dc:subject/>
  <dc:title>PowerPoint 演示文稿</dc:title>
</cp:coreProperties>
</file>