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524-7C3C-4FDE-A636-32C48280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3B9D-63C1-413A-9B07-85D7F602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1F2F6-FB94-4102-BB9A-82CF0E24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D7ADF-CEAB-44D4-8F43-A4C5E28B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ECC5E-F54D-416D-8840-F09F4E1F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A9BA2-2F9C-4585-B074-C18BC44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20605-8059-46D6-BE78-8024072A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808B5-FB0C-4E4B-8EBB-FCD12F48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53FF5-066D-4B7B-B8F3-059E6A88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48C6E-37E2-4A75-983B-F67786C6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DDC9B-AF4D-4F72-AAEC-8E57148D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589FA-EF03-4BF5-83F8-50AB41EE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A4B-2CA9-450D-8AF5-AD281809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0D20E-D408-4669-97C2-999DA849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F9B16-1FFF-497B-BD07-F491BFB0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DF5E5-5D51-48C5-A5E1-DBA8A27C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DB94B-DFEF-4BFA-99D5-11C66498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DC76E-A628-4F37-97E0-54A4E2C4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5326A-AD8E-4910-BBE3-1216E8FB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EC2A2-1034-492D-9A5F-5928DBFA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4A87D-B4FF-4C55-B9D4-7B6320C9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FBD7F-0C39-40FC-86C4-EC108840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9E4A4-37B4-43B0-873B-110741A6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89E-E5E8-4619-9491-DF035069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BF4FC-E323-4988-8142-ABE8849A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0A1BE-52C1-4E76-A5A6-003A4692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068B3-29AC-432B-B1A4-C421CC15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7FEB5-ABEB-419B-B5F0-CEB12244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032D4-0E00-42CB-8170-77CFAB35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62931-F8BE-46BD-85A1-D09AFA3F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5D6AB-6A77-4F0D-AB97-1C30D4BC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CBE53-0CF7-4F7F-BD5B-77BADD7B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2466D-08F1-4F15-ABEA-FBD5C2C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A1A1B-3001-49B1-A1C2-18461B0B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5A51-65AE-41E4-B42F-E33751FD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B0622-E11A-4967-A81C-05B02ED2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92410-B622-42FD-897B-6126E1DA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EBA67-C989-4C8F-B03B-45E2723C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47091-A8F3-4839-BD8E-1B828DCD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4DA1A-8460-411B-AF57-66EB7312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94A17-F9B0-4699-9D8E-8AB82A69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84B99-3746-4C9B-808F-4FFC5207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DC934-6CEB-4939-8501-C611FE67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02D99-4F1C-4EA3-9068-689065CE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7B44D-10CD-4E69-B46A-87E4F846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375B-1E7B-4BF3-A12F-A17B617E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2FD42-F624-4F4B-98C1-4DDB48D1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8E0CA-5132-470F-A655-60D172F6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37D7D-396E-45F6-A5CE-06C7C57D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A23AA-CCF3-4A2E-AABC-A67E3EAB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43FD8-1784-4483-BC6E-50EEDD4D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0F43F-34F2-4238-89F9-140EAE37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19BDC-7DCF-48EF-B527-E30BF56F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74982-527C-4178-A41E-B013F884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896CF-0CC6-4393-8603-E713170C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ED060-508E-4BCA-AC5C-5FBC85AD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94B1-4C8F-4A1E-A7A5-A69CB630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B78C9-3296-43F9-B2E6-2090553E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C8AF8-2EA0-4A67-BAB0-97C050D9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7E2A5-01DF-42AE-B307-36BC2D1E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2082A-5B0F-4933-9750-DA225271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3C674-E386-42EE-B5F5-A986F30D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0EBFC-CD70-4FD5-ACB1-9A32CF7A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0A6C4-12EB-4F12-B00A-B9DF0C0B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4CFE-0BB8-46F4-9597-C2CE8030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B1C6-EF8E-4C8F-B5DF-FB1FAD6C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55F3-769E-446C-8AD7-2FFE538B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690D-6093-4521-8BE2-B96B508C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C06-5FC7-4019-8FE1-D0FAB1D5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5F60-E5DB-4EA3-9A67-4DAE6B2F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AFC4-61D3-4309-BEA2-359FF553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89D8-C025-4CBC-AB8B-58B3032B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F097-AD1E-4D1E-A04C-6DBE9C57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BE60-159C-49CE-B58F-64330B16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CC60-9E36-4FC8-8AAC-A7D22ABE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C118-73CF-48C8-BF81-A88611E9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FD92-AB82-4B20-AE39-DB077540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0156-D9C6-44E2-A852-88A0DBA1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BAB7-6276-4DEB-BC7E-D4EC6500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DF6-D0DB-4083-AF90-ACCD8461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6AF9-F454-49CD-8870-033F68F0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081D3-6883-4989-B09D-5E8DB217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6712-0928-4699-90E0-8A06D232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F0C7-EE4D-4B83-BF5A-54410A93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26C5D-1E96-4D61-B349-B2FA0839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2EB2-367D-44AA-88D0-F3949A2A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58C4A-BC0A-4C31-A2A0-3347C075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5BF39-C199-43F3-BF28-68C11EBD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A0344-8C8F-498C-AE12-7F74E27D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3F822-412E-4CD8-9D02-D17C0446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024-D0A9-4E22-B1F9-E6A0A541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EB0FE-E635-4D24-8761-A9EBD8FB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BE2B-13E8-420B-8E3F-1DC92752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B98B-CECA-4022-AFDF-8AEF6C04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C63E5-7753-40F2-B9E8-E8F48572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A9600-EEDE-4A1A-8503-E4B3A98A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740F0-42A7-4D54-85A3-C7152828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3154-5A65-4F5C-8BC7-C6E1E4BF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8DC9A-ECBA-4D48-9551-8CE97167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D3F93-A3FE-41B0-996B-6D676B42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6E672-90D1-4B1F-A3E7-C71A7C8A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8E3-6571-4A4D-AA68-78C12D01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13935-EC20-44CA-BF35-B0331F8A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8FA30-2CCF-4896-83FD-98FCC260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2C0C4-EF6E-4B98-906B-E078E904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6C369-BF40-48AA-B34B-832E7FB1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0BBF2-6BBE-4A76-B334-DDCBBF7B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9394-2C03-45BA-A125-6FB78509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3BDD2-0819-45A4-B6C9-D31BFFB0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B68C5-A33F-4025-BB45-44705F63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AB1AD-02AD-4C01-86B9-F95303DB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EE1A9-A98D-4402-BA19-29AFB1A8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BFF-C0E1-4BA4-82B2-2912F3CB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3D99F-E3F3-4931-9578-AF804988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18790-40DA-4594-A3D6-856F3778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F3AD8-0B9C-40E3-BD19-6358B6F3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A46D6-FD1C-4C4B-8A33-3242103E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B7C64-3C21-4103-9073-2809AB8E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5A5AF-EFAD-44AF-9A87-F1053749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7739E-F8ED-4694-8124-B8B6E321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BD4F9-7CB7-4B7F-801B-B879683D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5D8D6-6614-4E88-8C01-34B13474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1C0D8-0087-418C-9A3B-C0405B5C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D93-9AB5-47B7-BED4-6BDFDE1F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F937C-1CC3-4DF0-8393-6B96E507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8A9EF-70C6-44C9-9BB0-24D7C531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0F302-F085-43C5-B760-246C5907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2FD75-01F8-48CC-983B-8A082473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FF0AF-C977-4F56-B55F-120BD0F2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6979E-38C9-4A01-871C-EAAE29AE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D152D-4661-4B8A-8B5F-26BC68E0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0693F-0B9A-4A02-949C-E8C34C19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E6459-4813-4FDC-A489-8C369632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0E7F7-3E40-4E5E-AF3D-E95F70A7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E84-BFDB-4B1A-840F-31A5D07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D85EC-61AA-4091-8C62-C4F4C40F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A888D-EE48-4960-97E9-9B58DEA4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77265-16D1-4A7D-95A7-C7940414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6E112-3264-4BF2-B1BA-77BEDF00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31BDE-91AA-40F3-8B91-E4096D81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FEBEC-88C4-4007-97D1-A921A188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FBD10-5B79-4AEF-8437-1B2FF452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79C09-4B54-43C9-AD5D-B1DDDC43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6F5C6-6357-4469-9F16-0A0A8771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7FC66-F670-4DA3-938D-3AFB8EBF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673-3C48-49DE-A3E4-126BCAED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D3EE0-2E1A-4257-99E1-4F846314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18CB2-8D64-4CF4-B30B-DABE4CB2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5723B-BFF5-45C3-9D08-B3F36404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0CAEE-4CD8-42E0-AA44-0165A4F8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FF86D-DA8D-4CC5-9C41-F38F755D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FC235-7E40-4E6C-B71D-7DB237C2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5A0CC-3EC7-4E7C-9619-C2B79577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E774D-0542-467E-A09B-F469FF16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0BF12-1DCE-470C-AC6D-242A7AAE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B2B38-C6BC-417D-B442-FE66D0CD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384B-49D3-4B21-A51A-37EB96955A2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5F60-8FD2-4D5B-97E6-AD4140BD5E32}" type="datetime">
              <a:rPr b="0" lang="zh-CN" sz="1400" spc="-1" strike="noStrike">
                <a:solidFill>
                  <a:srgbClr val="000000"/>
                </a:solidFill>
                <a:latin typeface="微软雅黑"/>
              </a:rPr>
              <a:t>26/7/29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6297-345C-4AF7-A5C5-408794A4C64F}" type="slidenum">
              <a:rPr b="0" lang="zh-CN" sz="14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633E-18E1-47E8-8023-50945DA367E0}" type="datetime">
              <a:rPr b="0" lang="zh-CN" sz="1400" spc="-1" strike="noStrike">
                <a:solidFill>
                  <a:srgbClr val="000000"/>
                </a:solidFill>
                <a:latin typeface="微软雅黑"/>
              </a:rPr>
              <a:t>26/7/29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74D9-F38E-4B43-A858-66235F38051C}" type="slidenum">
              <a:rPr b="0" lang="zh-CN" sz="14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4D5C-C6B4-4222-A88D-15DE6C4BD7CD}" type="datetime">
              <a:rPr b="0" lang="zh-CN" sz="1400" spc="-1" strike="noStrike">
                <a:solidFill>
                  <a:srgbClr val="000000"/>
                </a:solidFill>
                <a:latin typeface="微软雅黑"/>
              </a:rPr>
              <a:t>26/7/29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8B40-93F2-427A-8153-7CD0326278CC}" type="slidenum">
              <a:rPr b="0" lang="zh-CN" sz="14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55AC-94F7-4360-B42E-3F959631D9B8}" type="datetime">
              <a:rPr b="0" lang="zh-CN" sz="1400" spc="-1" strike="noStrike">
                <a:solidFill>
                  <a:srgbClr val="000000"/>
                </a:solidFill>
                <a:latin typeface="微软雅黑"/>
              </a:rPr>
              <a:t>26/7/29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0967-6E6E-4C0E-B962-147F69D90DE8}" type="slidenum">
              <a:rPr b="0" lang="zh-CN" sz="14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3E31-9911-4DE4-A666-EBD4D341D8A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67E3-1F3B-41FA-8D7C-5D7DB2DEBF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0101-6A14-4DF8-B68A-E3A23158BFB6}" type="datetime">
              <a:rPr b="0" lang="zh-CN" sz="1400" spc="-1" strike="noStrike">
                <a:solidFill>
                  <a:srgbClr val="000000"/>
                </a:solidFill>
                <a:latin typeface="微软雅黑"/>
              </a:rPr>
              <a:t>26/7/29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C169-9D51-439F-BB9E-196BE09E4317}" type="slidenum">
              <a:rPr b="0" lang="zh-CN" sz="14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5E98-8AA9-4463-B2FF-53693608F7B4}" type="datetime">
              <a:rPr b="0" lang="zh-CN" sz="1400" spc="-1" strike="noStrike">
                <a:solidFill>
                  <a:srgbClr val="000000"/>
                </a:solidFill>
                <a:latin typeface="微软雅黑"/>
              </a:rPr>
              <a:t>26/7/29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190F-D7A2-404D-B91B-FEC86C9DBC62}" type="slidenum">
              <a:rPr b="0" lang="zh-CN" sz="14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9B68-7D9F-4EBF-A65F-2FD9DB639627}" type="datetime">
              <a:rPr b="0" lang="zh-CN" sz="1400" spc="-1" strike="noStrike">
                <a:solidFill>
                  <a:srgbClr val="000000"/>
                </a:solidFill>
                <a:latin typeface="微软雅黑"/>
              </a:rPr>
              <a:t>26/7/29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6366-26C4-4D80-9C86-E92C771A9A15}" type="slidenum">
              <a:rPr b="0" lang="zh-CN" sz="14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232B-3AA5-4455-A102-E71C22629A0D}" type="datetime">
              <a:rPr b="0" lang="zh-CN" sz="1400" spc="-1" strike="noStrike">
                <a:solidFill>
                  <a:srgbClr val="000000"/>
                </a:solidFill>
                <a:latin typeface="微软雅黑"/>
              </a:rPr>
              <a:t>26/7/29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560C-C352-40E5-8585-8815808ADD08}" type="slidenum">
              <a:rPr b="0" lang="zh-CN" sz="14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7868-3A4D-4E5A-AFFE-0F301D999D17}" type="datetime">
              <a:rPr b="0" lang="zh-CN" sz="1400" spc="-1" strike="noStrike">
                <a:solidFill>
                  <a:srgbClr val="000000"/>
                </a:solidFill>
                <a:latin typeface="微软雅黑"/>
              </a:rPr>
              <a:t>26/7/29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77D6-A13A-40EE-BBD8-5EE1FEBE80D9}" type="slidenum">
              <a:rPr b="0" lang="zh-CN" sz="14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CA3C-7195-4467-BD7E-EC8B8E510CA4}" type="datetime">
              <a:rPr b="0" lang="zh-CN" sz="1400" spc="-1" strike="noStrike">
                <a:solidFill>
                  <a:srgbClr val="000000"/>
                </a:solidFill>
                <a:latin typeface="微软雅黑"/>
              </a:rPr>
              <a:t>26/7/29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0849-C7BB-4B7E-9839-8764B8797160}" type="slidenum">
              <a:rPr b="0" lang="zh-CN" sz="14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CAC7-4F63-4739-8F9A-0194C118E67B}" type="datetime">
              <a:rPr b="0" lang="zh-CN" sz="1400" spc="-1" strike="noStrike">
                <a:solidFill>
                  <a:srgbClr val="000000"/>
                </a:solidFill>
                <a:latin typeface="微软雅黑"/>
              </a:rPr>
              <a:t>26/7/29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14D4-7147-45E6-9C2A-EE75D56ACD9E}" type="slidenum">
              <a:rPr b="0" lang="zh-CN" sz="14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4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0" y="1857240"/>
            <a:ext cx="9144000" cy="1214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" y="1785600"/>
            <a:ext cx="6072120" cy="146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xure RP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本功能介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Box 4"/>
          <p:cNvSpPr/>
          <p:nvPr/>
        </p:nvSpPr>
        <p:spPr>
          <a:xfrm>
            <a:off x="34776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9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78" name="矩形 6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7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80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81" name="TextBox 13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7343640" cy="4057560"/>
          </a:xfrm>
          <a:prstGeom prst="rect">
            <a:avLst/>
          </a:prstGeom>
          <a:ln w="0">
            <a:noFill/>
          </a:ln>
        </p:spPr>
      </p:pic>
      <p:sp>
        <p:nvSpPr>
          <p:cNvPr id="683" name="TextBox 11"/>
          <p:cNvSpPr/>
          <p:nvPr/>
        </p:nvSpPr>
        <p:spPr>
          <a:xfrm>
            <a:off x="428760" y="13572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矩形的形状变化，其中，圆角的大小是可以控制的，使用不同的形状得到一些组合形状。</a:t>
            </a:r>
            <a:endParaRPr b="0" lang="en-US" sz="20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3143160" y="1857240"/>
            <a:ext cx="5486400" cy="4010040"/>
          </a:xfrm>
          <a:prstGeom prst="rect">
            <a:avLst/>
          </a:prstGeom>
          <a:ln w="0">
            <a:noFill/>
          </a:ln>
        </p:spPr>
      </p:pic>
      <p:sp>
        <p:nvSpPr>
          <p:cNvPr id="685" name="TextBox 4"/>
          <p:cNvSpPr/>
          <p:nvPr/>
        </p:nvSpPr>
        <p:spPr>
          <a:xfrm>
            <a:off x="-9144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10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86" name="矩形 1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87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88" name="圆角矩形 17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89" name="TextBox 18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90" name="TextBox 20"/>
          <p:cNvSpPr/>
          <p:nvPr/>
        </p:nvSpPr>
        <p:spPr>
          <a:xfrm>
            <a:off x="357120" y="135720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矩形的形状变化，其中，圆角的大小是可以控制的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;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使用不同的形状进行组合可以得到一些组合形状。</a:t>
            </a:r>
            <a:endParaRPr b="0" lang="en-US" sz="20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691" name="Picture 4" descr=""/>
          <p:cNvPicPr/>
          <p:nvPr/>
        </p:nvPicPr>
        <p:blipFill>
          <a:blip r:embed="rId2"/>
          <a:stretch/>
        </p:blipFill>
        <p:spPr>
          <a:xfrm>
            <a:off x="3643200" y="2857680"/>
            <a:ext cx="45547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93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94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95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面板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96" name="TextBox 12"/>
          <p:cNvSpPr/>
          <p:nvPr/>
        </p:nvSpPr>
        <p:spPr>
          <a:xfrm>
            <a:off x="500040" y="135720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块是一种可重复利用的页面，比如页面的模板、导航栏、页首、页脚等这些类似的元素都可以通过模块来调用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使用模块的好处是：修改模块时，原型中所有使用该模块的地方都会跟着一起修改。这样在设计时可以提高效率并且易于管理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块的面板和站点地图有点类似。可以添加、组织、编辑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97" name="TextBox 14"/>
          <p:cNvSpPr/>
          <p:nvPr/>
        </p:nvSpPr>
        <p:spPr>
          <a:xfrm>
            <a:off x="-16380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11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grpSp>
        <p:nvGrpSpPr>
          <p:cNvPr id="698" name="Group 8"/>
          <p:cNvGrpSpPr/>
          <p:nvPr/>
        </p:nvGrpSpPr>
        <p:grpSpPr>
          <a:xfrm>
            <a:off x="714240" y="3929040"/>
            <a:ext cx="2513160" cy="1500120"/>
            <a:chOff x="714240" y="3929040"/>
            <a:chExt cx="2513160" cy="1500120"/>
          </a:xfrm>
        </p:grpSpPr>
        <p:pic>
          <p:nvPicPr>
            <p:cNvPr id="699" name="Picture 2" descr=""/>
            <p:cNvPicPr/>
            <p:nvPr/>
          </p:nvPicPr>
          <p:blipFill>
            <a:blip r:embed="rId1"/>
            <a:stretch/>
          </p:blipFill>
          <p:spPr>
            <a:xfrm>
              <a:off x="714240" y="3929040"/>
              <a:ext cx="25131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圆角矩形 17"/>
            <p:cNvSpPr/>
            <p:nvPr/>
          </p:nvSpPr>
          <p:spPr>
            <a:xfrm>
              <a:off x="714240" y="411012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701" name="圆角矩形 18"/>
            <p:cNvSpPr/>
            <p:nvPr/>
          </p:nvSpPr>
          <p:spPr>
            <a:xfrm>
              <a:off x="1161720" y="411012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702" name="圆角矩形 19"/>
            <p:cNvSpPr/>
            <p:nvPr/>
          </p:nvSpPr>
          <p:spPr>
            <a:xfrm>
              <a:off x="714240" y="454968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703" name="圆角矩形 20"/>
            <p:cNvSpPr/>
            <p:nvPr/>
          </p:nvSpPr>
          <p:spPr>
            <a:xfrm>
              <a:off x="714240" y="498960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704" name="圆角矩形 21"/>
            <p:cNvSpPr/>
            <p:nvPr/>
          </p:nvSpPr>
          <p:spPr>
            <a:xfrm>
              <a:off x="1556640" y="514476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705" name="圆角矩形 22"/>
            <p:cNvSpPr/>
            <p:nvPr/>
          </p:nvSpPr>
          <p:spPr>
            <a:xfrm>
              <a:off x="2794320" y="411012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706" name="圆角矩形 23"/>
            <p:cNvSpPr/>
            <p:nvPr/>
          </p:nvSpPr>
          <p:spPr>
            <a:xfrm>
              <a:off x="2794320" y="454968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707" name="圆角矩形 24"/>
            <p:cNvSpPr/>
            <p:nvPr/>
          </p:nvSpPr>
          <p:spPr>
            <a:xfrm>
              <a:off x="2794320" y="498960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708" name="圆角矩形 25"/>
            <p:cNvSpPr/>
            <p:nvPr/>
          </p:nvSpPr>
          <p:spPr>
            <a:xfrm>
              <a:off x="1135440" y="514476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</p:grpSp>
      <p:sp>
        <p:nvSpPr>
          <p:cNvPr id="709" name="上箭头标注 26"/>
          <p:cNvSpPr/>
          <p:nvPr/>
        </p:nvSpPr>
        <p:spPr>
          <a:xfrm rot="5400000">
            <a:off x="3214080" y="2643120"/>
            <a:ext cx="285840" cy="5143320"/>
          </a:xfrm>
          <a:prstGeom prst="upArrowCallout">
            <a:avLst>
              <a:gd name="adj1" fmla="val 43439"/>
              <a:gd name="adj2" fmla="val 50000"/>
              <a:gd name="adj3" fmla="val 48650"/>
              <a:gd name="adj4" fmla="val 189192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710" name="Picture 5" descr=""/>
          <p:cNvPicPr/>
          <p:nvPr/>
        </p:nvPicPr>
        <p:blipFill>
          <a:blip r:embed="rId2"/>
          <a:stretch/>
        </p:blipFill>
        <p:spPr>
          <a:xfrm>
            <a:off x="6000840" y="1357200"/>
            <a:ext cx="2806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12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13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14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面板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15" name="TextBox 12"/>
          <p:cNvSpPr/>
          <p:nvPr/>
        </p:nvSpPr>
        <p:spPr>
          <a:xfrm>
            <a:off x="4786200" y="128592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块的行为有三种：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正常、作为背景、自定义组件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16" name="TextBox 14"/>
          <p:cNvSpPr/>
          <p:nvPr/>
        </p:nvSpPr>
        <p:spPr>
          <a:xfrm>
            <a:off x="-1072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12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3952800" cy="4228920"/>
          </a:xfrm>
          <a:prstGeom prst="rect">
            <a:avLst/>
          </a:prstGeom>
          <a:ln w="0">
            <a:noFill/>
          </a:ln>
        </p:spPr>
      </p:pic>
      <p:sp>
        <p:nvSpPr>
          <p:cNvPr id="718" name="椭圆 27"/>
          <p:cNvSpPr/>
          <p:nvPr/>
        </p:nvSpPr>
        <p:spPr>
          <a:xfrm>
            <a:off x="2928960" y="3929040"/>
            <a:ext cx="1714320" cy="1143000"/>
          </a:xfrm>
          <a:prstGeom prst="ellipse">
            <a:avLst/>
          </a:prstGeom>
          <a:solidFill>
            <a:srgbClr val="00cc00">
              <a:alpha val="18000"/>
            </a:srgbClr>
          </a:solidFill>
          <a:ln w="255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19" name="TextBox 29"/>
          <p:cNvSpPr/>
          <p:nvPr/>
        </p:nvSpPr>
        <p:spPr>
          <a:xfrm>
            <a:off x="4857840" y="2214720"/>
            <a:ext cx="36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正常：这是默认状态，就是修改模块时，引用到页面的模块会跟着一起修改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作为背景：当把模块调用到页面时会放置底层并且锁定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定义：这种模块可以在页面中进行修改而不会引起其他模块变化，类似于复制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786120" y="5076720"/>
            <a:ext cx="17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根据不同版本不一定有这个行为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22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23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24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25" name="TextBox 14"/>
          <p:cNvSpPr/>
          <p:nvPr/>
        </p:nvSpPr>
        <p:spPr>
          <a:xfrm>
            <a:off x="-946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13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26" name="TextBox 29"/>
          <p:cNvSpPr/>
          <p:nvPr/>
        </p:nvSpPr>
        <p:spPr>
          <a:xfrm>
            <a:off x="500040" y="1285920"/>
            <a:ext cx="3643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里的交互大致有四种：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定义连接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置动作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个条件场景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页面上的交互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4786200" y="1357200"/>
            <a:ext cx="3990960" cy="2071800"/>
          </a:xfrm>
          <a:prstGeom prst="rect">
            <a:avLst/>
          </a:prstGeom>
          <a:ln w="0">
            <a:noFill/>
          </a:ln>
        </p:spPr>
      </p:pic>
      <p:sp>
        <p:nvSpPr>
          <p:cNvPr id="728" name="TextBox 13"/>
          <p:cNvSpPr/>
          <p:nvPr/>
        </p:nvSpPr>
        <p:spPr>
          <a:xfrm>
            <a:off x="428760" y="357192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前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Axure RP 5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支持的事件如下： 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Click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点击 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MouseEnter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移动到对象上  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MouseOut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移动出对象外  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Focus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进入文字输入状态（获得焦点）  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LostFocus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离开文字输入状态 （失去焦点）  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PageLoad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页面或模块载入 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KeyUp: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释放按键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30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31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32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33" name="TextBox 14"/>
          <p:cNvSpPr/>
          <p:nvPr/>
        </p:nvSpPr>
        <p:spPr>
          <a:xfrm>
            <a:off x="-946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14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34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事件、场景、动作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735" name="组合 58" descr=""/>
          <p:cNvPicPr/>
          <p:nvPr/>
        </p:nvPicPr>
        <p:blipFill>
          <a:blip r:embed="rId1"/>
          <a:stretch/>
        </p:blipFill>
        <p:spPr>
          <a:xfrm>
            <a:off x="237960" y="2023920"/>
            <a:ext cx="4071960" cy="3645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3" descr=""/>
          <p:cNvPicPr/>
          <p:nvPr/>
        </p:nvPicPr>
        <p:blipFill>
          <a:blip r:embed="rId2"/>
          <a:stretch/>
        </p:blipFill>
        <p:spPr>
          <a:xfrm>
            <a:off x="4429080" y="2071800"/>
            <a:ext cx="4438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3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3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4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41" name="TextBox 14"/>
          <p:cNvSpPr/>
          <p:nvPr/>
        </p:nvSpPr>
        <p:spPr>
          <a:xfrm>
            <a:off x="-946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15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4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定义链接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43" name="TextBox 30"/>
          <p:cNvSpPr/>
          <p:nvPr/>
        </p:nvSpPr>
        <p:spPr>
          <a:xfrm>
            <a:off x="428760" y="1928880"/>
            <a:ext cx="35719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义链接可以让一个组件响应一个动作时（如鼠标点击、飘过）链接到其他页面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提供了四种链接方式：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链接到设计中的页面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到外部网址或文件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新载入当前页面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返回上个页面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4143240" y="1285920"/>
            <a:ext cx="4658040" cy="4357800"/>
          </a:xfrm>
          <a:prstGeom prst="rect">
            <a:avLst/>
          </a:prstGeom>
          <a:ln w="0">
            <a:noFill/>
          </a:ln>
        </p:spPr>
      </p:pic>
      <p:sp>
        <p:nvSpPr>
          <p:cNvPr id="745" name="圆角矩形 34"/>
          <p:cNvSpPr/>
          <p:nvPr/>
        </p:nvSpPr>
        <p:spPr>
          <a:xfrm>
            <a:off x="4214880" y="1428840"/>
            <a:ext cx="2500200" cy="2571840"/>
          </a:xfrm>
          <a:custGeom>
            <a:avLst/>
            <a:gdLst>
              <a:gd name="textAreaLeft" fmla="*/ 52920 w 2500200"/>
              <a:gd name="textAreaRight" fmla="*/ 2447280 w 2500200"/>
              <a:gd name="textAreaTop" fmla="*/ 52920 h 2571840"/>
              <a:gd name="textAreaBottom" fmla="*/ 2518920 h 2571840"/>
            </a:gdLst>
            <a:ahLst/>
            <a:rect l="textAreaLeft" t="textAreaTop" r="textAreaRight" b="textAreaBottom"/>
            <a:pathLst>
              <a:path w="21600" h="22219">
                <a:moveTo>
                  <a:pt x="1564" y="0"/>
                </a:moveTo>
                <a:arcTo wR="1564" hR="1564" stAng="16200000" swAng="-5400000"/>
                <a:lnTo>
                  <a:pt x="0" y="20655"/>
                </a:lnTo>
                <a:arcTo wR="1564" hR="1564" stAng="10800000" swAng="-5400000"/>
                <a:lnTo>
                  <a:pt x="20036" y="22219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2844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46" name="圆角矩形 40"/>
          <p:cNvSpPr/>
          <p:nvPr/>
        </p:nvSpPr>
        <p:spPr>
          <a:xfrm>
            <a:off x="4214880" y="4572000"/>
            <a:ext cx="2500200" cy="428760"/>
          </a:xfrm>
          <a:prstGeom prst="roundRect">
            <a:avLst>
              <a:gd name="adj" fmla="val 7241"/>
            </a:avLst>
          </a:prstGeom>
          <a:noFill/>
          <a:ln w="2844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47" name="下箭头 42"/>
          <p:cNvSpPr/>
          <p:nvPr/>
        </p:nvSpPr>
        <p:spPr>
          <a:xfrm rot="2691600">
            <a:off x="6889320" y="181728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48" name="下箭头 43"/>
          <p:cNvSpPr/>
          <p:nvPr/>
        </p:nvSpPr>
        <p:spPr>
          <a:xfrm rot="2691600">
            <a:off x="6889320" y="424620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cxnSp>
        <p:nvCxnSpPr>
          <p:cNvPr id="749" name="直接箭头连接符 45"/>
          <p:cNvCxnSpPr/>
          <p:nvPr/>
        </p:nvCxnSpPr>
        <p:spPr>
          <a:xfrm flipH="1" flipV="1">
            <a:off x="5357520" y="5143320"/>
            <a:ext cx="2000880" cy="2160"/>
          </a:xfrm>
          <a:prstGeom prst="straightConnector1">
            <a:avLst/>
          </a:prstGeom>
          <a:ln w="284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750" name="直角上箭头 56"/>
          <p:cNvSpPr/>
          <p:nvPr/>
        </p:nvSpPr>
        <p:spPr>
          <a:xfrm flipH="1">
            <a:off x="5142960" y="5357880"/>
            <a:ext cx="2214360" cy="285840"/>
          </a:xfrm>
          <a:custGeom>
            <a:avLst/>
            <a:gdLst>
              <a:gd name="textAreaLeft" fmla="*/ -360 w 2214360"/>
              <a:gd name="textAreaRight" fmla="*/ 2167560 w 2214360"/>
              <a:gd name="textAreaTop" fmla="*/ 236520 h 285840"/>
              <a:gd name="textAreaBottom" fmla="*/ 286200 h 285840"/>
            </a:gdLst>
            <a:ahLst/>
            <a:rect l="textAreaLeft" t="textAreaTop" r="textAreaRight" b="textAreaBottom"/>
            <a:pathLst>
              <a:path w="2214578" h="285752">
                <a:moveTo>
                  <a:pt x="0" y="236348"/>
                </a:moveTo>
                <a:lnTo>
                  <a:pt x="2118438" y="236348"/>
                </a:lnTo>
                <a:lnTo>
                  <a:pt x="2118438" y="71438"/>
                </a:lnTo>
                <a:lnTo>
                  <a:pt x="2071702" y="71438"/>
                </a:lnTo>
                <a:lnTo>
                  <a:pt x="2143140" y="0"/>
                </a:lnTo>
                <a:lnTo>
                  <a:pt x="2214578" y="71438"/>
                </a:lnTo>
                <a:lnTo>
                  <a:pt x="2167842" y="71438"/>
                </a:lnTo>
                <a:lnTo>
                  <a:pt x="2167842" y="285752"/>
                </a:lnTo>
                <a:lnTo>
                  <a:pt x="0" y="285752"/>
                </a:lnTo>
                <a:lnTo>
                  <a:pt x="0" y="236348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51" name="TextBox 60"/>
          <p:cNvSpPr/>
          <p:nvPr/>
        </p:nvSpPr>
        <p:spPr>
          <a:xfrm>
            <a:off x="7644960" y="1819440"/>
            <a:ext cx="91224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设计中的页面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52" name="TextBox 61"/>
          <p:cNvSpPr/>
          <p:nvPr/>
        </p:nvSpPr>
        <p:spPr>
          <a:xfrm>
            <a:off x="7561080" y="4214880"/>
            <a:ext cx="66852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外部网址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53" name="TextBox 62"/>
          <p:cNvSpPr/>
          <p:nvPr/>
        </p:nvSpPr>
        <p:spPr>
          <a:xfrm>
            <a:off x="7561080" y="5000760"/>
            <a:ext cx="66852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重新载入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54" name="TextBox 63"/>
          <p:cNvSpPr/>
          <p:nvPr/>
        </p:nvSpPr>
        <p:spPr>
          <a:xfrm>
            <a:off x="7478280" y="5429160"/>
            <a:ext cx="42444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返回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56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57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58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59" name="TextBox 14"/>
          <p:cNvSpPr/>
          <p:nvPr/>
        </p:nvSpPr>
        <p:spPr>
          <a:xfrm>
            <a:off x="-88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16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60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定义链接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4457880" cy="461016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4" descr=""/>
          <p:cNvPicPr/>
          <p:nvPr/>
        </p:nvPicPr>
        <p:blipFill>
          <a:blip r:embed="rId2"/>
          <a:stretch/>
        </p:blipFill>
        <p:spPr>
          <a:xfrm>
            <a:off x="6429240" y="1285920"/>
            <a:ext cx="2524320" cy="1714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763" name="Picture 5" descr=""/>
          <p:cNvPicPr/>
          <p:nvPr/>
        </p:nvPicPr>
        <p:blipFill>
          <a:blip r:embed="rId3"/>
          <a:stretch/>
        </p:blipFill>
        <p:spPr>
          <a:xfrm>
            <a:off x="4429080" y="3000240"/>
            <a:ext cx="4048200" cy="3267360"/>
          </a:xfrm>
          <a:prstGeom prst="rect">
            <a:avLst/>
          </a:prstGeom>
          <a:ln w="0">
            <a:noFill/>
          </a:ln>
        </p:spPr>
      </p:pic>
      <p:cxnSp>
        <p:nvCxnSpPr>
          <p:cNvPr id="764" name="直接箭头连接符 28"/>
          <p:cNvCxnSpPr/>
          <p:nvPr/>
        </p:nvCxnSpPr>
        <p:spPr>
          <a:xfrm flipH="1">
            <a:off x="3928320" y="2428920"/>
            <a:ext cx="3143880" cy="2865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765" name="直接箭头连接符 32"/>
          <p:cNvCxnSpPr/>
          <p:nvPr/>
        </p:nvCxnSpPr>
        <p:spPr>
          <a:xfrm flipH="1">
            <a:off x="2428560" y="2714400"/>
            <a:ext cx="1286640" cy="15721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766" name="直接箭头连接符 35"/>
          <p:cNvCxnSpPr/>
          <p:nvPr/>
        </p:nvCxnSpPr>
        <p:spPr>
          <a:xfrm>
            <a:off x="2428920" y="4500360"/>
            <a:ext cx="3000960" cy="5007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sp>
        <p:nvSpPr>
          <p:cNvPr id="767" name="椭圆 46"/>
          <p:cNvSpPr/>
          <p:nvPr/>
        </p:nvSpPr>
        <p:spPr>
          <a:xfrm>
            <a:off x="7072200" y="1928880"/>
            <a:ext cx="642960" cy="28584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ffc000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cxnSp>
        <p:nvCxnSpPr>
          <p:cNvPr id="768" name="直接箭头连接符 47"/>
          <p:cNvCxnSpPr>
            <a:stCxn id="767" idx="4"/>
          </p:cNvCxnSpPr>
          <p:nvPr/>
        </p:nvCxnSpPr>
        <p:spPr>
          <a:xfrm>
            <a:off x="7394400" y="2214360"/>
            <a:ext cx="36000" cy="285804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769" name="圆角矩形 52"/>
          <p:cNvSpPr/>
          <p:nvPr/>
        </p:nvSpPr>
        <p:spPr>
          <a:xfrm>
            <a:off x="4429080" y="221472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70" name="圆角矩形 53"/>
          <p:cNvSpPr/>
          <p:nvPr/>
        </p:nvSpPr>
        <p:spPr>
          <a:xfrm>
            <a:off x="7500960" y="32860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方法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72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73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74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75" name="TextBox 14"/>
          <p:cNvSpPr/>
          <p:nvPr/>
        </p:nvSpPr>
        <p:spPr>
          <a:xfrm>
            <a:off x="-1573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17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76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动作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77" name="TextBox 19"/>
          <p:cNvSpPr/>
          <p:nvPr/>
        </p:nvSpPr>
        <p:spPr>
          <a:xfrm>
            <a:off x="500040" y="18572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定义链接之外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还可以设置丰富的动作，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，任何可以出发的事件中都可以执行这些动作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1"/>
          <a:stretch/>
        </p:blipFill>
        <p:spPr>
          <a:xfrm>
            <a:off x="4429080" y="1143000"/>
            <a:ext cx="4135320" cy="4786200"/>
          </a:xfrm>
          <a:prstGeom prst="rect">
            <a:avLst/>
          </a:prstGeom>
          <a:ln w="0">
            <a:noFill/>
          </a:ln>
        </p:spPr>
      </p:pic>
      <p:sp>
        <p:nvSpPr>
          <p:cNvPr id="779" name="椭圆 21"/>
          <p:cNvSpPr/>
          <p:nvPr/>
        </p:nvSpPr>
        <p:spPr>
          <a:xfrm>
            <a:off x="7786800" y="1571760"/>
            <a:ext cx="642960" cy="285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80" name="线形标注 2 22"/>
          <p:cNvSpPr/>
          <p:nvPr/>
        </p:nvSpPr>
        <p:spPr>
          <a:xfrm>
            <a:off x="6858000" y="2286000"/>
            <a:ext cx="1357200" cy="57168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87611"/>
              <a:gd name="adj6" fmla="val 72851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后打开高级编辑器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82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83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84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85" name="TextBox 14"/>
          <p:cNvSpPr/>
          <p:nvPr/>
        </p:nvSpPr>
        <p:spPr>
          <a:xfrm>
            <a:off x="-88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18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86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动作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87" name="TextBox 19"/>
          <p:cNvSpPr/>
          <p:nvPr/>
        </p:nvSpPr>
        <p:spPr>
          <a:xfrm>
            <a:off x="500040" y="185724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提供的动作在执行时是自上而下顺序执行的，在基本编辑器里，勾选一些动作后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按照默认的方法生成动作的执行顺序。当这些顺序不能满足需求时，可以尝试使用高级编辑器，可以自定义添加动作、改变执行顺序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788" name="Picture 2" descr=""/>
          <p:cNvPicPr/>
          <p:nvPr/>
        </p:nvPicPr>
        <p:blipFill>
          <a:blip r:embed="rId1"/>
          <a:stretch/>
        </p:blipFill>
        <p:spPr>
          <a:xfrm>
            <a:off x="4071960" y="1285920"/>
            <a:ext cx="4640400" cy="4500360"/>
          </a:xfrm>
          <a:prstGeom prst="rect">
            <a:avLst/>
          </a:prstGeom>
          <a:ln w="0">
            <a:noFill/>
          </a:ln>
        </p:spPr>
      </p:pic>
      <p:sp>
        <p:nvSpPr>
          <p:cNvPr id="789" name="椭圆 15"/>
          <p:cNvSpPr/>
          <p:nvPr/>
        </p:nvSpPr>
        <p:spPr>
          <a:xfrm>
            <a:off x="4143240" y="2214720"/>
            <a:ext cx="642960" cy="285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90" name="线形标注 2 16"/>
          <p:cNvSpPr/>
          <p:nvPr/>
        </p:nvSpPr>
        <p:spPr>
          <a:xfrm>
            <a:off x="5286240" y="3000240"/>
            <a:ext cx="1071720" cy="35748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56240"/>
              <a:gd name="adj6" fmla="val -54092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动作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91" name="椭圆 17"/>
          <p:cNvSpPr/>
          <p:nvPr/>
        </p:nvSpPr>
        <p:spPr>
          <a:xfrm>
            <a:off x="5000760" y="2192400"/>
            <a:ext cx="928440" cy="35712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92" name="线形标注 2 18"/>
          <p:cNvSpPr/>
          <p:nvPr/>
        </p:nvSpPr>
        <p:spPr>
          <a:xfrm>
            <a:off x="6858000" y="3000240"/>
            <a:ext cx="1428840" cy="35748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62407"/>
              <a:gd name="adj6" fmla="val -6643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辑动作顺序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圆角矩形 7"/>
          <p:cNvSpPr/>
          <p:nvPr/>
        </p:nvSpPr>
        <p:spPr>
          <a:xfrm>
            <a:off x="214200" y="1643040"/>
            <a:ext cx="8715600" cy="292896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36" name="矩形 3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996120" y="1857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375e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2071800" y="2643120"/>
            <a:ext cx="246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华文仿宋"/>
                <a:ea typeface="华文仿宋"/>
              </a:rPr>
              <a:t>界面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华文仿宋"/>
                <a:ea typeface="华文仿宋"/>
              </a:rPr>
              <a:t>常用组件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华文仿宋"/>
                <a:ea typeface="华文仿宋"/>
              </a:rPr>
              <a:t>简单交互实现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3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40" name="TextBox 9"/>
          <p:cNvSpPr/>
          <p:nvPr/>
        </p:nvSpPr>
        <p:spPr>
          <a:xfrm>
            <a:off x="27288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1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94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95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96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97" name="TextBox 14"/>
          <p:cNvSpPr/>
          <p:nvPr/>
        </p:nvSpPr>
        <p:spPr>
          <a:xfrm>
            <a:off x="-88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19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98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隶书"/>
                <a:ea typeface="隶书"/>
              </a:rPr>
              <a:t>Axure</a:t>
            </a: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里的动作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799" name="矩形 20"/>
          <p:cNvSpPr/>
          <p:nvPr/>
        </p:nvSpPr>
        <p:spPr>
          <a:xfrm>
            <a:off x="1214280" y="1785960"/>
            <a:ext cx="72154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Current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当前窗口打开一个页面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Popup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弹出的窗口中打开一个页面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Parent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父窗口中打开一个页面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ose Current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关闭当前窗口 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Fram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框架中打开链接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 Parent Fram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父框架中打开链接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Panel state(s) to State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设置动态面板的状态转换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w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显示动态面板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ide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隐藏动态面板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ggle Visibility for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动态面板的可见属性（显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藏）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Move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根据绝对坐标或相对坐标来移动动态面板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01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02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03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04" name="TextBox 14"/>
          <p:cNvSpPr/>
          <p:nvPr/>
        </p:nvSpPr>
        <p:spPr>
          <a:xfrm>
            <a:off x="-34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20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05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隶书"/>
                <a:ea typeface="隶书"/>
              </a:rPr>
              <a:t>Axure</a:t>
            </a: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里的动作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06" name="矩形 20"/>
          <p:cNvSpPr/>
          <p:nvPr/>
        </p:nvSpPr>
        <p:spPr>
          <a:xfrm>
            <a:off x="1214280" y="1854360"/>
            <a:ext cx="73584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ring Pane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 Fro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将动态面板置为最前端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Variable and Widget value(s) equal to Value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设定变量值或控件值 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Parent Fram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父页面的嵌框架中打开一个页面 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roll to Image Map Regio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滚动页面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mage Ma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在位置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able Widget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把对象状态变成可用状态 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isable Widget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把对象状态变成不可用状态 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Focus on Widge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设置焦点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it Time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等待多少毫秒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(m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再进行这个动作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pand Tree Nod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展开树状节点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llapse Tree Nod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折叠树状节点 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the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显示动作的文字说明 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0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0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1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11" name="TextBox 14"/>
          <p:cNvSpPr/>
          <p:nvPr/>
        </p:nvSpPr>
        <p:spPr>
          <a:xfrm>
            <a:off x="-1072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21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1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场景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13" name="TextBox 21"/>
          <p:cNvSpPr/>
          <p:nvPr/>
        </p:nvSpPr>
        <p:spPr>
          <a:xfrm>
            <a:off x="214200" y="2071800"/>
            <a:ext cx="264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事件的发生在不同的场景中结果是不一样的，比如发送信息，发送失败和发送成功返回的结果是不一样的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，这样的多个场景的事件，可以通过条件设置来编辑，不同的条件会触发不同的场景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814" name="Picture 3" descr=""/>
          <p:cNvPicPr/>
          <p:nvPr/>
        </p:nvPicPr>
        <p:blipFill>
          <a:blip r:embed="rId1"/>
          <a:stretch/>
        </p:blipFill>
        <p:spPr>
          <a:xfrm>
            <a:off x="3000240" y="1571760"/>
            <a:ext cx="3730680" cy="38574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" descr=""/>
          <p:cNvPicPr/>
          <p:nvPr/>
        </p:nvPicPr>
        <p:blipFill>
          <a:blip r:embed="rId2"/>
          <a:stretch/>
        </p:blipFill>
        <p:spPr>
          <a:xfrm>
            <a:off x="3571920" y="4214880"/>
            <a:ext cx="5092560" cy="19288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cxnSp>
        <p:nvCxnSpPr>
          <p:cNvPr id="816" name="直接箭头连接符 30"/>
          <p:cNvCxnSpPr/>
          <p:nvPr/>
        </p:nvCxnSpPr>
        <p:spPr>
          <a:xfrm>
            <a:off x="3714840" y="2285640"/>
            <a:ext cx="714960" cy="24296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pic>
        <p:nvPicPr>
          <p:cNvPr id="817" name="Picture 4" descr=""/>
          <p:cNvPicPr/>
          <p:nvPr/>
        </p:nvPicPr>
        <p:blipFill>
          <a:blip r:embed="rId3"/>
          <a:stretch/>
        </p:blipFill>
        <p:spPr>
          <a:xfrm>
            <a:off x="6715080" y="1643040"/>
            <a:ext cx="2238480" cy="1521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cxnSp>
        <p:nvCxnSpPr>
          <p:cNvPr id="818" name="直接箭头连接符 24"/>
          <p:cNvCxnSpPr/>
          <p:nvPr/>
        </p:nvCxnSpPr>
        <p:spPr>
          <a:xfrm flipH="1" flipV="1">
            <a:off x="3928320" y="2142360"/>
            <a:ext cx="3143880" cy="4294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sp>
        <p:nvSpPr>
          <p:cNvPr id="819" name="椭圆 38"/>
          <p:cNvSpPr/>
          <p:nvPr/>
        </p:nvSpPr>
        <p:spPr>
          <a:xfrm>
            <a:off x="7858080" y="4643280"/>
            <a:ext cx="785880" cy="357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20" name="线形标注 2 39"/>
          <p:cNvSpPr/>
          <p:nvPr/>
        </p:nvSpPr>
        <p:spPr>
          <a:xfrm>
            <a:off x="5929200" y="5500800"/>
            <a:ext cx="1428840" cy="35712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50074"/>
              <a:gd name="adj6" fmla="val 144074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删除条件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22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23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24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25" name="TextBox 14"/>
          <p:cNvSpPr/>
          <p:nvPr/>
        </p:nvSpPr>
        <p:spPr>
          <a:xfrm>
            <a:off x="-511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22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26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场景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827" name="Picture 3" descr=""/>
          <p:cNvPicPr/>
          <p:nvPr/>
        </p:nvPicPr>
        <p:blipFill>
          <a:blip r:embed="rId1"/>
          <a:stretch/>
        </p:blipFill>
        <p:spPr>
          <a:xfrm>
            <a:off x="714240" y="3143160"/>
            <a:ext cx="4216680" cy="27147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3" descr=""/>
          <p:cNvPicPr/>
          <p:nvPr/>
        </p:nvPicPr>
        <p:blipFill>
          <a:blip r:embed="rId2"/>
          <a:stretch/>
        </p:blipFill>
        <p:spPr>
          <a:xfrm>
            <a:off x="6357960" y="3571920"/>
            <a:ext cx="2295360" cy="1571760"/>
          </a:xfrm>
          <a:prstGeom prst="rect">
            <a:avLst/>
          </a:prstGeom>
          <a:ln w="0">
            <a:noFill/>
          </a:ln>
        </p:spPr>
      </p:pic>
      <p:sp>
        <p:nvSpPr>
          <p:cNvPr id="829" name="右箭头 13"/>
          <p:cNvSpPr/>
          <p:nvPr/>
        </p:nvSpPr>
        <p:spPr>
          <a:xfrm>
            <a:off x="5214960" y="4143240"/>
            <a:ext cx="1214280" cy="5716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30" name="TextBox 15"/>
          <p:cNvSpPr/>
          <p:nvPr/>
        </p:nvSpPr>
        <p:spPr>
          <a:xfrm>
            <a:off x="1000080" y="1714680"/>
            <a:ext cx="714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发送信息时，有“发送成功”和“发送失败”两个场景：对于“发送成功”来说，有这样的一连串事件：显示“正在发送”、输入框变为空白、等待一段时间后、显示“发送成功”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似的，发送失败时也有这样一串动作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判断消息发送是否成功则是根据实际应用中发送的情况而定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32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33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34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35" name="TextBox 14"/>
          <p:cNvSpPr/>
          <p:nvPr/>
        </p:nvSpPr>
        <p:spPr>
          <a:xfrm>
            <a:off x="-3816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23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36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页面交互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37" name="TextBox 16"/>
          <p:cNvSpPr/>
          <p:nvPr/>
        </p:nvSpPr>
        <p:spPr>
          <a:xfrm>
            <a:off x="928800" y="1785960"/>
            <a:ext cx="7429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支持页面层级的触发事件，当载入一个页面时，就会触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Page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件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Page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件可以为我们设置页面在载入时的初始状态，并可以触发一些我们需要的场景的条件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，一个导航会有一个初始状态和一个选中状态，当我们从一个入口进入到一个页面时，我们希望那个对应的导航按钮时处于选中状态，此时就需要使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Page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件来设置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838" name="Picture 2" descr=""/>
          <p:cNvPicPr/>
          <p:nvPr/>
        </p:nvPicPr>
        <p:blipFill>
          <a:blip r:embed="rId1"/>
          <a:stretch/>
        </p:blipFill>
        <p:spPr>
          <a:xfrm>
            <a:off x="3429000" y="4286160"/>
            <a:ext cx="51436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40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41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42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43" name="TextBox 14"/>
          <p:cNvSpPr/>
          <p:nvPr/>
        </p:nvSpPr>
        <p:spPr>
          <a:xfrm>
            <a:off x="-6120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24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44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845" name="Picture 2" descr=""/>
          <p:cNvPicPr/>
          <p:nvPr/>
        </p:nvPicPr>
        <p:blipFill>
          <a:blip r:embed="rId1"/>
          <a:stretch/>
        </p:blipFill>
        <p:spPr>
          <a:xfrm>
            <a:off x="4214880" y="1857240"/>
            <a:ext cx="4524480" cy="3343320"/>
          </a:xfrm>
          <a:prstGeom prst="rect">
            <a:avLst/>
          </a:prstGeom>
          <a:ln w="0">
            <a:noFill/>
          </a:ln>
        </p:spPr>
      </p:pic>
      <p:sp>
        <p:nvSpPr>
          <p:cNvPr id="846" name="椭圆 13"/>
          <p:cNvSpPr/>
          <p:nvPr/>
        </p:nvSpPr>
        <p:spPr>
          <a:xfrm>
            <a:off x="4214880" y="4357800"/>
            <a:ext cx="785880" cy="78588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47" name="圆角矩形 15"/>
          <p:cNvSpPr/>
          <p:nvPr/>
        </p:nvSpPr>
        <p:spPr>
          <a:xfrm>
            <a:off x="4071960" y="5286240"/>
            <a:ext cx="107172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面板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48" name="等腰三角形 17"/>
          <p:cNvSpPr/>
          <p:nvPr/>
        </p:nvSpPr>
        <p:spPr>
          <a:xfrm>
            <a:off x="4500720" y="5143680"/>
            <a:ext cx="214200" cy="1425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49" name="TextBox 18"/>
          <p:cNvSpPr/>
          <p:nvPr/>
        </p:nvSpPr>
        <p:spPr>
          <a:xfrm>
            <a:off x="500040" y="2000160"/>
            <a:ext cx="3286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很多的交互是由动态面板来实现的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里面可以包含多个状态，所以通过一些事件可以对动态面板的状态进行切换，以此来实现交互效果。但任何时候都是只有一个状态是可见的，或者整个动态面板是被隐藏的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51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52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53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54" name="TextBox 14"/>
          <p:cNvSpPr/>
          <p:nvPr/>
        </p:nvSpPr>
        <p:spPr>
          <a:xfrm>
            <a:off x="-34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25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55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56" name="TextBox 16"/>
          <p:cNvSpPr/>
          <p:nvPr/>
        </p:nvSpPr>
        <p:spPr>
          <a:xfrm>
            <a:off x="500040" y="2000160"/>
            <a:ext cx="32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动态面板的线框图，会有一个动态面板状态管理的对话框，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可以添加、删除、重命名、组织动态面板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的第一个状态时它的默认状态。选择编辑之后可以对其进行设计，像画线框图一样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的显示范围是在一个蓝色的虚线框内，这个也是动态面板对事件的响应范围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857" name="Picture 4" descr=""/>
          <p:cNvPicPr/>
          <p:nvPr/>
        </p:nvPicPr>
        <p:blipFill>
          <a:blip r:embed="rId1"/>
          <a:stretch/>
        </p:blipFill>
        <p:spPr>
          <a:xfrm>
            <a:off x="3857760" y="2071800"/>
            <a:ext cx="4949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5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60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61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62" name="TextBox 14"/>
          <p:cNvSpPr/>
          <p:nvPr/>
        </p:nvSpPr>
        <p:spPr>
          <a:xfrm>
            <a:off x="-3276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26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63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64" name="TextBox 16"/>
          <p:cNvSpPr/>
          <p:nvPr/>
        </p:nvSpPr>
        <p:spPr>
          <a:xfrm>
            <a:off x="428760" y="1857240"/>
            <a:ext cx="43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管理面板。在这里也可以对动态面板进行添加、删除、组织等操作。双击可以对其进行编辑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，动态面板较多时，在屏幕上的显示会让人觉得不方便，此时可以通过点击蓝色的方块对其取消显示（不会改变它的可见属性）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865" name="Picture 3" descr=""/>
          <p:cNvPicPr/>
          <p:nvPr/>
        </p:nvPicPr>
        <p:blipFill>
          <a:blip r:embed="rId1"/>
          <a:stretch/>
        </p:blipFill>
        <p:spPr>
          <a:xfrm>
            <a:off x="5286240" y="1285920"/>
            <a:ext cx="2975040" cy="4500360"/>
          </a:xfrm>
          <a:prstGeom prst="rect">
            <a:avLst/>
          </a:prstGeom>
          <a:ln w="0">
            <a:noFill/>
          </a:ln>
        </p:spPr>
      </p:pic>
      <p:grpSp>
        <p:nvGrpSpPr>
          <p:cNvPr id="866" name="Group 10"/>
          <p:cNvGrpSpPr/>
          <p:nvPr/>
        </p:nvGrpSpPr>
        <p:grpSpPr>
          <a:xfrm>
            <a:off x="357120" y="4214880"/>
            <a:ext cx="2513160" cy="1500120"/>
            <a:chOff x="357120" y="4214880"/>
            <a:chExt cx="2513160" cy="1500120"/>
          </a:xfrm>
        </p:grpSpPr>
        <p:pic>
          <p:nvPicPr>
            <p:cNvPr id="867" name="Picture 2" descr=""/>
            <p:cNvPicPr/>
            <p:nvPr/>
          </p:nvPicPr>
          <p:blipFill>
            <a:blip r:embed="rId2"/>
            <a:stretch/>
          </p:blipFill>
          <p:spPr>
            <a:xfrm>
              <a:off x="357120" y="4214880"/>
              <a:ext cx="25131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圆角矩形 17"/>
            <p:cNvSpPr/>
            <p:nvPr/>
          </p:nvSpPr>
          <p:spPr>
            <a:xfrm>
              <a:off x="357120" y="439596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869" name="圆角矩形 18"/>
            <p:cNvSpPr/>
            <p:nvPr/>
          </p:nvSpPr>
          <p:spPr>
            <a:xfrm>
              <a:off x="804600" y="439596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870" name="圆角矩形 19"/>
            <p:cNvSpPr/>
            <p:nvPr/>
          </p:nvSpPr>
          <p:spPr>
            <a:xfrm>
              <a:off x="357120" y="483552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871" name="圆角矩形 20"/>
            <p:cNvSpPr/>
            <p:nvPr/>
          </p:nvSpPr>
          <p:spPr>
            <a:xfrm>
              <a:off x="357120" y="527544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872" name="圆角矩形 21"/>
            <p:cNvSpPr/>
            <p:nvPr/>
          </p:nvSpPr>
          <p:spPr>
            <a:xfrm>
              <a:off x="1199520" y="543060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873" name="圆角矩形 22"/>
            <p:cNvSpPr/>
            <p:nvPr/>
          </p:nvSpPr>
          <p:spPr>
            <a:xfrm>
              <a:off x="2437200" y="439596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874" name="圆角矩形 23"/>
            <p:cNvSpPr/>
            <p:nvPr/>
          </p:nvSpPr>
          <p:spPr>
            <a:xfrm>
              <a:off x="2437200" y="483552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875" name="圆角矩形 24"/>
            <p:cNvSpPr/>
            <p:nvPr/>
          </p:nvSpPr>
          <p:spPr>
            <a:xfrm>
              <a:off x="2437200" y="527544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876" name="圆角矩形 25"/>
            <p:cNvSpPr/>
            <p:nvPr/>
          </p:nvSpPr>
          <p:spPr>
            <a:xfrm>
              <a:off x="778320" y="543060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</p:grpSp>
      <p:sp>
        <p:nvSpPr>
          <p:cNvPr id="877" name="上箭头标注 26"/>
          <p:cNvSpPr/>
          <p:nvPr/>
        </p:nvSpPr>
        <p:spPr>
          <a:xfrm rot="5400000">
            <a:off x="3786120" y="4143600"/>
            <a:ext cx="285840" cy="2714400"/>
          </a:xfrm>
          <a:prstGeom prst="upArrowCallout">
            <a:avLst>
              <a:gd name="adj1" fmla="val 43439"/>
              <a:gd name="adj2" fmla="val 50000"/>
              <a:gd name="adj3" fmla="val 48668"/>
              <a:gd name="adj4" fmla="val 183627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78" name="椭圆 27"/>
          <p:cNvSpPr/>
          <p:nvPr/>
        </p:nvSpPr>
        <p:spPr>
          <a:xfrm>
            <a:off x="7858080" y="4572000"/>
            <a:ext cx="428760" cy="7858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79" name="椭圆 28"/>
          <p:cNvSpPr/>
          <p:nvPr/>
        </p:nvSpPr>
        <p:spPr>
          <a:xfrm>
            <a:off x="7858080" y="1857240"/>
            <a:ext cx="500040" cy="2643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80" name="线形标注 2 30"/>
          <p:cNvSpPr/>
          <p:nvPr/>
        </p:nvSpPr>
        <p:spPr>
          <a:xfrm>
            <a:off x="6929280" y="5500800"/>
            <a:ext cx="857520" cy="35712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22314"/>
              <a:gd name="adj6" fmla="val 108606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显示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81" name="线形标注 2 31"/>
          <p:cNvSpPr/>
          <p:nvPr/>
        </p:nvSpPr>
        <p:spPr>
          <a:xfrm>
            <a:off x="6929280" y="3714840"/>
            <a:ext cx="857520" cy="35712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22314"/>
              <a:gd name="adj6" fmla="val 108606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显   示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83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84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85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86" name="TextBox 14"/>
          <p:cNvSpPr/>
          <p:nvPr/>
        </p:nvSpPr>
        <p:spPr>
          <a:xfrm>
            <a:off x="-1018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27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87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88" name="TextBox 16"/>
          <p:cNvSpPr/>
          <p:nvPr/>
        </p:nvSpPr>
        <p:spPr>
          <a:xfrm>
            <a:off x="428760" y="1857240"/>
            <a:ext cx="3643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动作：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动态面板的转换状态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显示动态面板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藏动态面板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换动态面板可见属性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移动动态面板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动态面板置为最前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中前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用到的最多。第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经常配合“等待时间”一起使用。可以制作一些动态效果。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889" name="Picture 2" descr=""/>
          <p:cNvPicPr/>
          <p:nvPr/>
        </p:nvPicPr>
        <p:blipFill>
          <a:blip r:embed="rId1"/>
          <a:stretch/>
        </p:blipFill>
        <p:spPr>
          <a:xfrm>
            <a:off x="4357800" y="1214280"/>
            <a:ext cx="42624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91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92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93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94" name="TextBox 14"/>
          <p:cNvSpPr/>
          <p:nvPr/>
        </p:nvSpPr>
        <p:spPr>
          <a:xfrm>
            <a:off x="-6120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24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95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简单例子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896" name="TextBox 32"/>
          <p:cNvSpPr/>
          <p:nvPr/>
        </p:nvSpPr>
        <p:spPr>
          <a:xfrm>
            <a:off x="2214720" y="2214720"/>
            <a:ext cx="321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558ed5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翻转效果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  <a:p>
            <a:pPr marL="343080" indent="-343080">
              <a:lnSpc>
                <a:spcPct val="200000"/>
              </a:lnSpc>
              <a:buClr>
                <a:srgbClr val="558ed5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Tab</a:t>
            </a:r>
            <a:r>
              <a:rPr b="0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签</a:t>
            </a:r>
            <a:r>
              <a:rPr b="0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4"/>
          <p:cNvSpPr/>
          <p:nvPr/>
        </p:nvSpPr>
        <p:spPr>
          <a:xfrm>
            <a:off x="32940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2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43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44" name="圆角矩形 7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45" name="TextBox 8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面介绍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1643040" y="1643040"/>
            <a:ext cx="6461280" cy="3857760"/>
          </a:xfrm>
          <a:prstGeom prst="rect">
            <a:avLst/>
          </a:prstGeom>
          <a:ln w="0">
            <a:noFill/>
          </a:ln>
        </p:spPr>
      </p:pic>
      <p:sp>
        <p:nvSpPr>
          <p:cNvPr id="547" name="圆角矩形 10">
            <a:hlinkClick r:id="rId2" action="ppaction://hlinksldjump"/>
          </p:cNvPr>
          <p:cNvSpPr/>
          <p:nvPr/>
        </p:nvSpPr>
        <p:spPr>
          <a:xfrm>
            <a:off x="1643040" y="2108160"/>
            <a:ext cx="1015920" cy="1065240"/>
          </a:xfrm>
          <a:custGeom>
            <a:avLst/>
            <a:gdLst>
              <a:gd name="textAreaLeft" fmla="*/ 23760 w 1015920"/>
              <a:gd name="textAreaRight" fmla="*/ 992160 w 1015920"/>
              <a:gd name="textAreaTop" fmla="*/ 23760 h 1065240"/>
              <a:gd name="textAreaBottom" fmla="*/ 1041480 h 1065240"/>
            </a:gdLst>
            <a:ahLst/>
            <a:rect l="textAreaLeft" t="textAreaTop" r="textAreaRight" b="textAreaBottom"/>
            <a:pathLst>
              <a:path w="21600" h="22648">
                <a:moveTo>
                  <a:pt x="1726" y="0"/>
                </a:moveTo>
                <a:arcTo wR="1726" hR="1726" stAng="16200000" swAng="-5400000"/>
                <a:lnTo>
                  <a:pt x="0" y="20922"/>
                </a:lnTo>
                <a:arcTo wR="1726" hR="1726" stAng="10800000" swAng="-5400000"/>
                <a:lnTo>
                  <a:pt x="19874" y="22648"/>
                </a:lnTo>
                <a:arcTo wR="1726" hR="1726" stAng="5400000" swAng="-5400000"/>
                <a:lnTo>
                  <a:pt x="21600" y="1726"/>
                </a:lnTo>
                <a:arcTo wR="1726" hR="1726" stAng="0" swAng="-5400000"/>
                <a:close/>
              </a:path>
            </a:pathLst>
          </a:cu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48" name="圆角矩形 11"/>
          <p:cNvSpPr/>
          <p:nvPr/>
        </p:nvSpPr>
        <p:spPr>
          <a:xfrm>
            <a:off x="2793960" y="2108160"/>
            <a:ext cx="4062600" cy="2395440"/>
          </a:xfrm>
          <a:prstGeom prst="roundRect">
            <a:avLst>
              <a:gd name="adj" fmla="val 5852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49" name="圆角矩形 12">
            <a:hlinkClick r:id="rId3" action="ppaction://hlinksldjump"/>
          </p:cNvPr>
          <p:cNvSpPr/>
          <p:nvPr/>
        </p:nvSpPr>
        <p:spPr>
          <a:xfrm>
            <a:off x="1643040" y="3240000"/>
            <a:ext cx="1015920" cy="1063800"/>
          </a:xfrm>
          <a:custGeom>
            <a:avLst/>
            <a:gdLst>
              <a:gd name="textAreaLeft" fmla="*/ 23760 w 1015920"/>
              <a:gd name="textAreaRight" fmla="*/ 992160 w 1015920"/>
              <a:gd name="textAreaTop" fmla="*/ 23760 h 1063800"/>
              <a:gd name="textAreaBottom" fmla="*/ 1040040 h 1063800"/>
            </a:gdLst>
            <a:ahLst/>
            <a:rect l="textAreaLeft" t="textAreaTop" r="textAreaRight" b="textAreaBottom"/>
            <a:pathLst>
              <a:path w="21600" h="22618">
                <a:moveTo>
                  <a:pt x="1726" y="0"/>
                </a:moveTo>
                <a:arcTo wR="1726" hR="1726" stAng="16200000" swAng="-5400000"/>
                <a:lnTo>
                  <a:pt x="0" y="20892"/>
                </a:lnTo>
                <a:arcTo wR="1726" hR="1726" stAng="10800000" swAng="-5400000"/>
                <a:lnTo>
                  <a:pt x="19874" y="22618"/>
                </a:lnTo>
                <a:arcTo wR="1726" hR="1726" stAng="5400000" swAng="-5400000"/>
                <a:lnTo>
                  <a:pt x="21600" y="1726"/>
                </a:lnTo>
                <a:arcTo wR="1726" hR="1726" stAng="0" swAng="-5400000"/>
                <a:close/>
              </a:path>
            </a:pathLst>
          </a:cu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50" name="圆角矩形 13">
            <a:hlinkClick r:id="rId4" action="ppaction://hlinksldjump"/>
          </p:cNvPr>
          <p:cNvSpPr/>
          <p:nvPr/>
        </p:nvSpPr>
        <p:spPr>
          <a:xfrm>
            <a:off x="1643040" y="4370400"/>
            <a:ext cx="1015920" cy="99684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51" name="圆角矩形 14"/>
          <p:cNvSpPr/>
          <p:nvPr/>
        </p:nvSpPr>
        <p:spPr>
          <a:xfrm>
            <a:off x="3809880" y="4768920"/>
            <a:ext cx="3113280" cy="59832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52" name="圆角矩形 15">
            <a:hlinkClick r:id="rId5" action="ppaction://hlinksldjump"/>
          </p:cNvPr>
          <p:cNvSpPr/>
          <p:nvPr/>
        </p:nvSpPr>
        <p:spPr>
          <a:xfrm>
            <a:off x="6991200" y="2108160"/>
            <a:ext cx="1082880" cy="99864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53" name="圆角矩形 16"/>
          <p:cNvSpPr/>
          <p:nvPr/>
        </p:nvSpPr>
        <p:spPr>
          <a:xfrm>
            <a:off x="6991200" y="3240000"/>
            <a:ext cx="1082880" cy="99720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54" name="圆角矩形 17"/>
          <p:cNvSpPr/>
          <p:nvPr/>
        </p:nvSpPr>
        <p:spPr>
          <a:xfrm>
            <a:off x="6991200" y="4370400"/>
            <a:ext cx="1082880" cy="99684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55" name="圆角矩形 18"/>
          <p:cNvSpPr/>
          <p:nvPr/>
        </p:nvSpPr>
        <p:spPr>
          <a:xfrm>
            <a:off x="2725560" y="4768920"/>
            <a:ext cx="1016280" cy="59832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56" name="圆角矩形 26"/>
          <p:cNvSpPr/>
          <p:nvPr/>
        </p:nvSpPr>
        <p:spPr>
          <a:xfrm>
            <a:off x="4357800" y="16430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区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57" name="圆角矩形 27"/>
          <p:cNvSpPr/>
          <p:nvPr/>
        </p:nvSpPr>
        <p:spPr>
          <a:xfrm>
            <a:off x="357120" y="2357280"/>
            <a:ext cx="11430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点地图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58" name="圆角矩形 28"/>
          <p:cNvSpPr/>
          <p:nvPr/>
        </p:nvSpPr>
        <p:spPr>
          <a:xfrm>
            <a:off x="357120" y="3643200"/>
            <a:ext cx="11430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件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59" name="圆角矩形 29"/>
          <p:cNvSpPr/>
          <p:nvPr/>
        </p:nvSpPr>
        <p:spPr>
          <a:xfrm>
            <a:off x="357120" y="4714920"/>
            <a:ext cx="11430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60" name="圆角矩形 30"/>
          <p:cNvSpPr/>
          <p:nvPr/>
        </p:nvSpPr>
        <p:spPr>
          <a:xfrm>
            <a:off x="2643120" y="5500800"/>
            <a:ext cx="107172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面注释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61" name="圆角矩形 31"/>
          <p:cNvSpPr/>
          <p:nvPr/>
        </p:nvSpPr>
        <p:spPr>
          <a:xfrm>
            <a:off x="4714920" y="5500800"/>
            <a:ext cx="107136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面交互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62" name="等腰三角形 32"/>
          <p:cNvSpPr/>
          <p:nvPr/>
        </p:nvSpPr>
        <p:spPr>
          <a:xfrm>
            <a:off x="3071880" y="53578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63" name="等腰三角形 33"/>
          <p:cNvSpPr/>
          <p:nvPr/>
        </p:nvSpPr>
        <p:spPr>
          <a:xfrm>
            <a:off x="5143680" y="53578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64" name="等腰三角形 34"/>
          <p:cNvSpPr/>
          <p:nvPr/>
        </p:nvSpPr>
        <p:spPr>
          <a:xfrm rot="5400000">
            <a:off x="1488600" y="2439720"/>
            <a:ext cx="16488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65" name="等腰三角形 35"/>
          <p:cNvSpPr/>
          <p:nvPr/>
        </p:nvSpPr>
        <p:spPr>
          <a:xfrm rot="5400000">
            <a:off x="1488600" y="3725640"/>
            <a:ext cx="16488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66" name="等腰三角形 36"/>
          <p:cNvSpPr/>
          <p:nvPr/>
        </p:nvSpPr>
        <p:spPr>
          <a:xfrm rot="5400000">
            <a:off x="1488600" y="4797360"/>
            <a:ext cx="16524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67" name="圆角矩形 37"/>
          <p:cNvSpPr/>
          <p:nvPr/>
        </p:nvSpPr>
        <p:spPr>
          <a:xfrm>
            <a:off x="6786720" y="5500800"/>
            <a:ext cx="157140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面板管理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68" name="等腰三角形 38"/>
          <p:cNvSpPr/>
          <p:nvPr/>
        </p:nvSpPr>
        <p:spPr>
          <a:xfrm>
            <a:off x="7429680" y="53578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69" name="圆角矩形 39"/>
          <p:cNvSpPr/>
          <p:nvPr/>
        </p:nvSpPr>
        <p:spPr>
          <a:xfrm>
            <a:off x="6786720" y="1643040"/>
            <a:ext cx="15714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控件交互面板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70" name="等腰三角形 40"/>
          <p:cNvSpPr/>
          <p:nvPr/>
        </p:nvSpPr>
        <p:spPr>
          <a:xfrm flipV="1">
            <a:off x="7429680" y="192816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71" name="等腰三角形 42"/>
          <p:cNvSpPr/>
          <p:nvPr/>
        </p:nvSpPr>
        <p:spPr>
          <a:xfrm flipV="1">
            <a:off x="4786200" y="192816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72" name="圆角矩形 43"/>
          <p:cNvSpPr/>
          <p:nvPr/>
        </p:nvSpPr>
        <p:spPr>
          <a:xfrm>
            <a:off x="7500960" y="3571920"/>
            <a:ext cx="128592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位置与大小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73" name="等腰三角形 44"/>
          <p:cNvSpPr/>
          <p:nvPr/>
        </p:nvSpPr>
        <p:spPr>
          <a:xfrm flipV="1" rot="5400000">
            <a:off x="7358040" y="3642120"/>
            <a:ext cx="14292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pic>
          <p:nvPicPr>
            <p:cNvPr id="8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4"/>
          <p:cNvSpPr/>
          <p:nvPr/>
        </p:nvSpPr>
        <p:spPr>
          <a:xfrm>
            <a:off x="34200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3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75" name="矩形 6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76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77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4000680" y="1357200"/>
            <a:ext cx="2854080" cy="3000600"/>
          </a:xfrm>
          <a:prstGeom prst="rect">
            <a:avLst/>
          </a:prstGeom>
          <a:ln w="0">
            <a:noFill/>
          </a:ln>
        </p:spPr>
      </p:pic>
      <p:grpSp>
        <p:nvGrpSpPr>
          <p:cNvPr id="579" name="Group 7"/>
          <p:cNvGrpSpPr/>
          <p:nvPr/>
        </p:nvGrpSpPr>
        <p:grpSpPr>
          <a:xfrm>
            <a:off x="571680" y="2286000"/>
            <a:ext cx="2512800" cy="1500120"/>
            <a:chOff x="571680" y="2286000"/>
            <a:chExt cx="2512800" cy="1500120"/>
          </a:xfrm>
        </p:grpSpPr>
        <p:pic>
          <p:nvPicPr>
            <p:cNvPr id="580" name="Picture 2" descr=""/>
            <p:cNvPicPr/>
            <p:nvPr/>
          </p:nvPicPr>
          <p:blipFill>
            <a:blip r:embed="rId2"/>
            <a:stretch/>
          </p:blipFill>
          <p:spPr>
            <a:xfrm>
              <a:off x="571680" y="2286000"/>
              <a:ext cx="25128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圆角矩形 11"/>
            <p:cNvSpPr/>
            <p:nvPr/>
          </p:nvSpPr>
          <p:spPr>
            <a:xfrm>
              <a:off x="571680" y="246708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582" name="圆角矩形 12"/>
            <p:cNvSpPr/>
            <p:nvPr/>
          </p:nvSpPr>
          <p:spPr>
            <a:xfrm>
              <a:off x="1019160" y="246708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583" name="圆角矩形 13"/>
            <p:cNvSpPr/>
            <p:nvPr/>
          </p:nvSpPr>
          <p:spPr>
            <a:xfrm>
              <a:off x="571680" y="290664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584" name="圆角矩形 14"/>
            <p:cNvSpPr/>
            <p:nvPr/>
          </p:nvSpPr>
          <p:spPr>
            <a:xfrm>
              <a:off x="571680" y="334656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585" name="圆角矩形 15"/>
            <p:cNvSpPr/>
            <p:nvPr/>
          </p:nvSpPr>
          <p:spPr>
            <a:xfrm>
              <a:off x="1414080" y="350172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586" name="圆角矩形 16"/>
            <p:cNvSpPr/>
            <p:nvPr/>
          </p:nvSpPr>
          <p:spPr>
            <a:xfrm>
              <a:off x="2651400" y="246708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587" name="圆角矩形 17"/>
            <p:cNvSpPr/>
            <p:nvPr/>
          </p:nvSpPr>
          <p:spPr>
            <a:xfrm>
              <a:off x="2651400" y="290664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588" name="圆角矩形 18"/>
            <p:cNvSpPr/>
            <p:nvPr/>
          </p:nvSpPr>
          <p:spPr>
            <a:xfrm>
              <a:off x="2651400" y="334656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589" name="圆角矩形 19"/>
            <p:cNvSpPr/>
            <p:nvPr/>
          </p:nvSpPr>
          <p:spPr>
            <a:xfrm>
              <a:off x="992880" y="350172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</p:grpSp>
      <p:sp>
        <p:nvSpPr>
          <p:cNvPr id="590" name="上箭头标注 44"/>
          <p:cNvSpPr/>
          <p:nvPr/>
        </p:nvSpPr>
        <p:spPr>
          <a:xfrm rot="5400000">
            <a:off x="2143080" y="999720"/>
            <a:ext cx="285840" cy="3286080"/>
          </a:xfrm>
          <a:prstGeom prst="upArrowCallout">
            <a:avLst>
              <a:gd name="adj1" fmla="val 43439"/>
              <a:gd name="adj2" fmla="val 50000"/>
              <a:gd name="adj3" fmla="val 48699"/>
              <a:gd name="adj4" fmla="val 183627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91" name="TextBox 45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点地图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92" name="TextBox 46"/>
          <p:cNvSpPr/>
          <p:nvPr/>
        </p:nvSpPr>
        <p:spPr>
          <a:xfrm>
            <a:off x="500040" y="5143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站点地图是一个页面导航面板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面可以对所设计的页面进行添加、删除、重命名和组织</a:t>
            </a:r>
            <a:endParaRPr b="0" lang="en-US" sz="20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4"/>
          <p:cNvSpPr/>
          <p:nvPr/>
        </p:nvSpPr>
        <p:spPr>
          <a:xfrm>
            <a:off x="32868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4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94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95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596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grpSp>
        <p:nvGrpSpPr>
          <p:cNvPr id="597" name="Group 6"/>
          <p:cNvGrpSpPr/>
          <p:nvPr/>
        </p:nvGrpSpPr>
        <p:grpSpPr>
          <a:xfrm>
            <a:off x="357120" y="2571840"/>
            <a:ext cx="2513160" cy="1500120"/>
            <a:chOff x="357120" y="2571840"/>
            <a:chExt cx="2513160" cy="1500120"/>
          </a:xfrm>
        </p:grpSpPr>
        <p:pic>
          <p:nvPicPr>
            <p:cNvPr id="598" name="Picture 2" descr=""/>
            <p:cNvPicPr/>
            <p:nvPr/>
          </p:nvPicPr>
          <p:blipFill>
            <a:blip r:embed="rId1"/>
            <a:stretch/>
          </p:blipFill>
          <p:spPr>
            <a:xfrm>
              <a:off x="357120" y="2571840"/>
              <a:ext cx="25131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圆角矩形 11"/>
            <p:cNvSpPr/>
            <p:nvPr/>
          </p:nvSpPr>
          <p:spPr>
            <a:xfrm>
              <a:off x="357120" y="275292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00" name="圆角矩形 12"/>
            <p:cNvSpPr/>
            <p:nvPr/>
          </p:nvSpPr>
          <p:spPr>
            <a:xfrm>
              <a:off x="804600" y="275292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01" name="圆角矩形 13"/>
            <p:cNvSpPr/>
            <p:nvPr/>
          </p:nvSpPr>
          <p:spPr>
            <a:xfrm>
              <a:off x="357120" y="319248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02" name="圆角矩形 14"/>
            <p:cNvSpPr/>
            <p:nvPr/>
          </p:nvSpPr>
          <p:spPr>
            <a:xfrm>
              <a:off x="357120" y="363240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03" name="圆角矩形 15"/>
            <p:cNvSpPr/>
            <p:nvPr/>
          </p:nvSpPr>
          <p:spPr>
            <a:xfrm>
              <a:off x="1199520" y="378756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04" name="圆角矩形 16"/>
            <p:cNvSpPr/>
            <p:nvPr/>
          </p:nvSpPr>
          <p:spPr>
            <a:xfrm>
              <a:off x="2437200" y="275292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05" name="圆角矩形 17"/>
            <p:cNvSpPr/>
            <p:nvPr/>
          </p:nvSpPr>
          <p:spPr>
            <a:xfrm>
              <a:off x="2437200" y="319248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06" name="圆角矩形 18"/>
            <p:cNvSpPr/>
            <p:nvPr/>
          </p:nvSpPr>
          <p:spPr>
            <a:xfrm>
              <a:off x="2437200" y="363240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07" name="圆角矩形 19"/>
            <p:cNvSpPr/>
            <p:nvPr/>
          </p:nvSpPr>
          <p:spPr>
            <a:xfrm>
              <a:off x="778320" y="378756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</p:grpSp>
      <p:sp>
        <p:nvSpPr>
          <p:cNvPr id="608" name="矩形 22"/>
          <p:cNvSpPr/>
          <p:nvPr/>
        </p:nvSpPr>
        <p:spPr>
          <a:xfrm>
            <a:off x="357120" y="514368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组件面板中有线框图组件和流程图组件，用这些组件进行线框图和流程图的设计。这里显示的是所有的组件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后面的一部分是流程图组件 </a:t>
            </a:r>
            <a:endParaRPr b="0" lang="en-US" sz="20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3143160" y="1285920"/>
            <a:ext cx="5538960" cy="3760920"/>
          </a:xfrm>
          <a:prstGeom prst="rect">
            <a:avLst/>
          </a:prstGeom>
          <a:ln w="0">
            <a:noFill/>
          </a:ln>
        </p:spPr>
      </p:pic>
      <p:sp>
        <p:nvSpPr>
          <p:cNvPr id="610" name="上箭头标注 20"/>
          <p:cNvSpPr/>
          <p:nvPr/>
        </p:nvSpPr>
        <p:spPr>
          <a:xfrm rot="5400000">
            <a:off x="1643040" y="2071440"/>
            <a:ext cx="285840" cy="2714400"/>
          </a:xfrm>
          <a:prstGeom prst="upArrowCallout">
            <a:avLst>
              <a:gd name="adj1" fmla="val 43439"/>
              <a:gd name="adj2" fmla="val 50000"/>
              <a:gd name="adj3" fmla="val 48668"/>
              <a:gd name="adj4" fmla="val 183627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11" name="TextBox 24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Box 4"/>
          <p:cNvSpPr/>
          <p:nvPr/>
        </p:nvSpPr>
        <p:spPr>
          <a:xfrm>
            <a:off x="34524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5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14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15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16" name="矩形 20"/>
          <p:cNvSpPr/>
          <p:nvPr/>
        </p:nvSpPr>
        <p:spPr>
          <a:xfrm>
            <a:off x="500040" y="15717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线框图组件中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的有图片、文本块、矩形、占位符、形状按钮、图片影射区域、动态面板。其中，在完成一些交互动作时，动态面板用的最多。</a:t>
            </a:r>
            <a:endParaRPr b="0" lang="en-US" sz="20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4000680" y="1714680"/>
            <a:ext cx="4524120" cy="3342960"/>
          </a:xfrm>
          <a:prstGeom prst="rect">
            <a:avLst/>
          </a:prstGeom>
          <a:ln w="0">
            <a:noFill/>
          </a:ln>
        </p:spPr>
      </p:pic>
      <p:sp>
        <p:nvSpPr>
          <p:cNvPr id="618" name="椭圆 24"/>
          <p:cNvSpPr/>
          <p:nvPr/>
        </p:nvSpPr>
        <p:spPr>
          <a:xfrm>
            <a:off x="4000680" y="4214880"/>
            <a:ext cx="785520" cy="78588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19" name="TextBox 25"/>
          <p:cNvSpPr/>
          <p:nvPr/>
        </p:nvSpPr>
        <p:spPr>
          <a:xfrm>
            <a:off x="500040" y="3786120"/>
            <a:ext cx="328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组件的使用：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所有的组件都是用鼠标单击选中后拖入到工作区域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组件的编辑除了交互动作的设置之外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还可以对这些组件进行填充颜色或渐变、设置边框颜色或粗细、以及编辑文字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20" name="TextBox 26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21" name="圆角矩形 27"/>
          <p:cNvSpPr/>
          <p:nvPr/>
        </p:nvSpPr>
        <p:spPr>
          <a:xfrm>
            <a:off x="3857760" y="5143680"/>
            <a:ext cx="107136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面板</a:t>
            </a:r>
            <a:endParaRPr b="0" lang="en-US" sz="1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22" name="等腰三角形 28"/>
          <p:cNvSpPr/>
          <p:nvPr/>
        </p:nvSpPr>
        <p:spPr>
          <a:xfrm>
            <a:off x="4286160" y="500076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4"/>
          <p:cNvSpPr/>
          <p:nvPr/>
        </p:nvSpPr>
        <p:spPr>
          <a:xfrm>
            <a:off x="34776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6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24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25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26" name="圆角矩形 7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27" name="TextBox 12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571680" y="2643120"/>
            <a:ext cx="975960" cy="976320"/>
          </a:xfrm>
          <a:prstGeom prst="rect">
            <a:avLst/>
          </a:prstGeom>
          <a:ln w="0">
            <a:noFill/>
          </a:ln>
        </p:spPr>
      </p:pic>
      <p:sp>
        <p:nvSpPr>
          <p:cNvPr id="629" name="TextBox 15"/>
          <p:cNvSpPr/>
          <p:nvPr/>
        </p:nvSpPr>
        <p:spPr>
          <a:xfrm>
            <a:off x="496080" y="121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375e"/>
                </a:solidFill>
                <a:latin typeface="微软雅黑"/>
                <a:ea typeface="微软雅黑"/>
              </a:rPr>
              <a:t>图片</a:t>
            </a:r>
            <a:endParaRPr b="0" lang="en-US" sz="40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3071880" y="1357200"/>
            <a:ext cx="5362560" cy="3953160"/>
          </a:xfrm>
          <a:prstGeom prst="rect">
            <a:avLst/>
          </a:prstGeom>
          <a:ln w="0">
            <a:noFill/>
          </a:ln>
        </p:spPr>
      </p:pic>
      <p:sp>
        <p:nvSpPr>
          <p:cNvPr id="631" name="右箭头 17"/>
          <p:cNvSpPr/>
          <p:nvPr/>
        </p:nvSpPr>
        <p:spPr>
          <a:xfrm>
            <a:off x="1643040" y="2714760"/>
            <a:ext cx="1428840" cy="8571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</a:t>
            </a:r>
            <a:endParaRPr b="0" lang="en-US" sz="20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32" name="TextBox 18"/>
          <p:cNvSpPr/>
          <p:nvPr/>
        </p:nvSpPr>
        <p:spPr>
          <a:xfrm>
            <a:off x="428760" y="40006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的操作比较简单，双击，选择一张图片打开即可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需要重新添加图片是，在原来的图片上双击再选择。</a:t>
            </a:r>
            <a:endParaRPr b="0" lang="en-US" sz="1800" spc="-1" strike="noStrike">
              <a:solidFill>
                <a:srgbClr val="17375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Box 4"/>
          <p:cNvSpPr/>
          <p:nvPr/>
        </p:nvSpPr>
        <p:spPr>
          <a:xfrm>
            <a:off x="27936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7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34" name="矩形 6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35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36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38" name="TextBox 16"/>
          <p:cNvSpPr/>
          <p:nvPr/>
        </p:nvSpPr>
        <p:spPr>
          <a:xfrm>
            <a:off x="285840" y="1357200"/>
            <a:ext cx="57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75e"/>
                </a:solidFill>
                <a:latin typeface="隶书"/>
                <a:ea typeface="隶书"/>
              </a:rPr>
              <a:t>矩形、占位符、输入框、形状按钮、按钮</a:t>
            </a:r>
            <a:endParaRPr b="0" lang="en-US" sz="20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642960" y="228600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几个组件的操作都比较简单，直接拖入到工作区域使用即可。</a:t>
            </a:r>
            <a:endParaRPr b="0" lang="en-US" sz="20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改变尺寸、颜色、边框，可以输入文字。由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xure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中文支持不好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所以有时在矩形、占位符里输入中文时会出现问题。</a:t>
            </a:r>
            <a:endParaRPr b="0" lang="en-US" sz="20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矩形、占位符、形状按钮都有很多形状可以变化、彼此之间也可以相互转换。</a:t>
            </a:r>
            <a:endParaRPr b="0" lang="en-US" sz="2000" spc="-1" strike="noStrike">
              <a:solidFill>
                <a:srgbClr val="17375e"/>
              </a:solidFill>
              <a:latin typeface="微软雅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endParaRPr b="0" lang="en-US" sz="20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6286680" y="1643040"/>
            <a:ext cx="1914480" cy="30384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4"/>
          <p:cNvSpPr/>
          <p:nvPr/>
        </p:nvSpPr>
        <p:spPr>
          <a:xfrm>
            <a:off x="34524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  <a:ea typeface="宋体"/>
              </a:rPr>
              <a:t>8</a:t>
            </a:r>
            <a:endParaRPr b="0" lang="en-US" sz="72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43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44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微软雅黑"/>
            </a:endParaRPr>
          </a:p>
        </p:txBody>
      </p:sp>
      <p:sp>
        <p:nvSpPr>
          <p:cNvPr id="645" name="TextBox 26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17375e"/>
              </a:solidFill>
              <a:latin typeface="微软雅黑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642960" y="3643200"/>
            <a:ext cx="2838600" cy="21528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" descr=""/>
          <p:cNvPicPr/>
          <p:nvPr/>
        </p:nvPicPr>
        <p:blipFill>
          <a:blip r:embed="rId2"/>
          <a:stretch/>
        </p:blipFill>
        <p:spPr>
          <a:xfrm>
            <a:off x="4786200" y="2714760"/>
            <a:ext cx="2048040" cy="261936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grpSp>
        <p:nvGrpSpPr>
          <p:cNvPr id="648" name="Group 9"/>
          <p:cNvGrpSpPr/>
          <p:nvPr/>
        </p:nvGrpSpPr>
        <p:grpSpPr>
          <a:xfrm>
            <a:off x="6858000" y="1190520"/>
            <a:ext cx="1762200" cy="4705560"/>
            <a:chOff x="6858000" y="1190520"/>
            <a:chExt cx="1762200" cy="4705560"/>
          </a:xfrm>
        </p:grpSpPr>
        <p:pic>
          <p:nvPicPr>
            <p:cNvPr id="649" name="Picture 6" descr=""/>
            <p:cNvPicPr/>
            <p:nvPr/>
          </p:nvPicPr>
          <p:blipFill>
            <a:blip r:embed="rId3"/>
            <a:stretch/>
          </p:blipFill>
          <p:spPr>
            <a:xfrm>
              <a:off x="6858000" y="1190520"/>
              <a:ext cx="1762200" cy="4705560"/>
            </a:xfrm>
            <a:prstGeom prst="rect">
              <a:avLst/>
            </a:prstGeom>
            <a:ln w="9360">
              <a:solidFill>
                <a:srgbClr val="262626"/>
              </a:solidFill>
              <a:miter/>
            </a:ln>
          </p:spPr>
        </p:pic>
        <p:sp>
          <p:nvSpPr>
            <p:cNvPr id="650" name="矩形 18"/>
            <p:cNvSpPr/>
            <p:nvPr/>
          </p:nvSpPr>
          <p:spPr>
            <a:xfrm>
              <a:off x="7072200" y="2261880"/>
              <a:ext cx="1428840" cy="3357720"/>
            </a:xfrm>
            <a:prstGeom prst="rect">
              <a:avLst/>
            </a:prstGeom>
            <a:solidFill>
              <a:srgbClr val="8eb4e3">
                <a:alpha val="21000"/>
              </a:srgbClr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</p:grpSp>
      <p:pic>
        <p:nvPicPr>
          <p:cNvPr id="651" name="Picture 7" descr=""/>
          <p:cNvPicPr/>
          <p:nvPr/>
        </p:nvPicPr>
        <p:blipFill>
          <a:blip r:embed="rId4"/>
          <a:stretch/>
        </p:blipFill>
        <p:spPr>
          <a:xfrm>
            <a:off x="785880" y="1785960"/>
            <a:ext cx="1466640" cy="295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52" name="Picture 8" descr=""/>
          <p:cNvPicPr/>
          <p:nvPr/>
        </p:nvPicPr>
        <p:blipFill>
          <a:blip r:embed="rId5"/>
          <a:stretch/>
        </p:blipFill>
        <p:spPr>
          <a:xfrm>
            <a:off x="2500200" y="1785960"/>
            <a:ext cx="895320" cy="314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53" name="Picture 9" descr=""/>
          <p:cNvPicPr/>
          <p:nvPr/>
        </p:nvPicPr>
        <p:blipFill>
          <a:blip r:embed="rId6"/>
          <a:stretch/>
        </p:blipFill>
        <p:spPr>
          <a:xfrm>
            <a:off x="785880" y="1285920"/>
            <a:ext cx="5429160" cy="314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54" name="Picture 10" descr=""/>
          <p:cNvPicPr/>
          <p:nvPr/>
        </p:nvPicPr>
        <p:blipFill>
          <a:blip r:embed="rId7"/>
          <a:stretch/>
        </p:blipFill>
        <p:spPr>
          <a:xfrm>
            <a:off x="785880" y="2743200"/>
            <a:ext cx="3429000" cy="295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grpSp>
        <p:nvGrpSpPr>
          <p:cNvPr id="655" name="Group 16"/>
          <p:cNvGrpSpPr/>
          <p:nvPr/>
        </p:nvGrpSpPr>
        <p:grpSpPr>
          <a:xfrm>
            <a:off x="5572080" y="1643040"/>
            <a:ext cx="1071720" cy="428760"/>
            <a:chOff x="5572080" y="1643040"/>
            <a:chExt cx="1071720" cy="428760"/>
          </a:xfrm>
        </p:grpSpPr>
        <p:sp>
          <p:nvSpPr>
            <p:cNvPr id="656" name="圆角矩形 29"/>
            <p:cNvSpPr/>
            <p:nvPr/>
          </p:nvSpPr>
          <p:spPr>
            <a:xfrm>
              <a:off x="5572080" y="1785960"/>
              <a:ext cx="107172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编辑</a:t>
              </a:r>
              <a:endParaRPr b="0" lang="en-US" sz="16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57" name="等腰三角形 30"/>
            <p:cNvSpPr/>
            <p:nvPr/>
          </p:nvSpPr>
          <p:spPr>
            <a:xfrm>
              <a:off x="6000840" y="164304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</p:grpSp>
      <p:grpSp>
        <p:nvGrpSpPr>
          <p:cNvPr id="658" name="Group 19"/>
          <p:cNvGrpSpPr/>
          <p:nvPr/>
        </p:nvGrpSpPr>
        <p:grpSpPr>
          <a:xfrm>
            <a:off x="785880" y="3071880"/>
            <a:ext cx="2286000" cy="428040"/>
            <a:chOff x="785880" y="3071880"/>
            <a:chExt cx="2286000" cy="428040"/>
          </a:xfrm>
        </p:grpSpPr>
        <p:sp>
          <p:nvSpPr>
            <p:cNvPr id="659" name="圆角矩形 33"/>
            <p:cNvSpPr/>
            <p:nvPr/>
          </p:nvSpPr>
          <p:spPr>
            <a:xfrm>
              <a:off x="785880" y="3214440"/>
              <a:ext cx="2286000" cy="2854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组合、顺序对齐、分布</a:t>
              </a:r>
              <a:endParaRPr b="0" lang="en-US" sz="16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60" name="等腰三角形 34"/>
            <p:cNvSpPr/>
            <p:nvPr/>
          </p:nvSpPr>
          <p:spPr>
            <a:xfrm>
              <a:off x="1785960" y="3071880"/>
              <a:ext cx="214200" cy="14256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</p:grpSp>
      <p:grpSp>
        <p:nvGrpSpPr>
          <p:cNvPr id="661" name="Group 22"/>
          <p:cNvGrpSpPr/>
          <p:nvPr/>
        </p:nvGrpSpPr>
        <p:grpSpPr>
          <a:xfrm>
            <a:off x="785880" y="2143080"/>
            <a:ext cx="1357200" cy="428760"/>
            <a:chOff x="785880" y="2143080"/>
            <a:chExt cx="1357200" cy="428760"/>
          </a:xfrm>
        </p:grpSpPr>
        <p:sp>
          <p:nvSpPr>
            <p:cNvPr id="662" name="圆角矩形 36"/>
            <p:cNvSpPr/>
            <p:nvPr/>
          </p:nvSpPr>
          <p:spPr>
            <a:xfrm>
              <a:off x="785880" y="2286000"/>
              <a:ext cx="135720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充、边框</a:t>
              </a:r>
              <a:endParaRPr b="0" lang="en-US" sz="16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63" name="等腰三角形 37"/>
            <p:cNvSpPr/>
            <p:nvPr/>
          </p:nvSpPr>
          <p:spPr>
            <a:xfrm>
              <a:off x="1357200" y="214308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</p:grpSp>
      <p:grpSp>
        <p:nvGrpSpPr>
          <p:cNvPr id="664" name="Group 25"/>
          <p:cNvGrpSpPr/>
          <p:nvPr/>
        </p:nvGrpSpPr>
        <p:grpSpPr>
          <a:xfrm>
            <a:off x="2357280" y="2143080"/>
            <a:ext cx="1071720" cy="428760"/>
            <a:chOff x="2357280" y="2143080"/>
            <a:chExt cx="1071720" cy="428760"/>
          </a:xfrm>
        </p:grpSpPr>
        <p:sp>
          <p:nvSpPr>
            <p:cNvPr id="665" name="圆角矩形 39"/>
            <p:cNvSpPr/>
            <p:nvPr/>
          </p:nvSpPr>
          <p:spPr>
            <a:xfrm>
              <a:off x="2357280" y="2286000"/>
              <a:ext cx="107172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分布</a:t>
              </a:r>
              <a:endParaRPr b="0" lang="en-US" sz="16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66" name="等腰三角形 40"/>
            <p:cNvSpPr/>
            <p:nvPr/>
          </p:nvSpPr>
          <p:spPr>
            <a:xfrm>
              <a:off x="2786040" y="214308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</p:grpSp>
      <p:grpSp>
        <p:nvGrpSpPr>
          <p:cNvPr id="667" name="Group 28"/>
          <p:cNvGrpSpPr/>
          <p:nvPr/>
        </p:nvGrpSpPr>
        <p:grpSpPr>
          <a:xfrm>
            <a:off x="3571920" y="2143080"/>
            <a:ext cx="1071360" cy="428760"/>
            <a:chOff x="3571920" y="2143080"/>
            <a:chExt cx="1071360" cy="428760"/>
          </a:xfrm>
        </p:grpSpPr>
        <p:sp>
          <p:nvSpPr>
            <p:cNvPr id="668" name="圆角矩形 42"/>
            <p:cNvSpPr/>
            <p:nvPr/>
          </p:nvSpPr>
          <p:spPr>
            <a:xfrm>
              <a:off x="3571920" y="2286000"/>
              <a:ext cx="107136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锁定控件</a:t>
              </a:r>
              <a:endParaRPr b="0" lang="en-US" sz="16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69" name="等腰三角形 43"/>
            <p:cNvSpPr/>
            <p:nvPr/>
          </p:nvSpPr>
          <p:spPr>
            <a:xfrm>
              <a:off x="4000320" y="214308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</p:grpSp>
      <p:grpSp>
        <p:nvGrpSpPr>
          <p:cNvPr id="670" name="Group 31"/>
          <p:cNvGrpSpPr/>
          <p:nvPr/>
        </p:nvGrpSpPr>
        <p:grpSpPr>
          <a:xfrm>
            <a:off x="7715160" y="5643720"/>
            <a:ext cx="1071720" cy="428040"/>
            <a:chOff x="7715160" y="5643720"/>
            <a:chExt cx="1071720" cy="428040"/>
          </a:xfrm>
        </p:grpSpPr>
        <p:sp>
          <p:nvSpPr>
            <p:cNvPr id="671" name="圆角矩形 45"/>
            <p:cNvSpPr/>
            <p:nvPr/>
          </p:nvSpPr>
          <p:spPr>
            <a:xfrm>
              <a:off x="7715160" y="5786280"/>
              <a:ext cx="1071720" cy="2854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形状</a:t>
              </a:r>
              <a:endParaRPr b="0" lang="en-US" sz="16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72" name="等腰三角形 46"/>
            <p:cNvSpPr/>
            <p:nvPr/>
          </p:nvSpPr>
          <p:spPr>
            <a:xfrm>
              <a:off x="8143920" y="5643720"/>
              <a:ext cx="214200" cy="14256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</p:grpSp>
      <p:grpSp>
        <p:nvGrpSpPr>
          <p:cNvPr id="673" name="Group 34"/>
          <p:cNvGrpSpPr/>
          <p:nvPr/>
        </p:nvGrpSpPr>
        <p:grpSpPr>
          <a:xfrm>
            <a:off x="5286240" y="5357880"/>
            <a:ext cx="1071720" cy="428040"/>
            <a:chOff x="5286240" y="5357880"/>
            <a:chExt cx="1071720" cy="428040"/>
          </a:xfrm>
        </p:grpSpPr>
        <p:sp>
          <p:nvSpPr>
            <p:cNvPr id="674" name="圆角矩形 48"/>
            <p:cNvSpPr/>
            <p:nvPr/>
          </p:nvSpPr>
          <p:spPr>
            <a:xfrm>
              <a:off x="5286240" y="5500440"/>
              <a:ext cx="1071720" cy="2854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右键菜单</a:t>
              </a:r>
              <a:endParaRPr b="0" lang="en-US" sz="16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  <p:sp>
          <p:nvSpPr>
            <p:cNvPr id="675" name="等腰三角形 49"/>
            <p:cNvSpPr/>
            <p:nvPr/>
          </p:nvSpPr>
          <p:spPr>
            <a:xfrm>
              <a:off x="5715000" y="5357880"/>
              <a:ext cx="214200" cy="14256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7375e"/>
                </a:solidFill>
                <a:latin typeface="微软雅黑"/>
              </a:endParaRPr>
            </a:p>
          </p:txBody>
        </p:sp>
      </p:grpSp>
      <p:pic>
        <p:nvPicPr>
          <p:cNvPr id="676" name="Picture 11" descr=""/>
          <p:cNvPicPr/>
          <p:nvPr/>
        </p:nvPicPr>
        <p:blipFill>
          <a:blip r:embed="rId8"/>
          <a:stretch/>
        </p:blipFill>
        <p:spPr>
          <a:xfrm>
            <a:off x="3643200" y="1785960"/>
            <a:ext cx="749520" cy="318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3:56:23Z</dcterms:created>
  <dc:creator>yellownancy</dc:creator>
  <dc:description/>
  <cp:keywords/>
  <dc:language>en-US</dc:language>
  <cp:lastModifiedBy>a</cp:lastModifiedBy>
  <dcterms:modified xsi:type="dcterms:W3CDTF">2014-08-13T01:55:22Z</dcterms:modified>
  <cp:revision>122</cp:revision>
  <dc:subject/>
  <dc:title>Axure R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