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6F6-AA34-4D58-8BD7-94239B8B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C15-38DA-41BD-A88E-44A62F6A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60B-4EE3-4D0A-9776-533AE697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07E-F4E1-4B67-8A1A-0F1A0C72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196E-C20C-4722-94FE-B344D274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97A4-F9B2-424B-ABD2-FB1B39BF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51FF-D7C1-4732-801A-FF1CA4B2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A7FA-D26F-4503-8BDF-180D363E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4640-7065-40B6-834B-DF5218DA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2690-3BB0-485E-A0E7-B1714E13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2EDD-48F8-4B5F-BD51-50623C37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BBA-AFC3-46CF-8B8E-31C36477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E27C-51F2-4A24-9ED8-F682845B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DFE8-692F-4972-85AA-1BB0F44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CEF7-3289-4FEF-AC80-69068515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BB04-4A27-4BB3-B04F-F554B9AC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DF58-CCEB-498A-AA8E-69A0B693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B39-1186-44BE-A4B3-572126E2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6ED-0C1D-495F-AA0F-2D6CB230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E2A-71BE-41A1-95F7-ED93B3F3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F27-B4CA-4227-8A8F-C232BD64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3A3-BE20-4D4C-8889-83390019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522-B452-404F-872C-BF4D2652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A66-2030-4921-8B2A-AC4313B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E848-47AF-4545-9EFB-855EEADCFCF6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F22A-3588-4FD3-AE46-819D5835634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8407-67F5-419C-A929-C0D56B6CDC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553896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325576"/>
                </a:solidFill>
                <a:latin typeface="Calibri"/>
                <a:ea typeface="宋体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71480" y="5967360"/>
            <a:ext cx="4071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25576"/>
                </a:solidFill>
                <a:latin typeface="Calibri"/>
                <a:ea typeface="宋体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2557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57280" y="197496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55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2557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255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2557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55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2557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255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2557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7:29:09Z</dcterms:created>
  <dc:creator>Admin</dc:creator>
  <dc:description/>
  <cp:keywords/>
  <dc:language>en-US</dc:language>
  <cp:lastModifiedBy>a</cp:lastModifiedBy>
  <dcterms:modified xsi:type="dcterms:W3CDTF">2014-07-15T02:16:06Z</dcterms:modified>
  <cp:revision>4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