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gif" ContentType="image/gif"/>
  <Override PartName="/ppt/media/image9.png" ContentType="image/png"/>
  <Override PartName="/ppt/media/projctor.wav" ContentType="audio/x-wav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3B6-29C7-4046-BC9F-26321FDC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033-5D62-4499-AD37-2ED75B63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E01F9-D8BD-49BE-A2F7-7C108E49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4471C-FFBC-469B-9EE0-875B5207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4B9C5-7E75-498C-A9DB-7B7448F2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5FA20-463F-494F-A14E-A8A94443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164D0-D829-4406-9189-5F07B717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0CD98-0170-4B5D-85DE-82FC9965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164A0-BE27-4BF3-A262-E888027E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55560-052E-4FB0-8B44-CA87E6E1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DC0F5-0CA9-400B-B293-82C2E5C0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94E28-53F8-4CB9-BFCA-27FD2E38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1AB-2504-49EE-BC9D-D36F1665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5BE57-C574-4F54-80E4-F9E06097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AB8C7-F69D-47D0-8B91-E03B0E2C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A9E5D-2537-4FBC-8A26-FBE1275C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AB0C5-4F3B-46B6-842E-8FADE7DF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2B94F-7A71-4F93-B6C7-7F3784FD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5FB9C-4470-4377-9718-B961BE2D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8DB18-ACED-4E81-A594-AB62E293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127D9-0477-4C09-B277-7757B24A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5F6C8-5A26-4A8F-BF7C-5432F2AC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42900-86F7-4B41-AC48-778D0498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AE9-AA27-470E-920C-B1B0D50A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A59E0-1B6D-43C9-A941-B10DB326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50572-32AD-483F-B0D1-067A3C91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88ABA-501D-4587-9218-B012FC5B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CC29A-C7BB-4F8D-A8E9-B2C9BFF6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1856C-BABA-443F-9408-AFD44C1C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A3D26-91E5-4EC8-8566-E9D5A370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BE501-C918-4C1E-8EBD-325B53CC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29912-0827-4EE8-85FE-00B7A77D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841F4-4C1A-4CA4-9604-CA349832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AD4E3-5859-4DEF-8821-1E0C3CBB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0769-1C3D-4839-B6D1-78ED6458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BB567-EC1D-4E66-BBFE-F1D7F3E2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334C1-9862-4340-BCD4-3ABB8587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EC50D-1348-4143-B900-32D1AE0D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C132F-8B9B-4BFF-998E-4FF45938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09847-6208-4B93-BA8A-AC597F07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28A4A-D479-4381-A178-08F33F99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0C14A-35B9-4C1A-B93F-5DF31615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6C3FB-DDF8-44FB-92E0-3E4178A5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911FC-A538-4374-A22E-656E6AFF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31DD3-C267-488E-A82F-5566B7A5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D91B-56BD-4C49-BA16-A781EBAF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70DBE-3241-43E3-B73C-6373F2AC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0837A-B8B1-4423-8BD5-46140EEA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651ED-1217-4BE6-98DA-4738F753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59D9C-4C3D-4BC9-8ED5-20AF2904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9B897-66C6-4AFC-8BCA-A8123755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1E975-EACD-4728-9B70-3F6AF8A8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126E2-E1F9-4F9E-9CF4-B104A298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7F781-98B9-4808-A653-685CB006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8E5873-8BAC-4967-A698-970ACE37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A81C2-0D5E-43CA-B856-75E6F883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BD4E-5A45-4B73-8295-D998871B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2E0A5-7C5C-4841-9790-A7A5D5D4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A7A0A-9849-48D2-9FC3-325E230F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1ADA1-0E58-409D-99BD-7D529361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59901-BBA6-4BFA-BA0A-0ADC6D85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844855-68F9-40BA-9B44-F9A96C43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6C124-BE74-4CBC-974C-BDB3B86A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ED6E8-B849-4262-A3DB-6BAE5A98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5A8E9D-A920-4DB2-AC75-F6B8FE68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9CCDD-DE21-40E8-BA17-D57C6C92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0D8DE-8EAF-46A8-B690-6D338558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6317-CDB3-4246-AA17-660C63C4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3BC004-25FD-4B55-8588-651F7DA1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FBD92-760A-4185-BAFD-D03AA52A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36B98-DF19-4724-9713-FDBBF734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1A4F4-94A6-467A-A83C-21A41019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A28BC-3F1D-4871-A4DC-FE9A45D8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E0275-EF82-4DFF-8487-FD57EDC0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6AFC0B-CD68-414F-BA03-8283E7F3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2903E-C9BB-482E-A52C-6A965A77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E427AF-DBBC-4D64-B780-75E5DFE5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27F3-9D61-436C-AE1C-9EA3FDA3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0B8C-E4D9-42A3-84B5-C730551F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E3DE-89BC-4D91-9699-0FD168AD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B9A-45E2-42C0-A29C-E88E4DFA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2C2E-3335-48E9-912A-405B368A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E92F-66C7-4360-AD04-092F8891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EF40-9235-4410-8931-6E665AC8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977C-6033-49F6-B2BE-CC4B672D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15B9-B8C3-4287-A30F-4EE3E193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7830C-EBE0-4D63-B1FE-D3F5B585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85592-F50E-41A8-A036-B64A0BDD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55C04-9991-4E91-A64B-5D63F1BA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16C7-4210-4243-9FDD-677B8832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66059-360A-459E-8773-9A2DBB39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BCC-7B6B-467D-B955-5F285E4F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84464-A7BE-4AEB-816D-D08DCD18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AE489-ACA4-47EE-A8AB-C7C0FE05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DC5E6-1577-46B6-9702-67B6B90A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B1D6A-6FE9-400A-BAB8-A83BF8DA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957F0-E5F3-463B-9279-4E1C7A63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C691-0879-4DEA-8A57-3A3123BD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C065E-5ADD-4028-93A8-21982BE2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98752-D9AD-431C-B27D-F763FE7B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02435-5CA3-459C-87E2-FB0377A0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D6BD7-20E6-493E-BC13-E6F4F35A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22B-CED2-433D-AD69-DCAB1E1D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2F052-ED1A-4678-8E97-4DABC51A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AA6C2-4EA8-4A52-BB43-CD2FC84B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CDECA-895D-45DE-8132-AE6CC492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CE38-2659-405A-B152-20651617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526CD-CBD1-40B3-8AC9-1207E709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7249D-DAFD-4BD8-B3EE-CF5F199F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09490-5E9E-480E-8E15-6040A6E5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7F88-BAD8-4409-BAE7-06D89AAC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C5356-5BE9-4A6A-B364-1158B852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B4697-170D-4EDC-989D-1C96FE45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D0C-2612-4977-B656-E8CB873D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B825A-8B10-4742-81FC-7FD06A30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020B9-4713-4DFA-B8B7-C4B5552A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2AF87-98A1-4308-A3F1-009B4C4B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929F7-FF97-413A-82E5-DE2A8795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BCC65-D20E-472B-A76A-C304F568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669BC-9662-4A49-AB11-DCAAB88D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6C055-7150-4413-ABA3-EC0713E2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7BA88-1E78-441E-9A69-97212AFA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CDC09-7215-4C4D-A726-7474E490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D1277-9CDB-495B-8386-B9620FC7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6FF-D785-4177-A7FC-FDDD6E28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6F748-BDF8-439A-8523-FC207094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ED6D6-4CCD-4F46-80D3-EB404CF7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33545-6DC2-4669-8A9E-BEC36A2C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42B04-1BF2-4554-84E0-23326189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9EC7C-59BE-4541-A612-6BF95E2C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19DD9-2D15-45A7-95B2-B220E084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7C4A7-73BC-4F60-8621-AE535A41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4702A-6A7D-496C-B851-A1927C17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101B0-92DA-4674-9DAE-D263B4D3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7FB61-411B-45F8-A43C-54958614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998-8901-40CE-93DC-B61FB0B1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B8F66-172B-4630-B27E-2FE920C2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F5351-55D1-4E5A-B6ED-C525320D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41E84-8B43-4147-95DC-C8ED95A8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3E024-AB99-44FD-A138-CB55BC70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F3485-3010-429C-8036-7CF96AB3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4A998-39FB-4BF9-B863-FE7AA274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4C077-C396-4E50-B011-3A030210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65798-9655-4CBB-9F9E-E39D23EA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0670F-BE56-4E1D-9684-5B3FB495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919EA-6AED-4E02-AA36-2D154573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9D5-7433-4537-B01F-B87E9222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A31C9-511A-4F78-B3CA-842BFAE1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768BB-7F9F-4F2F-B15C-CFE2E845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E6B15-7EB8-420D-A62E-19D24114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F57EB-E754-46B7-8669-79F0EE60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8BD71-E234-4FF2-92C9-9D73DD1F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5622A-2F72-4296-9440-B1E119C9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CDC84-39A9-4979-9E9F-91713CDA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4AA5E-4177-4F63-8F46-C8FE3D73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D6896-B1A6-43CB-9F2E-E1DD95A0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4B7BD-8265-4ADE-8FFB-00782864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B5C-238B-4D08-AF2A-ADC2E09D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6E905-44D9-42E4-8E61-B16A6A5B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7D115-FF46-4CD4-856B-95ABE9EF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7AA94-B183-4C74-98D0-E8140A25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C6DFB-1C41-416C-8872-68060964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C10AE-A392-4DE8-83D1-8DB0586E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A99BC-72C2-4E89-920D-CBCE7959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A600F-9ACA-43B0-9B17-9829C0E1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87EDD-8EB3-4410-87C8-77DBD6EC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7D606-3C10-4F60-AEA4-AD8DC368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09AA6-EDFA-442A-86C7-FA874A2A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3730-16BA-4B73-B48B-C391EE36B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A169-0C36-4315-9C75-C55B5FD50F8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3350-CF99-4497-AFC8-68267168E8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D185-1F16-4750-A6C0-CE759DB409D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F7B5-8EC3-4F3F-80B1-556930CCDF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C9CD-7C2B-4365-8557-D10F17E149D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3E5D-6B00-4162-B3EB-89E93A87DB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E826-054F-4EB7-98FB-3D61D89B315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C266-1548-4F57-B5AD-57F181F624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FC39-FF12-40C7-9E09-F0412FE205E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1C56-2876-4C38-87D4-FC315FA8C5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4CD7-4B86-422E-A272-9DD254F2BCF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C5C4-6552-4574-A815-3598EE7F93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17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B4C3-1F5E-40CB-9CF2-B7913EF10F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BA69-C7B9-4665-B146-72AE902A6A7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03B0-55E9-496C-AE05-40B0A41E0A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0946-EEF3-48C5-91D1-11CE9589768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EA6C-0A0A-4DE0-B6C6-1D6A5C8571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D520-D0E4-4B9F-9C81-97787D77AA3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79DA-3D5E-4B28-ADEA-D76EC53C74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C6FE-0303-42B9-8025-B23BBBED781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7B7B-E47E-4EFF-9F87-1EA4F6B3DA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0550-4D04-44A5-88E6-3E6BA6DF313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74C9-DFE2-406C-8710-1940BBC921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F5FE-AE29-438D-9732-5434F9932E9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C1B6-CEF1-482F-9ED6-435280E0DC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5.jpeg"/><Relationship Id="rId6" Type="http://schemas.openxmlformats.org/officeDocument/2006/relationships/image" Target="../media/image4.gif"/><Relationship Id="rId7" Type="http://schemas.openxmlformats.org/officeDocument/2006/relationships/image" Target="../media/image6.gif"/><Relationship Id="rId8" Type="http://schemas.openxmlformats.org/officeDocument/2006/relationships/image" Target="../media/image8.gif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  <a:ea typeface="宋体"/>
              </a:rPr>
              <a:t>Bowlarama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266688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Eras Bold ITC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76" name="Picture 4" descr="Z:\newtek\_backgrounds_1.02\Tim\powerpoint templates\21-40\bowlarama\elements\strike.png"/>
          <p:cNvPicPr/>
          <p:nvPr/>
        </p:nvPicPr>
        <p:blipFill>
          <a:blip r:embed="rId1"/>
          <a:stretch/>
        </p:blipFill>
        <p:spPr>
          <a:xfrm>
            <a:off x="914400" y="-303120"/>
            <a:ext cx="10363320" cy="87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79" name="Picture 4" descr="Z:\newtek\_backgrounds_1.02\Tim\powerpoint templates\21-40\bowlarama\elements\bowling_text_rotate_ball_hg_wht.gif"/>
          <p:cNvPicPr/>
          <p:nvPr/>
        </p:nvPicPr>
        <p:blipFill>
          <a:blip r:embed="rId1"/>
          <a:stretch/>
        </p:blipFill>
        <p:spPr>
          <a:xfrm>
            <a:off x="6286680" y="5565600"/>
            <a:ext cx="170964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Z:\newtek\_backgrounds_1.02\Tim\powerpoint templates\21-40\bowlarama\elements\bowler_concentrating_hg_wht.gif"/>
          <p:cNvPicPr/>
          <p:nvPr/>
        </p:nvPicPr>
        <p:blipFill>
          <a:blip r:embed="rId2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266688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cc3300"/>
              </a:solidFill>
              <a:latin typeface="Eras Bold ITC"/>
            </a:endParaRPr>
          </a:p>
        </p:txBody>
      </p:sp>
      <p:pic>
        <p:nvPicPr>
          <p:cNvPr id="583" name="Picture 5" descr="Z:\newtek\_backgrounds_1.02\Tim\powerpoint templates\21-40\bowlarama\elements\strike.png"/>
          <p:cNvPicPr/>
          <p:nvPr/>
        </p:nvPicPr>
        <p:blipFill>
          <a:blip r:embed="rId3"/>
          <a:stretch/>
        </p:blipFill>
        <p:spPr>
          <a:xfrm>
            <a:off x="838080" y="-303120"/>
            <a:ext cx="10363320" cy="87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宋体"/>
              </a:rPr>
              <a:t>Your subtopics go here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86" name="Picture 4" descr="Z:\newtek\_backgrounds_1.02\Tim\powerpoint templates\21-40\bowlarama\elements\bowling_pins_split_hg_wht.gif"/>
          <p:cNvPicPr/>
          <p:nvPr/>
        </p:nvPicPr>
        <p:blipFill>
          <a:blip r:embed="rId2"/>
          <a:stretch/>
        </p:blipFill>
        <p:spPr>
          <a:xfrm>
            <a:off x="6284880" y="5578560"/>
            <a:ext cx="171756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  <a:ea typeface="宋体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266688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Eras Bold ITC"/>
              <a:ea typeface="宋体"/>
            </a:endParaRPr>
          </a:p>
        </p:txBody>
      </p:sp>
      <p:pic>
        <p:nvPicPr>
          <p:cNvPr id="589" name="Picture 4" descr="Z:\newtek\_backgrounds_1.02\Tim\powerpoint templates\21-40\bowlarama\elements\strike.png"/>
          <p:cNvPicPr/>
          <p:nvPr/>
        </p:nvPicPr>
        <p:blipFill>
          <a:blip r:embed="rId1"/>
          <a:stretch/>
        </p:blipFill>
        <p:spPr>
          <a:xfrm>
            <a:off x="228600" y="4343400"/>
            <a:ext cx="2666880" cy="22557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" descr="Z:\newtek\_backgrounds_1.02\Tim\powerpoint templates\21-40\bowlarama\elements\bowlarama_prt.jpg"/>
          <p:cNvPicPr/>
          <p:nvPr/>
        </p:nvPicPr>
        <p:blipFill>
          <a:blip r:embed="rId2"/>
          <a:stretch/>
        </p:blipFill>
        <p:spPr>
          <a:xfrm>
            <a:off x="6095880" y="44956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Z:\newtek\_backgrounds_1.02\Tim\powerpoint templates\21-40\bowlarama\elements\bowlarama_qx.jpg"/>
          <p:cNvPicPr/>
          <p:nvPr/>
        </p:nvPicPr>
        <p:blipFill>
          <a:blip r:embed="rId3"/>
          <a:stretch/>
        </p:blipFill>
        <p:spPr>
          <a:xfrm>
            <a:off x="3048120" y="220968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7" descr="Z:\newtek\_backgrounds_1.02\Tim\powerpoint templates\21-40\bowlarama\elements\bowlarama_sld.jpg"/>
          <p:cNvPicPr/>
          <p:nvPr/>
        </p:nvPicPr>
        <p:blipFill>
          <a:blip r:embed="rId4"/>
          <a:stretch/>
        </p:blipFill>
        <p:spPr>
          <a:xfrm>
            <a:off x="6095880" y="22096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" descr="Z:\newtek\_backgrounds_1.02\Tim\powerpoint templates\21-40\bowlarama\elements\bowlarama_trs.jpg"/>
          <p:cNvPicPr/>
          <p:nvPr/>
        </p:nvPicPr>
        <p:blipFill>
          <a:blip r:embed="rId5"/>
          <a:stretch/>
        </p:blipFill>
        <p:spPr>
          <a:xfrm>
            <a:off x="3048120" y="449568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Z:\newtek\_backgrounds_1.02\Tim\powerpoint templates\21-40\bowlarama\elements\bowling_text_rotate_ball_hg_wht.gif"/>
          <p:cNvPicPr/>
          <p:nvPr/>
        </p:nvPicPr>
        <p:blipFill>
          <a:blip r:embed="rId6"/>
          <a:stretch/>
        </p:blipFill>
        <p:spPr>
          <a:xfrm>
            <a:off x="152280" y="152280"/>
            <a:ext cx="1710000" cy="1216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0" descr="Z:\newtek\_backgrounds_1.02\Tim\powerpoint templates\21-40\bowlarama\elements\bowler_concentrating_hg_wht.gif"/>
          <p:cNvPicPr/>
          <p:nvPr/>
        </p:nvPicPr>
        <p:blipFill>
          <a:blip r:embed="rId7"/>
          <a:stretch/>
        </p:blipFill>
        <p:spPr>
          <a:xfrm>
            <a:off x="152280" y="14479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1" descr="Z:\newtek\_backgrounds_1.02\Tim\powerpoint templates\21-40\bowlarama\elements\bowling_pins_split_hg_wht.gif"/>
          <p:cNvPicPr/>
          <p:nvPr/>
        </p:nvPicPr>
        <p:blipFill>
          <a:blip r:embed="rId8"/>
          <a:stretch/>
        </p:blipFill>
        <p:spPr>
          <a:xfrm>
            <a:off x="152280" y="3200400"/>
            <a:ext cx="1717920" cy="1055520"/>
          </a:xfrm>
          <a:prstGeom prst="rect">
            <a:avLst/>
          </a:prstGeom>
          <a:ln w="0">
            <a:noFill/>
          </a:ln>
        </p:spPr>
      </p:pic>
      <p:sp>
        <p:nvSpPr>
          <p:cNvPr id="597" name="AutoShape 12"/>
          <p:cNvSpPr/>
          <p:nvPr/>
        </p:nvSpPr>
        <p:spPr>
          <a:xfrm>
            <a:off x="1981080" y="152280"/>
            <a:ext cx="2210040" cy="990720"/>
          </a:xfrm>
          <a:prstGeom prst="wedgeRectCallout">
            <a:avLst>
              <a:gd name="adj1" fmla="val -81898"/>
              <a:gd name="adj2" fmla="val 98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1981080" y="1522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Xx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0:50:29Z</dcterms:created>
  <dc:creator>eclipse</dc:creator>
  <dc:description/>
  <cp:keywords/>
  <dc:language>en-US</dc:language>
  <cp:lastModifiedBy>a</cp:lastModifiedBy>
  <dcterms:modified xsi:type="dcterms:W3CDTF">2014-08-13T02:03:12Z</dcterms:modified>
  <cp:revision>5</cp:revision>
  <dc:subject/>
  <dc:title>Bowlara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