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DD7-A7BB-4195-BD48-C3A9681F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D53-F4F0-42DF-A3C5-A190EE68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A5-815B-487A-B308-019496B4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18C-6DA8-44FC-A71D-78173D4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A6CF-4ABB-4136-9304-7F78EF9F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5F4-7CBB-4FEB-A21A-1ED6C57E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E3DC-C120-4173-A8FA-E2DE1B7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7E58-3A2B-4B02-81E8-6A1B578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B17E-4D18-4A50-A53D-A04E341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FD36-9082-416F-ADA5-8312CEBE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A3D-65C3-443A-B0EA-AEB4627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9FF-FACD-4633-A608-E2806513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9BF0-E75A-4D1C-AC64-F56A9A6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530-488E-4260-85A0-6136D05A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753-9C02-49E3-A2CE-2C3D8E6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38DF-E3D6-4754-BBA8-54123155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39A4-B488-4F41-9C4B-799E3C9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1A04-6C64-4962-A949-1F6C5157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CD5A-3DDF-4421-90C9-9C33EAE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A85B-EB7A-4123-996E-0BB1C3AB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51D2-9FD6-419E-A88B-28ED574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B8A9-0F54-46A9-B488-CCDA34D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7D8-D224-4E03-9CC4-453D468C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E51F-F2D2-404B-89F2-47723BD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56ED-EFA4-4BDA-BA11-BBFE2F0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D8F4-1E91-4F07-BBF7-B8D04BC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3DD0-2837-45FD-9B9C-7127C55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0474-B7E2-4505-84B8-6D9DD67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ED20-03B1-48E9-93D1-3518A53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6CD6-D195-4F3E-A74E-9C9FAF03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754-4843-494D-8ABF-9D93627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2BB-D0D0-4D04-9A5D-4535093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E87-7541-44C9-A064-5191630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997-DAD6-494B-8B53-ED8F8DB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9E4-18ED-4527-BF7D-2F640B8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F01-E3EE-4039-B9D9-338E90D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FFA1-827D-416D-B2F2-FE8BF22A497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461F-6A5B-45F8-878B-0BCD1AB835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C49-2F7C-430C-9B28-58DD51B08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5A6F-4C92-40ED-BA1E-8DFCD030F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8T06:31:43Z</dcterms:modified>
  <cp:revision>1</cp:revision>
  <dc:subject/>
  <dc:title>PowerPoint 演示文稿</dc:title>
</cp:coreProperties>
</file>