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ABD-4D07-4312-ABA4-511A6D08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554-D9E7-41AC-B746-36560DDB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5C2-2F7A-4D81-872F-8C643CCA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89A-62DF-49C7-AA07-33080C54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314B-7155-4D1F-92A0-0A9AE0F7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8E0B-84A0-4AD0-A29F-A10D3D61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385B-2F60-4FB4-96C4-59E157E2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BBD0-32B7-46AC-AC6D-3CE9AFAD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6041-BE74-4997-864E-F3320580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BD78-9287-4940-9097-6EBEA19F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46D7-E4DE-4C4B-9152-3C19E90A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C09-3B0C-4CD5-81DD-14CAF3B4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4D87-CC65-4D82-B2D2-5A97FF8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432F-DF0D-4586-A24F-28F1695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5F27-98CA-4E1F-8711-48C2C03F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209B-F1D4-4EBB-B670-BA326B61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D080-E3AC-42DD-BD8B-C9B01326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7F47-CE81-4B42-BBFA-550DE979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9201-8978-4674-AF19-BF44A5DD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9016-2AA9-4D98-8734-3C5A16A0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22D0-CFF5-4704-9A40-CFF5F5FE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CB8D-57D4-4E56-B293-A5C492F9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172-DCAA-4699-8955-4CC5B824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61C7-590D-4D2E-A907-65C766C7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15DF-3E14-4FC6-9823-BA85E52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1C34-92D2-4261-8FF1-EB3D5A5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190A-F5B3-44B0-804D-07FECF7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8F60-4C69-4D58-9C09-1414529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B436-340D-484C-8FD0-DC9DCFFF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534C-1B02-4284-A09E-7F9A0440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3FF-E0F8-452D-8465-725B25A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4E4-2E43-4E9A-B7FE-DB7EA06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0A8-A5DB-445D-9F85-F11974D7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78E-0FCB-4659-8F76-C41DB947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A82-F0B3-4D89-9863-18D374F6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886-619B-455F-B6C6-A80CB2B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CB73-B1F6-4CB2-A317-284C15C3674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6451-08A6-4014-82C6-1513BC37CDB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7DF4-0008-4DB8-9016-32A36C5FE443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70F5-DED3-4218-BB54-52B4DBE79E83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2480400" y="77004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WER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IN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132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134" name="Group 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135" name="Group 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136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41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" name="Group 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46" name="Group 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47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52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57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58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59" name="AutoShape 32"/>
                  <p:cNvSpPr/>
                  <p:nvPr/>
                </p:nvSpPr>
                <p:spPr>
                  <a:xfrm flipH="1" flipV="1" rot="16891800">
                    <a:off x="2144160" y="2724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33"/>
                  <p:cNvSpPr/>
                  <p:nvPr/>
                </p:nvSpPr>
                <p:spPr>
                  <a:xfrm flipH="1" flipV="1" rot="17707200">
                    <a:off x="2193480" y="2738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64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38"/>
                  <p:cNvSpPr/>
                  <p:nvPr/>
                </p:nvSpPr>
                <p:spPr>
                  <a:xfrm flipH="1" flipV="1" rot="19060800">
                    <a:off x="2277360" y="27842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69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70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75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Group 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80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966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83" name="Group 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84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89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63"/>
                  <p:cNvSpPr/>
                  <p:nvPr/>
                </p:nvSpPr>
                <p:spPr>
                  <a:xfrm flipH="1" flipV="1" rot="7542600">
                    <a:off x="196776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95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200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205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206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207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212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217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218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AutoShape 92"/>
                  <p:cNvSpPr/>
                  <p:nvPr/>
                </p:nvSpPr>
                <p:spPr>
                  <a:xfrm flipH="1" flipV="1" rot="18051600">
                    <a:off x="220932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223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97"/>
                  <p:cNvSpPr/>
                  <p:nvPr/>
                </p:nvSpPr>
                <p:spPr>
                  <a:xfrm flipH="1" flipV="1" rot="19404600">
                    <a:off x="227232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7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228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96633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230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231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232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237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42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3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48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Group 125"/>
            <p:cNvGrpSpPr/>
            <p:nvPr/>
          </p:nvGrpSpPr>
          <p:grpSpPr>
            <a:xfrm>
              <a:off x="2012400" y="3519000"/>
              <a:ext cx="434520" cy="382320"/>
              <a:chOff x="2012400" y="3519000"/>
              <a:chExt cx="434520" cy="382320"/>
            </a:xfrm>
          </p:grpSpPr>
          <p:grpSp>
            <p:nvGrpSpPr>
              <p:cNvPr id="253" name="Group 126"/>
              <p:cNvGrpSpPr/>
              <p:nvPr/>
            </p:nvGrpSpPr>
            <p:grpSpPr>
              <a:xfrm>
                <a:off x="2012400" y="3519000"/>
                <a:ext cx="417960" cy="371160"/>
                <a:chOff x="2012400" y="3519000"/>
                <a:chExt cx="417960" cy="371160"/>
              </a:xfrm>
            </p:grpSpPr>
            <p:grpSp>
              <p:nvGrpSpPr>
                <p:cNvPr id="254" name="Group 127"/>
                <p:cNvGrpSpPr/>
                <p:nvPr/>
              </p:nvGrpSpPr>
              <p:grpSpPr>
                <a:xfrm>
                  <a:off x="2012400" y="3519000"/>
                  <a:ext cx="417960" cy="371160"/>
                  <a:chOff x="2012400" y="3519000"/>
                  <a:chExt cx="417960" cy="371160"/>
                </a:xfrm>
              </p:grpSpPr>
              <p:grpSp>
                <p:nvGrpSpPr>
                  <p:cNvPr id="255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56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133"/>
                  <p:cNvGrpSpPr/>
                  <p:nvPr/>
                </p:nvGrpSpPr>
                <p:grpSpPr>
                  <a:xfrm>
                    <a:off x="2116080" y="3520800"/>
                    <a:ext cx="314280" cy="369360"/>
                    <a:chOff x="2116080" y="3520800"/>
                    <a:chExt cx="314280" cy="369360"/>
                  </a:xfrm>
                </p:grpSpPr>
                <p:sp>
                  <p:nvSpPr>
                    <p:cNvPr id="261" name="AutoShape 134"/>
                    <p:cNvSpPr/>
                    <p:nvPr/>
                  </p:nvSpPr>
                  <p:spPr>
                    <a:xfrm flipH="1" flipV="1" rot="18525600">
                      <a:off x="2220840" y="349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35"/>
                    <p:cNvSpPr/>
                    <p:nvPr/>
                  </p:nvSpPr>
                  <p:spPr>
                    <a:xfrm flipH="1" flipV="1" rot="19341600">
                      <a:off x="2259360" y="3526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5" name="Group 138"/>
                <p:cNvGrpSpPr/>
                <p:nvPr/>
              </p:nvGrpSpPr>
              <p:grpSpPr>
                <a:xfrm>
                  <a:off x="2054160" y="3547800"/>
                  <a:ext cx="342360" cy="303120"/>
                  <a:chOff x="2054160" y="3547800"/>
                  <a:chExt cx="342360" cy="303120"/>
                </a:xfrm>
              </p:grpSpPr>
              <p:grpSp>
                <p:nvGrpSpPr>
                  <p:cNvPr id="266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67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144"/>
                  <p:cNvGrpSpPr/>
                  <p:nvPr/>
                </p:nvGrpSpPr>
                <p:grpSpPr>
                  <a:xfrm>
                    <a:off x="2138760" y="3548880"/>
                    <a:ext cx="257760" cy="302040"/>
                    <a:chOff x="2138760" y="3548880"/>
                    <a:chExt cx="257760" cy="302040"/>
                  </a:xfrm>
                </p:grpSpPr>
                <p:sp>
                  <p:nvSpPr>
                    <p:cNvPr id="272" name="AutoShape 145"/>
                    <p:cNvSpPr/>
                    <p:nvPr/>
                  </p:nvSpPr>
                  <p:spPr>
                    <a:xfrm flipH="1" flipV="1" rot="18525600">
                      <a:off x="2224440" y="35262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146"/>
                    <p:cNvSpPr/>
                    <p:nvPr/>
                  </p:nvSpPr>
                  <p:spPr>
                    <a:xfrm flipH="1" flipV="1" rot="19341600">
                      <a:off x="2256120" y="35542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6" name="Group 149"/>
              <p:cNvGrpSpPr/>
              <p:nvPr/>
            </p:nvGrpSpPr>
            <p:grpSpPr>
              <a:xfrm>
                <a:off x="2028600" y="3530160"/>
                <a:ext cx="418320" cy="371160"/>
                <a:chOff x="2028600" y="3530160"/>
                <a:chExt cx="418320" cy="371160"/>
              </a:xfrm>
            </p:grpSpPr>
            <p:grpSp>
              <p:nvGrpSpPr>
                <p:cNvPr id="277" name="Group 150"/>
                <p:cNvGrpSpPr/>
                <p:nvPr/>
              </p:nvGrpSpPr>
              <p:grpSpPr>
                <a:xfrm>
                  <a:off x="2028600" y="3530160"/>
                  <a:ext cx="418320" cy="371160"/>
                  <a:chOff x="2028600" y="3530160"/>
                  <a:chExt cx="418320" cy="371160"/>
                </a:xfrm>
              </p:grpSpPr>
              <p:grpSp>
                <p:nvGrpSpPr>
                  <p:cNvPr id="278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79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156"/>
                  <p:cNvGrpSpPr/>
                  <p:nvPr/>
                </p:nvGrpSpPr>
                <p:grpSpPr>
                  <a:xfrm>
                    <a:off x="2132280" y="3531960"/>
                    <a:ext cx="314640" cy="369360"/>
                    <a:chOff x="2132280" y="3531960"/>
                    <a:chExt cx="314640" cy="369360"/>
                  </a:xfrm>
                </p:grpSpPr>
                <p:sp>
                  <p:nvSpPr>
                    <p:cNvPr id="284" name="AutoShape 157"/>
                    <p:cNvSpPr/>
                    <p:nvPr/>
                  </p:nvSpPr>
                  <p:spPr>
                    <a:xfrm flipH="1" flipV="1" rot="18525600">
                      <a:off x="2237040" y="3504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58"/>
                    <p:cNvSpPr/>
                    <p:nvPr/>
                  </p:nvSpPr>
                  <p:spPr>
                    <a:xfrm flipH="1" flipV="1" rot="19341600">
                      <a:off x="2275560" y="3537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8" name="Group 161"/>
                <p:cNvGrpSpPr/>
                <p:nvPr/>
              </p:nvGrpSpPr>
              <p:grpSpPr>
                <a:xfrm>
                  <a:off x="2070720" y="3558960"/>
                  <a:ext cx="342000" cy="303120"/>
                  <a:chOff x="2070720" y="3558960"/>
                  <a:chExt cx="342000" cy="303120"/>
                </a:xfrm>
              </p:grpSpPr>
              <p:grpSp>
                <p:nvGrpSpPr>
                  <p:cNvPr id="289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90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167"/>
                  <p:cNvGrpSpPr/>
                  <p:nvPr/>
                </p:nvGrpSpPr>
                <p:grpSpPr>
                  <a:xfrm>
                    <a:off x="2155320" y="3560040"/>
                    <a:ext cx="257400" cy="302040"/>
                    <a:chOff x="2155320" y="3560040"/>
                    <a:chExt cx="257400" cy="302040"/>
                  </a:xfrm>
                </p:grpSpPr>
                <p:sp>
                  <p:nvSpPr>
                    <p:cNvPr id="295" name="AutoShape 168"/>
                    <p:cNvSpPr/>
                    <p:nvPr/>
                  </p:nvSpPr>
                  <p:spPr>
                    <a:xfrm flipH="1" flipV="1" rot="18525600">
                      <a:off x="2241000" y="35373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9"/>
                    <p:cNvSpPr/>
                    <p:nvPr/>
                  </p:nvSpPr>
                  <p:spPr>
                    <a:xfrm flipH="1" flipV="1" rot="19341600">
                      <a:off x="2272680" y="35654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99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300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6633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302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303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304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309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Group 1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314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315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320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5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6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7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28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3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210"/>
                <p:cNvGrpSpPr/>
                <p:nvPr/>
              </p:nvGrpSpPr>
              <p:grpSpPr>
                <a:xfrm>
                  <a:off x="2050920" y="1179000"/>
                  <a:ext cx="353160" cy="311760"/>
                  <a:chOff x="2050920" y="1179000"/>
                  <a:chExt cx="353160" cy="311760"/>
                </a:xfrm>
              </p:grpSpPr>
              <p:grpSp>
                <p:nvGrpSpPr>
                  <p:cNvPr id="338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339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216"/>
                  <p:cNvGrpSpPr/>
                  <p:nvPr/>
                </p:nvGrpSpPr>
                <p:grpSpPr>
                  <a:xfrm>
                    <a:off x="2139120" y="1180080"/>
                    <a:ext cx="264960" cy="310680"/>
                    <a:chOff x="2139120" y="1180080"/>
                    <a:chExt cx="264960" cy="310680"/>
                  </a:xfrm>
                </p:grpSpPr>
                <p:sp>
                  <p:nvSpPr>
                    <p:cNvPr id="344" name="AutoShape 217"/>
                    <p:cNvSpPr/>
                    <p:nvPr/>
                  </p:nvSpPr>
                  <p:spPr>
                    <a:xfrm flipH="1" flipV="1" rot="18525600">
                      <a:off x="2227320" y="11574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218"/>
                    <p:cNvSpPr/>
                    <p:nvPr/>
                  </p:nvSpPr>
                  <p:spPr>
                    <a:xfrm flipH="1" flipV="1" rot="19341600">
                      <a:off x="2259000" y="11851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8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49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0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1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6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0" name="Group 233"/>
                <p:cNvGrpSpPr/>
                <p:nvPr/>
              </p:nvGrpSpPr>
              <p:grpSpPr>
                <a:xfrm>
                  <a:off x="2068200" y="1190160"/>
                  <a:ext cx="352800" cy="312120"/>
                  <a:chOff x="2068200" y="1190160"/>
                  <a:chExt cx="352800" cy="312120"/>
                </a:xfrm>
              </p:grpSpPr>
              <p:grpSp>
                <p:nvGrpSpPr>
                  <p:cNvPr id="361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62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39"/>
                  <p:cNvGrpSpPr/>
                  <p:nvPr/>
                </p:nvGrpSpPr>
                <p:grpSpPr>
                  <a:xfrm>
                    <a:off x="2156040" y="1191600"/>
                    <a:ext cx="264960" cy="310680"/>
                    <a:chOff x="2156040" y="1191600"/>
                    <a:chExt cx="264960" cy="310680"/>
                  </a:xfrm>
                </p:grpSpPr>
                <p:sp>
                  <p:nvSpPr>
                    <p:cNvPr id="367" name="AutoShape 240"/>
                    <p:cNvSpPr/>
                    <p:nvPr/>
                  </p:nvSpPr>
                  <p:spPr>
                    <a:xfrm flipH="1" flipV="1" rot="18525600">
                      <a:off x="2244240" y="11689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241"/>
                    <p:cNvSpPr/>
                    <p:nvPr/>
                  </p:nvSpPr>
                  <p:spPr>
                    <a:xfrm flipH="1" flipV="1" rot="19341600">
                      <a:off x="2275920" y="1196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1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0"/>
          <p:cNvGrpSpPr/>
          <p:nvPr/>
        </p:nvGrpSpPr>
        <p:grpSpPr>
          <a:xfrm>
            <a:off x="1830240" y="4308480"/>
            <a:ext cx="615960" cy="628920"/>
            <a:chOff x="1830240" y="4308480"/>
            <a:chExt cx="615960" cy="628920"/>
          </a:xfrm>
        </p:grpSpPr>
        <p:sp>
          <p:nvSpPr>
            <p:cNvPr id="375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a50021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102"/>
            <p:cNvGrpSpPr/>
            <p:nvPr/>
          </p:nvGrpSpPr>
          <p:grpSpPr>
            <a:xfrm>
              <a:off x="1830240" y="4631760"/>
              <a:ext cx="475560" cy="305640"/>
              <a:chOff x="1830240" y="4631760"/>
              <a:chExt cx="475560" cy="305640"/>
            </a:xfrm>
          </p:grpSpPr>
          <p:grpSp>
            <p:nvGrpSpPr>
              <p:cNvPr id="377" name="Group 103"/>
              <p:cNvGrpSpPr/>
              <p:nvPr/>
            </p:nvGrpSpPr>
            <p:grpSpPr>
              <a:xfrm>
                <a:off x="1830240" y="4631760"/>
                <a:ext cx="475560" cy="305640"/>
                <a:chOff x="1830240" y="4631760"/>
                <a:chExt cx="475560" cy="305640"/>
              </a:xfrm>
            </p:grpSpPr>
            <p:grpSp>
              <p:nvGrpSpPr>
                <p:cNvPr id="378" name="Group 104"/>
                <p:cNvGrpSpPr/>
                <p:nvPr/>
              </p:nvGrpSpPr>
              <p:grpSpPr>
                <a:xfrm>
                  <a:off x="1884600" y="4718880"/>
                  <a:ext cx="421200" cy="209160"/>
                  <a:chOff x="1884600" y="4718880"/>
                  <a:chExt cx="421200" cy="209160"/>
                </a:xfrm>
              </p:grpSpPr>
              <p:sp>
                <p:nvSpPr>
                  <p:cNvPr id="379" name="AutoShape 105"/>
                  <p:cNvSpPr/>
                  <p:nvPr/>
                </p:nvSpPr>
                <p:spPr>
                  <a:xfrm flipH="1" flipV="1" rot="5374200">
                    <a:off x="2112480" y="469152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AutoShape 106"/>
                  <p:cNvSpPr/>
                  <p:nvPr/>
                </p:nvSpPr>
                <p:spPr>
                  <a:xfrm flipH="1" flipV="1" rot="6189600">
                    <a:off x="2061360" y="4689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1830240" y="4631760"/>
                  <a:ext cx="382320" cy="305640"/>
                  <a:chOff x="1830240" y="4631760"/>
                  <a:chExt cx="382320" cy="305640"/>
                </a:xfrm>
              </p:grpSpPr>
              <p:sp>
                <p:nvSpPr>
                  <p:cNvPr id="384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AutoShape 111"/>
                  <p:cNvSpPr/>
                  <p:nvPr/>
                </p:nvSpPr>
                <p:spPr>
                  <a:xfrm flipH="1" flipV="1" rot="7542600">
                    <a:off x="1969200" y="466236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89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90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95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9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400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401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402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3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408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2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413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4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419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424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425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6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431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436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7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42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6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6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6633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6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966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6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7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a50021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4"/>
          <p:cNvSpPr txBox="1"/>
          <p:nvPr/>
        </p:nvSpPr>
        <p:spPr>
          <a:xfrm>
            <a:off x="3244680" y="73332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83" name="WordArt 5"/>
          <p:cNvSpPr txBox="1"/>
          <p:nvPr/>
        </p:nvSpPr>
        <p:spPr>
          <a:xfrm>
            <a:off x="3722760" y="1447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485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4:21:56Z</dcterms:created>
  <dc:creator>北京锐得幻演广告有限公司</dc:creator>
  <dc:description/>
  <dc:language>en-US</dc:language>
  <cp:lastModifiedBy>a</cp:lastModifiedBy>
  <dcterms:modified xsi:type="dcterms:W3CDTF">2015-01-12T13:13:59Z</dcterms:modified>
  <cp:revision>350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