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16A2-60BC-4053-940F-2C87BDE19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8DB7-837B-4D06-B6BE-433813A7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1867-B545-441C-A58D-DDEB6EB7E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292A-9F76-4788-A5D1-3A2CF7996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E518-8127-48A3-B8DC-F64A57BDF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D675-3364-4FFC-863E-FF210DCD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BAA1E-21A5-460C-9A0B-5D1172A1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D430-39D4-48D5-BC00-C578D4A4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C81C-C754-4F0E-9DF7-36FFF5C8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D0A3-BFD8-4F75-B0EE-C07CB614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BE0B-CC7D-4D7D-9F09-A1F1189A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98DF-B46A-4358-B880-DACC5E1F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EFE07-C316-434A-B7A8-3B96460A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26279-8E67-4892-BFEF-9F7DF4DD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2E31-C744-4442-9C9D-6AB49DAD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0E62-292D-4F56-B7D2-2E5293FE1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EAB7-E70D-40AD-AFB5-818515D9B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1FC9F-58E7-4CD6-A7B5-1BCE74B36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DC67E-14AD-4F33-8CCF-49C02D8B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22B86-D65B-4A7D-A35B-5EB4968A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A4FDB-0A6C-49B9-BF28-4EC806BC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6FBA2-957F-4AD8-9AF7-A998C0D4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D17D-F6B1-4214-8E14-C8CC0F99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CDCAF-6C47-4ECB-85B1-4D74577A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F0583-5B44-4A27-B707-D931FE08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759A0-AAFE-40F1-AC42-F85CE7AC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CB195-231E-44C5-8081-069F36F0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5EC5F-BE15-49FF-B98A-5B704A0B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9D7EC-D59D-4F57-A9D0-778F0A431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E44F5-8E2D-4485-94B8-5FCFF575F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5835-4A5D-431F-9D1D-68120B29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97ED-98A3-4C77-9A8A-AD2BB35E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6D9C-798C-4BB0-8EE7-CB60FF6E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3702-EF35-47B3-88B5-B5B247A3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652D-725A-4919-84BA-8754D105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B262-39AF-4212-987B-3983F994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76176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626160"/>
            <a:ext cx="213336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6160"/>
            <a:ext cx="289584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4320" y="6626160"/>
            <a:ext cx="213336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C626-445D-42EB-8B4B-7547974F6093}" type="slidenum"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078F-C081-4483-8AF2-1523583BE32B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E07D-6376-42B1-898B-440363ACE84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52280" y="76176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6320" y="6629400"/>
            <a:ext cx="213336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629400"/>
            <a:ext cx="289584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934320" y="6629400"/>
            <a:ext cx="213336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9869-0F8F-4B59-9B89-FEA82B1E986A}" type="slidenum"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24080" y="2666880"/>
            <a:ext cx="5943600" cy="13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宋体"/>
              </a:rPr>
              <a:t>Gearloose</a:t>
            </a:r>
            <a:endParaRPr b="0" lang="en-US" sz="4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038480" y="2057400"/>
            <a:ext cx="51055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  <a:ea typeface="宋体"/>
              </a:rPr>
              <a:t>Your Subtitle Goes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 Black"/>
                <a:ea typeface="宋体"/>
              </a:rPr>
              <a:t>Your Main Topic Goes Here</a:t>
            </a:r>
            <a:endParaRPr b="0" lang="en-US" sz="32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Your subtopic goes he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24080" y="2666880"/>
            <a:ext cx="5943600" cy="13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宋体"/>
              </a:rPr>
              <a:t>Transitional Page</a:t>
            </a:r>
            <a:endParaRPr b="0" lang="en-US" sz="44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038480" y="2057400"/>
            <a:ext cx="5105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000" spc="-1" strike="noStrike">
              <a:solidFill>
                <a:srgbClr val="5f5f5f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 Black"/>
                <a:ea typeface="宋体"/>
              </a:rPr>
              <a:t>Your Main Topic Goes Here</a:t>
            </a:r>
            <a:endParaRPr b="0" lang="en-US" sz="32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Your subtopic goes he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52280" y="944640"/>
            <a:ext cx="243864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These are full sized backdrops, just scale them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Can be Copy-Pasted out of Templates for use an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753280" y="93816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itl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4343760" y="93816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lid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5672520" y="93816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ransitional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7487280" y="93816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int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gearloose_prt"/>
          <p:cNvPicPr/>
          <p:nvPr/>
        </p:nvPicPr>
        <p:blipFill>
          <a:blip r:embed="rId1"/>
          <a:stretch/>
        </p:blipFill>
        <p:spPr>
          <a:xfrm>
            <a:off x="7391520" y="1219320"/>
            <a:ext cx="144756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7" name="Picture 10" descr="gearloose_qx"/>
          <p:cNvPicPr/>
          <p:nvPr/>
        </p:nvPicPr>
        <p:blipFill>
          <a:blip r:embed="rId2"/>
          <a:stretch/>
        </p:blipFill>
        <p:spPr>
          <a:xfrm>
            <a:off x="26668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8" name="Picture 11" descr="gearloose_sld"/>
          <p:cNvPicPr/>
          <p:nvPr/>
        </p:nvPicPr>
        <p:blipFill>
          <a:blip r:embed="rId3"/>
          <a:stretch/>
        </p:blipFill>
        <p:spPr>
          <a:xfrm>
            <a:off x="4241880" y="1219320"/>
            <a:ext cx="144756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9" name="Picture 12" descr="gearloose_trs"/>
          <p:cNvPicPr/>
          <p:nvPr/>
        </p:nvPicPr>
        <p:blipFill>
          <a:blip r:embed="rId4"/>
          <a:stretch/>
        </p:blipFill>
        <p:spPr>
          <a:xfrm>
            <a:off x="581652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5T22:27:01Z</dcterms:created>
  <dc:creator>eclipse</dc:creator>
  <dc:description/>
  <cp:keywords/>
  <dc:language>en-US</dc:language>
  <cp:lastModifiedBy>a</cp:lastModifiedBy>
  <dcterms:modified xsi:type="dcterms:W3CDTF">2014-08-13T01:40:27Z</dcterms:modified>
  <cp:revision>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