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8F53-0CBF-4530-8D1C-2D67C8A4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EA4D-A614-42DB-8F72-4B216B28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5445-920F-4E7E-A646-DCEA31BD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B2A6-D4D0-405D-B673-2EDE7A94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345E-F70F-4E83-9A23-3D5ADC11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FF4F-A41A-48E9-9A30-EAE12D0B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2071-C98D-4437-9331-EAC5EA69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4271-E4C2-4FD6-82F5-D5FF7E85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A458-E6BC-41FF-A098-CD55A125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1FF6-D52E-47A5-8BE2-C499C7BD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69C7-AA99-4E85-9B12-A343F0EC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CF2C-9C58-43C0-8CE7-B65EB51A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A387-6A4B-4F52-9FAC-952F3F851E3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C797-11C1-4AE9-83EC-A7768020F6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谢谢观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未命名_副本"/>
          <p:cNvPicPr/>
          <p:nvPr/>
        </p:nvPicPr>
        <p:blipFill>
          <a:blip r:embed="rId2"/>
          <a:stretch/>
        </p:blipFill>
        <p:spPr>
          <a:xfrm>
            <a:off x="6480" y="4654440"/>
            <a:ext cx="91789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cp:keywords/>
  <dc:language>en-US</dc:language>
  <cp:lastModifiedBy>a</cp:lastModifiedBy>
  <dcterms:modified xsi:type="dcterms:W3CDTF">2014-07-17T05:49:08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