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68A-FB3B-46C5-9793-7FDA1DEA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70E3-AD57-4569-B70C-D792E2C7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AF5-EA27-4AF4-B15B-D1978E1E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BADD-0FAC-4959-B4DE-00DB895E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AA03-98E1-4D37-871D-913E4A3A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BDA2-41D5-4CE5-9867-9D9A75C6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B245-251E-4BCB-BA74-ADAD8068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AA7F-127A-4329-B50C-7B8DA712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BEEE-4580-4337-9699-106E2EE4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F780-0DD1-4B2F-ACB2-814A89A5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2F56-442F-4C8C-8F9C-1DC12C46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0DF-585B-436C-85CD-542E0BEA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3153-F365-4C9F-866A-28B17CF1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940B-B12C-4C75-A801-37034112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77F9-C740-4FE1-89C0-77CB4AB6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EAAA-3B64-4502-A82F-CD81682D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68A1-EE4A-420A-A6FA-87A7A13B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D16AE-9F70-436D-8549-5D63CD37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EBE7F-0F3A-4516-B06E-28F06162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BD437-4847-4130-8429-602515D9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5D607-AFC0-4170-9A08-BF108A20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13C4D-CB18-403A-AE2C-1B8B516B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ABC5-7BA8-4393-A14D-213DAE4F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771BD-E778-4253-B41D-96B2EA8A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3B236-F6A9-4932-9C9C-DC2D9264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BD0FB-9C2E-4573-BBDB-DAD8DC17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241E1-47BA-40BE-A1BB-6F33827F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C5EF3-5FA9-417D-90FB-72EDEA63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3DDCD-2B79-4591-A922-F0A89362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DB393-E128-4C92-BAC1-9B5768A7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0B0-947C-47D6-A5BB-D6798A96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2B2-CB91-4F1E-A940-12811301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A7AA-6299-438D-BEFA-4B3F7E7F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8FE3-6631-4D72-9CD0-9AC2D9F5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D84-D754-4BC3-B087-C12E93CB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5D4-6664-41E4-B106-9776274B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8d31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08d3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37124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4920"/>
            <a:ext cx="1905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743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05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F823-4681-456B-AE91-C27A40A47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750C-3F94-4DA8-8D4C-2031FD8616B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B839-7716-4D5A-B615-D6154C0987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8d31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08d3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37124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689A-0369-4339-80A0-8F70823B3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5105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8d31"/>
                </a:solidFill>
                <a:latin typeface="Times New Roman"/>
                <a:ea typeface="宋体"/>
              </a:rPr>
              <a:t>BASEBALL OUTLINE</a:t>
            </a:r>
            <a:endParaRPr b="0" lang="en-US" sz="4000" spc="-1" strike="noStrike">
              <a:solidFill>
                <a:srgbClr val="f08d31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440" y="35053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8d31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f08d3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8d31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f08d31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eorgia"/>
                <a:ea typeface="宋体"/>
              </a:rPr>
              <a:t>TRANSITIONAL PAGE</a:t>
            </a:r>
            <a:endParaRPr b="0" lang="en-US" sz="4000" spc="-1" strike="noStrike">
              <a:solidFill>
                <a:srgbClr val="f08d31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440" y="35053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105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aeaea"/>
                </a:solidFill>
                <a:latin typeface="Eurostile"/>
                <a:ea typeface="宋体"/>
              </a:rPr>
              <a:t>Elements</a:t>
            </a:r>
            <a:endParaRPr b="0" lang="en-US" sz="4800" spc="-1" strike="noStrike">
              <a:solidFill>
                <a:srgbClr val="f08d31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114440" y="137124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3" name="Picture 4" descr="baseball_outline_prt"/>
          <p:cNvPicPr/>
          <p:nvPr/>
        </p:nvPicPr>
        <p:blipFill>
          <a:blip r:embed="rId1"/>
          <a:stretch/>
        </p:blipFill>
        <p:spPr>
          <a:xfrm>
            <a:off x="6400800" y="4648320"/>
            <a:ext cx="243828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4" name="Picture 5" descr="baseball_outline_qx"/>
          <p:cNvPicPr/>
          <p:nvPr/>
        </p:nvPicPr>
        <p:blipFill>
          <a:blip r:embed="rId2"/>
          <a:stretch/>
        </p:blipFill>
        <p:spPr>
          <a:xfrm>
            <a:off x="3581280" y="2438280"/>
            <a:ext cx="243864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5" name="Picture 6" descr="baseball_outline_sld"/>
          <p:cNvPicPr/>
          <p:nvPr/>
        </p:nvPicPr>
        <p:blipFill>
          <a:blip r:embed="rId3"/>
          <a:stretch/>
        </p:blipFill>
        <p:spPr>
          <a:xfrm>
            <a:off x="3581280" y="4648320"/>
            <a:ext cx="243864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6" name="Picture 7" descr="baseball_outline_trs"/>
          <p:cNvPicPr/>
          <p:nvPr/>
        </p:nvPicPr>
        <p:blipFill>
          <a:blip r:embed="rId4"/>
          <a:stretch/>
        </p:blipFill>
        <p:spPr>
          <a:xfrm>
            <a:off x="6400800" y="2438280"/>
            <a:ext cx="243828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7" name="Picture 8" descr="outline"/>
          <p:cNvPicPr/>
          <p:nvPr/>
        </p:nvPicPr>
        <p:blipFill>
          <a:blip r:embed="rId5"/>
          <a:stretch/>
        </p:blipFill>
        <p:spPr>
          <a:xfrm>
            <a:off x="407880" y="2514600"/>
            <a:ext cx="2640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7:20:08Z</dcterms:created>
  <dc:creator>eclipse</dc:creator>
  <dc:description/>
  <cp:keywords/>
  <dc:language>en-US</dc:language>
  <cp:lastModifiedBy>a</cp:lastModifiedBy>
  <dcterms:modified xsi:type="dcterms:W3CDTF">2014-07-31T04:33:27Z</dcterms:modified>
  <cp:revision>2</cp:revision>
  <dc:subject/>
  <dc:title>BASEBALL OUTL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