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EEC2-22E1-4042-910E-86642DAE6AE6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7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BA05-F705-43F1-9638-FE3E385709A6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-3852720" y="0"/>
            <a:ext cx="8165880" cy="612612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海南三亚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装机量？规模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7B99-A471-4AEA-BE54-9A4055A30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E635-D97D-4A5F-821B-AB0EF8A5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56428-B9C3-43F4-8C00-99BB32BD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CAB00-E726-4962-A2F4-7101D7FF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9AEBA-1D65-4E98-9A19-E35B14DB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B9CFF-3BCE-4CC0-AFFE-005E0E15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E1699-2660-49BB-AC4B-85EB7D2A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B68B5-78AF-49E6-936F-6853F4B3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E0802-75F9-4F7E-8AB4-B4E5462C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59B75-497F-448C-9AB6-5DD098F2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8A834-6F08-4AE9-9563-87564DA8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6F47B-87C6-46B6-A25F-8C9F30EE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4B16-3E4A-41FA-AA99-8C6BE03B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26211-08BE-4EF6-8ABC-8478755C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77ADB-E2A3-4FF3-AEB5-82E7B5FE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B807E-1662-4DB0-90AD-FD3F8051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820F3-07B4-4963-A948-B4C5E7FA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D3C72-26B0-4F84-AA37-FF57C668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31744-9931-4A46-8AD6-EC6B4576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BE4F9-8A52-407B-B02D-A3500C6A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30BDF-E8A8-4A01-9AAC-46056C21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00F99-869A-4642-B5ED-76B3F78F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AB9F5-952F-4C34-95B4-D7C1D01E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20CE-BC4A-476B-9254-640A1D69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CFAB3-EF84-4C1A-8CC3-388707CF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D745B-FAA4-4F32-84FC-94F77FF8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3C7B9-35FF-4DF6-A0BB-643E8E88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E8DF8-24D6-4ADA-92CC-67EF44FE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9FCD3-49B0-4804-97BB-45940A20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61C4A-0409-49F4-89EE-6B0DAD45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C9EA1-46A1-4DE4-B7DB-CFE25341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773BB-3BFA-453E-80DF-421E1BF6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6D9A8-E443-4AAB-B6EC-1C4FD34E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5B655-A2E3-482B-8958-25957085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EC85-50E7-49D2-8659-F6F9D7BA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C0D02-FEA4-403C-AB39-04A2BC0F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3602F-7802-4358-B0BB-A744A078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C4538-A1C9-4EBE-BFCF-3962D794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FA494-9AAF-48BA-BF7F-EBBFE28F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73A83-B692-4E07-B182-4BF0FC96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6CAFA-3F67-4CC2-BC02-F3AEAF0B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37948-413E-4B9D-8B74-8E64948C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112C66-48C3-428E-B620-22EC2312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44947-800D-4113-BBD1-FE9C4C1D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FB6A1-BB3B-4979-86C7-2D898C6F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9549-0E4B-4C75-AB25-8B25FE05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5CBDB-7280-41E4-B24B-0EB01F66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8A8D9-7FD8-4956-AF79-FDB0E2D8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1ECEA-D7DE-4418-B224-2FDEF5D3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2C4B9-6C7A-4A93-931C-0CCDF232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E8A7E-EEC6-4786-96FE-D9BAE2C1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A4B648-6EF9-4202-A550-D4120B47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0E5403-03D8-4596-B57B-217C54FF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8F806-AFCA-49EF-95E5-68C16B93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106474-16EC-4565-97DD-6B229D05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EFB0EC-9674-4AD7-8F31-15F4F6C6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1B21-7D44-40E8-80E4-5802E5B4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7B5889-0E7D-4615-8265-3341A715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05970-F45A-4902-BC03-F58068A8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686FEA-BB44-43AF-89A9-06D91579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609B17-7D18-4809-85DE-68EEFEA4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B72DE9-B746-4DFD-85FD-EA62EB7E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3BF409-3C5C-4052-A05D-2AA653C5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7C4514-8DDC-4815-9913-653A6AEB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AF22-1D8B-4F96-857D-C82DEB6C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1DC6-93C1-4505-9724-6B6EF55E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75FB-13EB-4004-8E87-7A367F20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4B40-574D-44E8-A860-B08C1A2D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A425-175C-4647-A7AB-534FEDC9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8CD9-FC93-470D-A65F-6FCB185E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B99B-4D99-451B-9924-048031BF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80F6-9086-46A0-8043-D2288C8D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A2BB-8C5B-4166-A30A-F1C4EC2F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17CE-8A11-47C5-97E4-D64F77A73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323A9-A0CF-4CC4-B84A-225A65B6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132B6-A1E2-4C7B-B87D-E56942DD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41187-EBB3-44A7-A424-884C69A7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FB8BB-DB11-433E-A97B-773A9F45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41CE2-024C-43E6-A4F0-EEBD9419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CC66-DD14-4963-B1B6-7444AEB2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F428F-4203-4813-89EB-58D6F32E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2E232-CD6A-4B73-9FCE-D08F3F8C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60B2D-4116-4459-84F4-0916A3A1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01E39-7011-4A47-801D-DFB28806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955B1-6D83-4E9C-ACD6-2C91CBCB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DBE38-B84C-4A39-A3FB-625ACA70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F812C-2702-4A72-94AA-1F8736AF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611DF-5652-41B1-A655-4026A511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0C331-DF25-4AF9-A379-26A24B27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BDD34-9746-4E94-B4EE-2C2D13B3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B7E0-7864-42EF-AFDD-1A2C1C95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6C4CF-22B2-4AE1-B52C-C5D0FC2D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4D53C-4326-48EA-8E8A-7FE2B924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0FB40-5B89-4414-A6B0-B16C9909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DCD55-B8A3-408B-BEA4-DD80AC94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FA4BB-1285-40D5-AB3E-DF59C2B4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59E1B-5EFE-4C32-A976-8B47C112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422E5-77DC-4941-99B4-022CAE89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225FE-4B3C-4DFE-8B70-5BA0479F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08DC7-8ED1-4CC6-BB6F-F265AE91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A071E-E69D-42FC-B9F9-39CE0B9C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0FEE-74AC-447D-8EE3-80DAD0E4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2CFAF-4757-41EF-8FDB-5AB6401D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B1969-0F2E-444D-812D-BB9AF270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8DBCD-1507-42CD-94EF-A5C22E61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51417-1819-4EE4-8940-29274622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8669F-81CD-4786-A0F0-49D14820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BD885-464B-407F-B03B-B209BB8D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AAD06-9CD9-4A54-BBC4-A129211B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EC3F3-1D31-411E-8F46-C3ACBDBC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8526D-12C4-4C21-AF6F-B41BEF25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25DCD-BF99-40EC-A4AD-878EBC45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565F-C792-4BD5-812D-E4C8A76A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FFFB9-978D-46FC-BCFA-40A9CF1D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A2178-5B3A-4B82-B802-0A958AB8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3109A-53E7-42AA-B12C-84F1CCBB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12142-7D78-4E6A-BC12-2E587442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5A59D-C77A-4C8B-8566-AD69F4AA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6D5B6-065A-4845-BAEC-1B166DB5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3A497-4B76-48AB-A6F8-4AA5898D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CE5C3-81B1-42F2-B6C3-9FF287F8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0C8A5-DFB2-4ADC-A21A-2A6AB5B1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08852-2CFD-444E-8567-223C4024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2A08-D288-4E20-A0C1-8823BD7D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DCF35-C15F-41DE-AE7A-85C805F6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FB7ED-CEEB-45F4-951D-AED33D00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9167A-949D-470A-A1DF-81D84F1D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B2B4E-274C-4355-93E3-896B6917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C1FEA-9F1D-4478-8E6A-DA33BF89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072F2-C13D-4D0F-82BC-9B1A0EA4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A64E0-9E5C-41A2-92D9-A3F2A4FA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41285-BBA5-4289-85B0-B6302C3E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0E5AA-FD48-416B-A685-76FE0301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0D23E-EA18-4E56-819C-62DE3EF8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15E4-8B3B-414A-AFE8-93168055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A80BB-5055-4CCE-8EE4-E00B4CD8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C26B5-FFA5-419D-A9E7-47522739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A8D6C-A3A7-490B-9DD8-921F68FE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85132-285C-4647-AE05-9A3BC9D3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4431E-DD86-4B02-8D9D-14AA9BBA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F55A3-C192-41DE-9C94-6F0271CD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E8124-8E22-4E66-8F3C-4116A71C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ABE05-A28E-4172-9754-79033479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A4D82-4139-4C79-A747-039D9940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CFC33-1499-4058-B893-24CEF4F6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516B-FD24-40D9-B0F5-D5466975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AEC5B-156C-41B2-8C34-BB5007A4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4EE7B-99AC-4C44-A428-BFF137BA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7DED7-1F45-4EF9-B488-6141C209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8E4A0-CFC5-4EEF-BF3B-2496F794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3AE80-4110-4E4B-A70B-8110E560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FB932-A987-42EA-826A-8C8C5876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AB257-5D2E-4FEB-A60D-B9514CA7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814FC-2E2C-4E84-95EA-EAD00EC5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B7C3E-00F1-4EAE-8BBB-5014F873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6128E-E298-4826-B87C-A30FE44D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FC10-D25F-4D20-9F23-18E7B869A7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051D-9E93-4A64-86B1-AAD3F74CD58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545C-EB61-47BC-AA6E-9BFE32564B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93CA-3B86-44D2-BD0B-D34859CBE8C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CC88-09EE-4FE5-85A9-7D7212CA4C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8B45-222E-41A5-83BA-30771FDA34F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B574-2F62-4F60-A071-5F53DF5819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49B3-CCAC-43C0-AEC1-B2A7667C65A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DB25-83D4-4C5C-8977-943ECCF182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6E5D-06F1-4CD4-8A0D-26DA41AC6F4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7C06-A4E6-4128-B921-7EBFFD6FF5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5B5F-AC5C-4410-8B16-467BA646B80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CB6E-4789-4097-9FEC-E496872E5E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666E-8B4C-45B2-B8CB-578C07E8DF3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98DA-FA06-4FB4-8B13-D4732D279C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2DD1-329A-4317-A149-19C3D0F504F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1A1B-6F34-49A9-8C43-AA01CB47AA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ADDE-ECD0-42C1-BF18-490E2805739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2754-768C-448D-AC84-7F3DAA2A27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3514-5636-4F7C-96F5-285DEE4B1BC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D98C-CEBF-4449-971C-AB187B11E6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C045-EE98-44BF-98FC-B7929F2C18D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6186-7355-4030-B6A2-65385C22C3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35E3-A026-4DDF-A840-E53B767D368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2E0E-8C7B-4CB7-92B0-AF34B11B35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4" descr=""/>
          <p:cNvPicPr/>
          <p:nvPr/>
        </p:nvPicPr>
        <p:blipFill>
          <a:blip r:embed="rId1"/>
          <a:stretch/>
        </p:blipFill>
        <p:spPr>
          <a:xfrm>
            <a:off x="-6480" y="1828800"/>
            <a:ext cx="9150480" cy="193356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5960" y="2035080"/>
            <a:ext cx="60195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设计</a:t>
            </a: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3" name="椭圆 1"/>
          <p:cNvSpPr/>
          <p:nvPr/>
        </p:nvSpPr>
        <p:spPr>
          <a:xfrm>
            <a:off x="6248520" y="1343160"/>
            <a:ext cx="2895480" cy="2895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13" descr="Smiling Sun"/>
          <p:cNvPicPr/>
          <p:nvPr/>
        </p:nvPicPr>
        <p:blipFill>
          <a:blip r:embed="rId2"/>
          <a:stretch/>
        </p:blipFill>
        <p:spPr>
          <a:xfrm>
            <a:off x="6539040" y="1662120"/>
            <a:ext cx="2295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2"/>
          <p:cNvGrpSpPr/>
          <p:nvPr/>
        </p:nvGrpSpPr>
        <p:grpSpPr>
          <a:xfrm>
            <a:off x="0" y="166680"/>
            <a:ext cx="9153360" cy="1368360"/>
            <a:chOff x="0" y="166680"/>
            <a:chExt cx="9153360" cy="1368360"/>
          </a:xfrm>
        </p:grpSpPr>
        <p:pic>
          <p:nvPicPr>
            <p:cNvPr id="546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196560"/>
              <a:ext cx="9153360" cy="12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矩形 1"/>
            <p:cNvSpPr/>
            <p:nvPr/>
          </p:nvSpPr>
          <p:spPr>
            <a:xfrm>
              <a:off x="2361960" y="166680"/>
              <a:ext cx="6781680" cy="1368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的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果与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"/>
          <p:cNvGrpSpPr/>
          <p:nvPr/>
        </p:nvGrpSpPr>
        <p:grpSpPr>
          <a:xfrm>
            <a:off x="0" y="166680"/>
            <a:ext cx="9153360" cy="1368360"/>
            <a:chOff x="0" y="166680"/>
            <a:chExt cx="9153360" cy="1368360"/>
          </a:xfrm>
        </p:grpSpPr>
        <p:pic>
          <p:nvPicPr>
            <p:cNvPr id="551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196560"/>
              <a:ext cx="9153360" cy="12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矩形 15"/>
            <p:cNvSpPr/>
            <p:nvPr/>
          </p:nvSpPr>
          <p:spPr>
            <a:xfrm>
              <a:off x="2361960" y="166680"/>
              <a:ext cx="6781680" cy="1368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简介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4" name="TextBox 4"/>
          <p:cNvSpPr/>
          <p:nvPr/>
        </p:nvSpPr>
        <p:spPr>
          <a:xfrm>
            <a:off x="-378000" y="-378000"/>
            <a:ext cx="136872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1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项目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985B-C277-4121-BA09-E194829CAD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2"/>
          <p:cNvGrpSpPr/>
          <p:nvPr/>
        </p:nvGrpSpPr>
        <p:grpSpPr>
          <a:xfrm>
            <a:off x="0" y="166680"/>
            <a:ext cx="9153360" cy="1368360"/>
            <a:chOff x="0" y="166680"/>
            <a:chExt cx="9153360" cy="1368360"/>
          </a:xfrm>
        </p:grpSpPr>
        <p:pic>
          <p:nvPicPr>
            <p:cNvPr id="558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196560"/>
              <a:ext cx="9153360" cy="12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矩形 10"/>
            <p:cNvSpPr/>
            <p:nvPr/>
          </p:nvSpPr>
          <p:spPr>
            <a:xfrm>
              <a:off x="2361960" y="166680"/>
              <a:ext cx="6781680" cy="1368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工作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7"/>
          <p:cNvSpPr/>
          <p:nvPr/>
        </p:nvSpPr>
        <p:spPr>
          <a:xfrm>
            <a:off x="-378000" y="-378000"/>
            <a:ext cx="114012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1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5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5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5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2"/>
          <p:cNvGrpSpPr/>
          <p:nvPr/>
        </p:nvGrpSpPr>
        <p:grpSpPr>
          <a:xfrm>
            <a:off x="0" y="166680"/>
            <a:ext cx="9153360" cy="1368360"/>
            <a:chOff x="0" y="166680"/>
            <a:chExt cx="9153360" cy="1368360"/>
          </a:xfrm>
        </p:grpSpPr>
        <p:pic>
          <p:nvPicPr>
            <p:cNvPr id="564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196560"/>
              <a:ext cx="9153360" cy="12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矩形 8"/>
            <p:cNvSpPr/>
            <p:nvPr/>
          </p:nvSpPr>
          <p:spPr>
            <a:xfrm>
              <a:off x="2361960" y="166680"/>
              <a:ext cx="6781680" cy="1368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果与总结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7" name="TextBox 6"/>
          <p:cNvSpPr/>
          <p:nvPr/>
        </p:nvSpPr>
        <p:spPr>
          <a:xfrm>
            <a:off x="-378000" y="-378000"/>
            <a:ext cx="114012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1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4" descr=""/>
          <p:cNvPicPr/>
          <p:nvPr/>
        </p:nvPicPr>
        <p:blipFill>
          <a:blip r:embed="rId1"/>
          <a:stretch/>
        </p:blipFill>
        <p:spPr>
          <a:xfrm>
            <a:off x="-6480" y="1828800"/>
            <a:ext cx="9150480" cy="193356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5960" y="2035080"/>
            <a:ext cx="60195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微软雅黑"/>
              </a:rPr>
              <a:t>Thank you !</a:t>
            </a:r>
            <a:endParaRPr b="0" lang="en-US" sz="4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0" name="椭圆 1"/>
          <p:cNvSpPr/>
          <p:nvPr/>
        </p:nvSpPr>
        <p:spPr>
          <a:xfrm>
            <a:off x="6248520" y="1343160"/>
            <a:ext cx="2895480" cy="2895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3" descr="Smiling Sun"/>
          <p:cNvPicPr/>
          <p:nvPr/>
        </p:nvPicPr>
        <p:blipFill>
          <a:blip r:embed="rId2"/>
          <a:stretch/>
        </p:blipFill>
        <p:spPr>
          <a:xfrm>
            <a:off x="6539040" y="1662120"/>
            <a:ext cx="2295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2-12-31T16:00:00Z</dcterms:created>
  <dc:creator>kingsoft</dc:creator>
  <dc:description/>
  <cp:keywords/>
  <dc:language>en-US</dc:language>
  <cp:lastModifiedBy>a</cp:lastModifiedBy>
  <dcterms:modified xsi:type="dcterms:W3CDTF">2014-07-29T06:50:39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  <property fmtid="{D5CDD505-2E9C-101B-9397-08002B2CF9AE}" pid="3" name="Version">
    <vt:r8>1</vt:r8>
  </property>
</Properties>
</file>