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369-E360-4907-BD99-4078FC18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E0E-94D1-4529-9B07-1F2A9988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9B7-304A-4071-8A1F-FCD0AE4C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4E1-7813-41E8-88E1-DC578FB4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9DC3-303E-4C69-94AF-CDB3D2A7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A568-1DF8-4E3F-B00B-E4547D69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832B-6501-4303-9381-B30CA35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5F2-426F-4B4C-8B27-E679864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6C4-487E-4879-9094-31D68FB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2BF9-A6CE-4C09-A1FC-C37C4C9D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276F-B72B-4ED4-9C96-EB38BAB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43A-6E28-48BF-915D-5035883A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2556-E1A4-413B-91ED-D8573D0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BB2-C935-42F4-9D16-C5F4F64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66D7-EE43-4B3A-A53F-59B09F7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747F-734A-4651-BA5C-9DDC0375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7E6B-1DF4-4954-B9EF-F9257087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9FE5-46D4-481B-B3E3-417A101C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1F88-13AF-489C-ABC0-943DFC6C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F1D0-0E24-4565-9AF9-185D8821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C7D2-27CB-4593-AE30-CB9C4B4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3208-E716-4807-A2D0-F4FB5533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443-ACD8-4BAD-92B4-39A90891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2117-34AD-4EEF-97FE-15CE3FD3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ABFED-91E2-42F2-817D-B559E1F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FC04-D7BB-4CCF-8E7D-9C8E215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4D47-C5C7-4490-B376-C6AD6B8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4DB1-AF34-413E-AFA7-C190AD4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4115-D7FD-4F18-949F-39FA5950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254E-A997-4DA9-84BF-5852D163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454-7099-4A62-B752-4009DF1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FB9-5B7E-4B25-B393-29A6FFD7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C11-3CE4-4CD0-916A-C4973FB3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FA6-F865-4B10-B0A7-AEBEA61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C10-961D-451F-8C45-AC18F48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340-756F-4925-9E53-C5834BB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7ABC-34BE-4315-AEED-FB77EB1EF6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BBE-A063-4FD1-9D88-87B0981F32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D010-0FE9-4961-8B38-F6FA631880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1557360"/>
            <a:ext cx="9144000" cy="280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2846-D5E0-4AB8-A9D5-9AF92E68AD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627280" y="2428920"/>
            <a:ext cx="40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橙色的魅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3097080" y="2133720"/>
            <a:ext cx="2738520" cy="2735280"/>
          </a:xfrm>
          <a:prstGeom prst="flowChartSummingJunction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9400" y="4428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228200" y="2568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875840" y="31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435120" y="31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228200" y="39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115880" y="299736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微软雅黑"/>
              </a:rPr>
              <a:t>一级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627280" y="242892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3:00:09Z</dcterms:created>
  <dc:creator>yellownancy</dc:creator>
  <dc:description/>
  <cp:keywords/>
  <dc:language>en-US</dc:language>
  <cp:lastModifiedBy>a</cp:lastModifiedBy>
  <dcterms:modified xsi:type="dcterms:W3CDTF">2014-08-13T02:04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