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E90-5E80-41CF-8972-246C54CC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4BD-8C6D-470F-9B85-655EC5D2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1FE80-C7F3-459B-8222-F96A7B13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B541F-64D5-429E-A614-D166B2D5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B73D2-3BA3-4AD9-80E6-1220938B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01EFC-365F-41C1-A131-159FC60F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92CF8-069D-42A4-9C9A-998BDFB1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71DBA-2250-4DE4-B075-12EEC1F8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AACBF-CB3C-43A5-A0E1-05B93D46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FE1C8-A0E3-4496-A714-DE552E1F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1BDDE-4A24-4119-B9B1-40003D61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6C0BA-3230-4E26-BF72-146098A6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B03-BF66-42BD-AFCD-57E8785C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9062B-A206-401A-9BF2-622528A2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94B07-AC6B-48B9-AEA3-374B58D8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BA4F0-E842-42A8-AB2A-35F803C5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DB496-8D70-41F8-B6D4-55248321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4B37C-2703-4D5A-BABD-09CFBCD1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F20AD-DF53-452F-B5B6-1C8AFBB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B6ACE-D384-4DD0-A94E-B0C771F4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7E72D-ED8B-408A-9C85-7258E025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2095E-1664-4AF3-BDA2-392F4412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BBDD8-E86B-4A7B-8835-B6193FE7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9CC-ABD0-41B0-9F87-79E69D02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54F78-3905-4791-8B15-33C1E226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9B553-959B-42B3-BD79-541E822B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ACC48-EF7A-4FDE-932C-CA259331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FC2B2-F875-45C4-8121-679EBA94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609F8-67E0-43AB-B6FC-6D9B7272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D0AB6-F2BC-400E-9451-55957564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245A2-3AB9-4CDA-B402-48D855EE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943C0-9789-4896-8359-E2CE8913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CD90F-869D-46CD-967F-0BDB6AB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A7FB0-F491-40CD-8BBF-56C61327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E7C7-27DB-4F66-B932-9B3A0435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C7656-2A13-41A6-956B-11B01CB4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A37F8-C293-456C-8F2E-7D9B1123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2907D-D706-4F0A-8AD7-0185D0F0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84853-FC1D-4BA5-B7CB-FA8C7874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BC7EF-AF40-408A-8ED2-6BD0088A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F690C-AE5F-41FF-8698-70C920F3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9768E-1421-4756-BA0E-65877A68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1F2BC-F5C8-49D7-B887-95051F79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C66FC-9D38-4A01-8C8E-FF478CBE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2A23D-E763-48C3-8FF3-4DBFD3B7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EDF1-9EAD-43D1-9664-C63C064B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27416-3341-4F4F-909D-425F1DCF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A4A26-94C4-475F-95AA-338F0567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37421-8002-4150-B2A3-4D889694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BC6CC-1AD4-410D-84FF-F7BF2751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E4E34-9461-4F8C-A9C3-00761ED9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2DF7F-FAF2-4DC5-A3B7-6BAE0E78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99374-1E89-4914-82CB-2FE1EE73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2B7C0-68B6-448B-B9CA-7BDC2F0C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C6AB1-3849-4052-B816-BF006CAE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BF76D-AABA-4A05-A374-D87BC281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0A21-EB6A-4818-9EBD-E11B85A8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3AB26-6291-480D-8A88-9D58EB33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F3A85-D845-4E1F-AE8F-1959D209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C2AD9-2A40-4584-80D0-A9AA8AA8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E5FAA-7400-4070-B54B-76EE7D9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B03A5-C139-4C51-9C80-4C15FF9A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B2F61-CF64-497F-9A4F-1FBBE0FA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9B1B3-EFA1-4A9F-9FF4-75A59279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4C308-DF72-4EAC-A347-E710CD81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56E28-6010-4230-A9F2-52D25112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A5221-9658-46D5-9F26-D592BA8E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6A23-C2C9-4E5C-9973-01032D49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7973E-538D-4A57-9E63-0969410F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72611-3528-4C45-BBA3-239FBA27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F718E-57DA-48AB-BF36-17F6BF0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A3E0A-CB84-4AFE-974F-97650CA3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3349B-1982-47B7-9792-366D4F95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3F5B2-0FDB-4C1B-83C2-1F0FE70E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1F5EC-4583-4E17-BF92-22CF26F8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AFCA8-9CE3-4477-9850-D9E203EC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A09E2-9D65-439C-8E54-D43C4814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944D-0A6A-40EE-9BCE-D4D7877D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F456-DFC0-45F7-A6D1-7A93C640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17FF-337F-4404-B6D8-D07FAF68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EB4-36EA-47B7-884C-F89F863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3956-F3CE-4D57-823D-A1B213CA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D436-0033-440C-8DBD-7FE9C7CE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D1B0-A085-46D3-8EF1-BECBBBF0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4DE6-76A6-44D0-9F48-1DFD7F5C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0729-DE1E-49BF-BAB4-FDF0D2E5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F0734-526C-421B-9534-0A3361AA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2159-A696-48C4-8B8C-C81DFF79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2F32-23CB-4DE7-9ACB-1F3D3EAC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ED67-B6AE-4819-B7A1-E7915273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4112-7177-4165-9920-AB19C9E3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D2C-B424-428A-93DC-EDEAB90D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3D5C6-DCEA-4892-BB19-9583AE63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986AB-0160-4979-AA2A-DD8A6B16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B4E89-3716-4BE3-A2E2-6E022EB1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F9A7-EF85-46E2-ABB3-BF0D8B83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8DF18-0862-44EF-95F0-2C9ECB10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3113-8C1C-45F1-92A5-124F8B6A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680C-8BBD-40DC-851E-7510550F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FE870-5071-42E7-99FB-906AE6A2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74955-6C1E-44D0-9212-4FDED44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08B3-D6B4-47A9-9C67-A61BC1A4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D58-28B1-47C8-B20F-BAE6477D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C9F06-2ABF-4517-A1D2-4303B77B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C61B-680D-4D64-B60A-B30295FD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BCA22-F7B7-4204-B1BB-E263E086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4F65-EA39-408C-BE34-AC8E9327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4F669-D2EA-48B6-A4DD-AB38A3BD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5274-077C-4438-B41C-5F900AFA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7AE9C-08A0-4F0C-A2B6-A3FC5B8B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5627-5A6B-447E-ACD3-19BF28BF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F060-2523-488E-9F57-1EB4956D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9AB5A-E41E-4501-AED8-5A74A5D3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F22-320B-4C4B-9A8D-571A720B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D10A8-0056-48CF-969F-45B869EC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13D1-1FCE-4314-A04B-5A481F34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24F8C-45E1-45ED-8DB8-C4A8BD38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777D0-4256-4B2B-B8B6-CDCEC481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2A353-2E14-476E-BC32-7B69571C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36535-2A0B-49DB-A3DD-0A228C79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5FD9D-4FC5-417D-B0A9-9393B8ED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7E2A0-0216-4B19-8945-338B3959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3519B-151C-4605-AE2C-05A057C7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C16C-2216-4E65-ABAF-8B20A326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DE8-6502-40A6-9268-1DBE4027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99904-8DB1-41E8-8AC1-34BCBC36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2E730-7819-4CAF-869D-5E7A38A1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BC850-7EF4-4DF0-AC2C-6E3E54B4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D590B-5F68-41DC-B2D0-5345C072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1F49-D7A4-41E5-991F-A5B481A3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CCEF2-6E39-4EC0-9C82-F787DB70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45394-CCF6-4C15-A591-42973A7F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7418E-55BB-40A1-8EBE-6157F743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167A1-6781-4410-AEB5-BB125C4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F2A0C-CC4C-4F99-AC88-0A5CBC1A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C15-88AB-4CA0-B8F9-E1A71F7E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8B966-E8B6-4EC7-9316-E704E3D0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01A88-82E7-4B34-A80A-3CD7CFB8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B939E-CE28-4503-BE6B-86C83195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12D8B-8ACB-469E-9FCA-E9994724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93A45-594D-4BD1-AF6E-5812AF0F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27933-BFA8-41B7-9216-EA3F7A25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CAF50-4D9D-4BC1-B875-CE7F9876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53A52-831A-4092-8708-9FF84CD6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BC8DA-718D-48BF-AA30-9D3F53E7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A9E75-C957-46F3-ABE5-B7C2145C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D2D-C999-4EBE-9D33-FCF3A634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43893-8909-42D9-BA1B-3E0851AD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30FAD-71B1-43F5-8CAD-64600664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10CFF-86B7-4631-A80D-1BE1F7EF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C6C4A-5672-4A4F-B822-FE4F836E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591A8-1371-403D-8539-8DF551E5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61B50-363B-4D0C-9CAA-AC0DA903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DDF75-844D-4F37-8944-3507EC79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329FD-BD09-427E-9EFD-C05A24C7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38847-1794-4A02-BDBE-03BA89F6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D6D44-CD8A-487C-A9F5-88EC74DE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9C7-43AA-437A-871A-E878D3A8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8C775-6664-45B4-8835-F019C893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916DD-9112-43B6-8A7A-AAA7C84E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3D183-EBEF-40BB-82BF-C8479BB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C9045-B3F7-4795-A0BE-29E9FCE0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3C672-F0C0-4EDC-A7CC-D985B3F0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845D3-5AB3-46D7-93C4-85693426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D50D0-84F6-4E42-9050-14E86244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B9CFB-0B83-40C1-ABFA-767DD9F1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57EBA-CACF-4838-8B58-4BF083C3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0CC72-3398-4E38-BEF1-8A98C534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5C2E-87CF-4762-8C93-E91B6D6343E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AD6D-FB64-428F-B322-4C98EEA078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D6A0-41ED-4071-91DE-C742C5ABBE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A44A-B622-4458-8AD8-BD036BA7D74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0F51-1205-41AE-AF8C-EF917AF7FD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59C3-DA66-434B-AF17-36EEDC760D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CECD-AB29-4E73-AD8B-AF25567E7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9FDC-6185-467E-8040-24172C468B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D552-32B3-4616-B92E-79BFD5DD9F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5DA8-C76F-4425-8EF5-0AE0D412CE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912B-6D58-4343-9BF4-75BDD44767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AEDB-8076-45F9-A182-2A3015BAC53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7525-BC3C-40BF-9926-713F38D9EB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B202-2E7A-4FF7-887F-4709515E50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78DD-996F-49A5-A5A0-364292FF56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FFDC-FACE-4D9C-977F-7A61D0F02B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F943-BB4E-4925-82AE-26D149270D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4E27-D47A-492E-9BAD-D28924F2B8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81EB-E47C-4997-AF17-6B9408D77B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4C6E-923C-4E47-8F46-202C74E1B2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B776-A525-4722-8F70-82D0D1A54F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0E0E-3C2A-4453-8147-6A818C5CA4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B735-16B8-49D3-B89D-38410E0C280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992F-DD68-4F60-BF9F-1D18B9D82A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933B-7DF6-4592-B9E5-2EC3B4CE98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6627-4477-4085-80C7-002615ACA1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Oval 2"/>
          <p:cNvSpPr/>
          <p:nvPr/>
        </p:nvSpPr>
        <p:spPr>
          <a:xfrm>
            <a:off x="3851280" y="2492280"/>
            <a:ext cx="1549440" cy="1584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3"/>
          <p:cNvSpPr/>
          <p:nvPr/>
        </p:nvSpPr>
        <p:spPr>
          <a:xfrm>
            <a:off x="1838160" y="909720"/>
            <a:ext cx="3024360" cy="302400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4"/>
          <p:cNvSpPr/>
          <p:nvPr/>
        </p:nvSpPr>
        <p:spPr>
          <a:xfrm>
            <a:off x="1477800" y="2744640"/>
            <a:ext cx="1873440" cy="18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4321080" y="1413000"/>
            <a:ext cx="1079640" cy="107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6"/>
          <p:cNvSpPr/>
          <p:nvPr/>
        </p:nvSpPr>
        <p:spPr>
          <a:xfrm>
            <a:off x="6445080" y="4078440"/>
            <a:ext cx="1297080" cy="129672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"/>
          <p:cNvSpPr/>
          <p:nvPr/>
        </p:nvSpPr>
        <p:spPr>
          <a:xfrm>
            <a:off x="6013440" y="4545000"/>
            <a:ext cx="792000" cy="828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2079720" y="1413000"/>
            <a:ext cx="254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Easily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2792520" y="220500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Rounded MT Bold"/>
              </a:rPr>
              <a:t>Off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6732720" y="4438800"/>
            <a:ext cx="9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Oval 2"/>
          <p:cNvSpPr/>
          <p:nvPr/>
        </p:nvSpPr>
        <p:spPr>
          <a:xfrm>
            <a:off x="468360" y="404640"/>
            <a:ext cx="1511280" cy="15130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468360" y="1449360"/>
            <a:ext cx="952560" cy="936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1706400" y="512640"/>
            <a:ext cx="547920" cy="541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98520" y="809640"/>
            <a:ext cx="185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 Rounded MT Bold"/>
              </a:rPr>
              <a:t>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2556000" y="193680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2967120" y="19368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2556000" y="249228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2967120" y="2523960"/>
            <a:ext cx="15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3081240" y="3035160"/>
            <a:ext cx="125640" cy="1112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3206880" y="2921040"/>
            <a:ext cx="10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</a:rPr>
              <a:t>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</a:rPr>
              <a:t>Th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3081240" y="3230640"/>
            <a:ext cx="125640" cy="1094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3081240" y="3441600"/>
            <a:ext cx="125640" cy="1098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2556000" y="386244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2978640" y="3860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Beni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2556000" y="440208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2980080" y="436464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Oval 2"/>
          <p:cNvSpPr/>
          <p:nvPr/>
        </p:nvSpPr>
        <p:spPr>
          <a:xfrm>
            <a:off x="2916360" y="1557360"/>
            <a:ext cx="2952720" cy="29512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"/>
          <p:cNvSpPr/>
          <p:nvPr/>
        </p:nvSpPr>
        <p:spPr>
          <a:xfrm>
            <a:off x="2087640" y="2852640"/>
            <a:ext cx="1655640" cy="1656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5508720" y="2276640"/>
            <a:ext cx="1152360" cy="115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3192480" y="3063960"/>
            <a:ext cx="231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3236760" y="2089800"/>
            <a:ext cx="233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The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3209040" y="31384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5653080" y="4076640"/>
            <a:ext cx="431640" cy="432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Oval 2"/>
          <p:cNvSpPr/>
          <p:nvPr/>
        </p:nvSpPr>
        <p:spPr>
          <a:xfrm>
            <a:off x="179280" y="189000"/>
            <a:ext cx="2016360" cy="201600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3"/>
          <p:cNvSpPr/>
          <p:nvPr/>
        </p:nvSpPr>
        <p:spPr>
          <a:xfrm>
            <a:off x="179280" y="1665360"/>
            <a:ext cx="1081080" cy="10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"/>
          <p:cNvSpPr/>
          <p:nvPr/>
        </p:nvSpPr>
        <p:spPr>
          <a:xfrm>
            <a:off x="1619280" y="189000"/>
            <a:ext cx="576360" cy="576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5"/>
          <p:cNvSpPr/>
          <p:nvPr/>
        </p:nvSpPr>
        <p:spPr>
          <a:xfrm>
            <a:off x="181080" y="6381720"/>
            <a:ext cx="287280" cy="28728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6"/>
          <p:cNvSpPr/>
          <p:nvPr/>
        </p:nvSpPr>
        <p:spPr>
          <a:xfrm>
            <a:off x="8677440" y="6381720"/>
            <a:ext cx="285480" cy="28728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"/>
          <p:cNvSpPr/>
          <p:nvPr/>
        </p:nvSpPr>
        <p:spPr>
          <a:xfrm>
            <a:off x="8677440" y="189000"/>
            <a:ext cx="285480" cy="28872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2195640" y="1953360"/>
            <a:ext cx="576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b9d17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The political purpose of the event, in order to have guaranteed rights. A new working environment, the first thing you should do is to understand the real people in power </a:t>
            </a:r>
            <a:r>
              <a:rPr b="0" lang="en-US" sz="2000" spc="-1" strike="noStrike">
                <a:solidFill>
                  <a:srgbClr val="fb9d17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b9d17"/>
                </a:solidFill>
                <a:latin typeface="Arial Rounded MT Bol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9d17"/>
                </a:solidFill>
                <a:latin typeface="Arial Rounded MT Bold"/>
              </a:rPr>
              <a:t>         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</a:rPr>
              <a:t>In addition to all levels of management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</a:rPr>
              <a:t>titles boss list may also include a number of titles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</a:rPr>
              <a:t>.  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349560" y="763920"/>
            <a:ext cx="17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Oval 2"/>
          <p:cNvSpPr/>
          <p:nvPr/>
        </p:nvSpPr>
        <p:spPr>
          <a:xfrm>
            <a:off x="4824360" y="1211400"/>
            <a:ext cx="1655640" cy="1726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3"/>
          <p:cNvSpPr/>
          <p:nvPr/>
        </p:nvSpPr>
        <p:spPr>
          <a:xfrm>
            <a:off x="3132000" y="1714680"/>
            <a:ext cx="2521080" cy="25192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4"/>
          <p:cNvSpPr/>
          <p:nvPr/>
        </p:nvSpPr>
        <p:spPr>
          <a:xfrm>
            <a:off x="2197080" y="2938320"/>
            <a:ext cx="1295280" cy="12956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6156360" y="3657600"/>
            <a:ext cx="576360" cy="576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3276720" y="2216160"/>
            <a:ext cx="2468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for wat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1T06:44:05Z</dcterms:modified>
  <cp:revision>1</cp:revision>
  <dc:subject/>
  <dc:title>PowerPoint 演示文稿</dc:title>
</cp:coreProperties>
</file>