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F75-9BDD-4BCD-AFB6-F72C317B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478-E114-4037-B64C-50343C56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F52-2F13-481A-A067-A4B184C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727-6ABA-4F95-81BA-21D403ED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BC1-538C-406A-9AEF-1F87C77B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F2E-EA5A-469F-8BF6-D125253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CA2-D301-4654-931F-6DE34C4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F09-005F-4EC2-9F5B-6EA2567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E9E-834A-4D89-80A5-A79FAC5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C23-1804-4D36-86B3-E6666E1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257-03B1-4B65-973F-D7E78842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378-3221-4A30-8FDA-A0B07200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arketing_background_body2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0C46-60D2-4FA2-A6F7-72194B18F26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3B7-2957-48D5-8DBE-826B31FD8E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76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arketing_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60360" y="342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8:05:24Z</dcterms:created>
  <dc:creator>Presentation Helper</dc:creator>
  <dc:description/>
  <cp:keywords/>
  <dc:language>en-US</dc:language>
  <cp:lastModifiedBy>a</cp:lastModifiedBy>
  <dcterms:modified xsi:type="dcterms:W3CDTF">2014-07-17T05:50:23Z</dcterms:modified>
  <cp:revision>6</cp:revision>
  <dc:subject/>
  <dc:title>Contemporary Orang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