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039-9C7E-4015-8BDC-06CAC858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F74-6F87-45F7-999B-A472EB8B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7C7-4B3E-491F-A962-2DEEA271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388-95F8-441A-80E7-961812EF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D23-45BB-4284-93C0-2C9DBB24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B69-BD86-4EF2-AE50-A5242F1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F75C-46C2-4F60-BDDA-7960560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35E-0F13-4172-BB77-787E8AED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271-B7DE-4491-9DE1-BF8CCF7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D1CA-AA41-40A7-B36B-AA3BF73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54A1-B8D0-47DD-8928-16FE34D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4A9-E99C-4886-A701-DD1CAF0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C1C6-C5AA-437F-88AF-21CF808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BE7-CC61-4337-8EB6-1A0692F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2E4-7796-473E-918C-9B66BBC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A0E1-12BE-4480-B358-31110AE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DAD9-5095-4DA7-90F5-DDF6044D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69DE-B0FA-4C45-A61F-F2CB8D7B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AE3A-0EFD-4155-9D63-43E5192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C71B-C356-46F4-BDF7-78D0CF51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A352-9C80-42C4-8F4E-5BCE2057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9C47-C6C1-4052-9691-1641625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201-0D25-409F-86DF-A775B8E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83F6-613A-4B61-AC6D-214DFBC2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EB79-3996-4BFB-A838-B2E65EF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5AC1-43F1-4C8B-9853-157175B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C1E8-6CDF-4B3F-BB0F-2BFAE9F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E74E-54F1-45B3-AA4D-D5673925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7367-67C4-466F-8369-D3F01A74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2D2D-2548-4937-8D30-779DCA6E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362-CD46-49F1-AC99-8C7465E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98C-45C1-4B38-81A2-7EEE4AEA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1E8-A25C-48C0-991B-5BB23450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A27-9760-45E7-8513-4CA7F47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2C8-6789-4698-98C4-1D43027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1A9-8E64-4608-BC49-7D98BFE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C72-5CBE-4648-84AC-0960BE18C2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087-7E62-4F12-9642-09361553CC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284D-F1BC-40D7-A5B2-9FD1D7E646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9E3-84DE-40CD-9CAE-55D948AC83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3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9680" y="2131560"/>
            <a:ext cx="482256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09680" y="3285720"/>
            <a:ext cx="482256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2411280" y="909720"/>
            <a:ext cx="4383000" cy="4035240"/>
            <a:chOff x="2411280" y="909720"/>
            <a:chExt cx="4383000" cy="4035240"/>
          </a:xfrm>
        </p:grpSpPr>
        <p:grpSp>
          <p:nvGrpSpPr>
            <p:cNvPr id="126" name="Group 3"/>
            <p:cNvGrpSpPr/>
            <p:nvPr/>
          </p:nvGrpSpPr>
          <p:grpSpPr>
            <a:xfrm>
              <a:off x="2411280" y="3821040"/>
              <a:ext cx="1008000" cy="1008360"/>
              <a:chOff x="2411280" y="3821040"/>
              <a:chExt cx="1008000" cy="1008360"/>
            </a:xfrm>
          </p:grpSpPr>
          <p:pic>
            <p:nvPicPr>
              <p:cNvPr id="127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411280" y="3821040"/>
                <a:ext cx="1008000" cy="10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椭圆 63"/>
              <p:cNvGrpSpPr/>
              <p:nvPr/>
            </p:nvGrpSpPr>
            <p:grpSpPr>
              <a:xfrm>
                <a:off x="2595960" y="3970440"/>
                <a:ext cx="419040" cy="378360"/>
                <a:chOff x="2595960" y="3970440"/>
                <a:chExt cx="419040" cy="378360"/>
              </a:xfrm>
            </p:grpSpPr>
            <p:pic>
              <p:nvPicPr>
                <p:cNvPr id="129" name="椭圆 6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95960" y="3970440"/>
                  <a:ext cx="419040" cy="37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19388400">
                  <a:off x="2641320" y="4046760"/>
                  <a:ext cx="32796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2643480" y="4030920"/>
                <a:ext cx="547560" cy="543240"/>
                <a:chOff x="2643480" y="4030920"/>
                <a:chExt cx="547560" cy="543240"/>
              </a:xfrm>
            </p:grpSpPr>
            <p:pic>
              <p:nvPicPr>
                <p:cNvPr id="132" name="椭圆 6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43480" y="4030920"/>
                  <a:ext cx="547560" cy="5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Text Box 8"/>
                <p:cNvSpPr/>
                <p:nvPr/>
              </p:nvSpPr>
              <p:spPr>
                <a:xfrm>
                  <a:off x="2727720" y="4112640"/>
                  <a:ext cx="37944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5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小标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9"/>
            <p:cNvGrpSpPr/>
            <p:nvPr/>
          </p:nvGrpSpPr>
          <p:grpSpPr>
            <a:xfrm>
              <a:off x="5786280" y="3936600"/>
              <a:ext cx="1008000" cy="1008360"/>
              <a:chOff x="5786280" y="3936600"/>
              <a:chExt cx="1008000" cy="1008360"/>
            </a:xfrm>
          </p:grpSpPr>
          <p:pic>
            <p:nvPicPr>
              <p:cNvPr id="135" name="Oval 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280" y="3936600"/>
                <a:ext cx="1008000" cy="10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6" name="椭圆 63"/>
              <p:cNvGrpSpPr/>
              <p:nvPr/>
            </p:nvGrpSpPr>
            <p:grpSpPr>
              <a:xfrm>
                <a:off x="5968440" y="4086360"/>
                <a:ext cx="423000" cy="378360"/>
                <a:chOff x="5968440" y="4086360"/>
                <a:chExt cx="423000" cy="378360"/>
              </a:xfrm>
            </p:grpSpPr>
            <p:pic>
              <p:nvPicPr>
                <p:cNvPr id="137" name="椭圆 6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68440" y="4086360"/>
                  <a:ext cx="423000" cy="37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 rot="19388400">
                  <a:off x="6016320" y="4162680"/>
                  <a:ext cx="32760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12"/>
              <p:cNvGrpSpPr/>
              <p:nvPr/>
            </p:nvGrpSpPr>
            <p:grpSpPr>
              <a:xfrm>
                <a:off x="6018480" y="4146480"/>
                <a:ext cx="547560" cy="543240"/>
                <a:chOff x="6018480" y="4146480"/>
                <a:chExt cx="547560" cy="543240"/>
              </a:xfrm>
            </p:grpSpPr>
            <p:pic>
              <p:nvPicPr>
                <p:cNvPr id="140" name="椭圆 6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18480" y="4146480"/>
                  <a:ext cx="547560" cy="5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Text Box 14"/>
                <p:cNvSpPr/>
                <p:nvPr/>
              </p:nvSpPr>
              <p:spPr>
                <a:xfrm>
                  <a:off x="6102720" y="4228200"/>
                  <a:ext cx="37944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5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小标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Group 15"/>
            <p:cNvGrpSpPr/>
            <p:nvPr/>
          </p:nvGrpSpPr>
          <p:grpSpPr>
            <a:xfrm>
              <a:off x="4026960" y="2751480"/>
              <a:ext cx="1224000" cy="1224360"/>
              <a:chOff x="4026960" y="2751480"/>
              <a:chExt cx="1224000" cy="1224360"/>
            </a:xfrm>
          </p:grpSpPr>
          <p:pic>
            <p:nvPicPr>
              <p:cNvPr id="143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4026960" y="2751480"/>
                <a:ext cx="1224000" cy="122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4" name="椭圆 71"/>
              <p:cNvGrpSpPr/>
              <p:nvPr/>
            </p:nvGrpSpPr>
            <p:grpSpPr>
              <a:xfrm>
                <a:off x="4252680" y="2933640"/>
                <a:ext cx="507960" cy="456480"/>
                <a:chOff x="4252680" y="2933640"/>
                <a:chExt cx="507960" cy="456480"/>
              </a:xfrm>
            </p:grpSpPr>
            <p:pic>
              <p:nvPicPr>
                <p:cNvPr id="145" name="椭圆 7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252680" y="2933640"/>
                  <a:ext cx="50796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 rot="19388400">
                  <a:off x="4308120" y="3026520"/>
                  <a:ext cx="3963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8"/>
              <p:cNvGrpSpPr/>
              <p:nvPr/>
            </p:nvGrpSpPr>
            <p:grpSpPr>
              <a:xfrm>
                <a:off x="4312800" y="3006360"/>
                <a:ext cx="657000" cy="659520"/>
                <a:chOff x="4312800" y="3006360"/>
                <a:chExt cx="657000" cy="659520"/>
              </a:xfrm>
            </p:grpSpPr>
            <p:pic>
              <p:nvPicPr>
                <p:cNvPr id="148" name="椭圆 7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12800" y="3006360"/>
                  <a:ext cx="657000" cy="65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20"/>
                <p:cNvSpPr/>
                <p:nvPr/>
              </p:nvSpPr>
              <p:spPr>
                <a:xfrm>
                  <a:off x="4412880" y="3106080"/>
                  <a:ext cx="459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标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0" name="AutoShape 593" descr=""/>
            <p:cNvPicPr/>
            <p:nvPr/>
          </p:nvPicPr>
          <p:blipFill>
            <a:blip r:embed="rId10"/>
            <a:stretch/>
          </p:blipFill>
          <p:spPr>
            <a:xfrm rot="12600000">
              <a:off x="5091840" y="3512880"/>
              <a:ext cx="878400" cy="84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AutoShape 593" descr=""/>
            <p:cNvPicPr/>
            <p:nvPr/>
          </p:nvPicPr>
          <p:blipFill>
            <a:blip r:embed="rId11"/>
            <a:stretch/>
          </p:blipFill>
          <p:spPr>
            <a:xfrm rot="19800000">
              <a:off x="3258720" y="3470040"/>
              <a:ext cx="878400" cy="8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AutoShape 593" descr=""/>
            <p:cNvPicPr/>
            <p:nvPr/>
          </p:nvPicPr>
          <p:blipFill>
            <a:blip r:embed="rId12"/>
            <a:stretch/>
          </p:blipFill>
          <p:spPr>
            <a:xfrm rot="5400000">
              <a:off x="4197960" y="1856520"/>
              <a:ext cx="878760" cy="84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Group 24"/>
            <p:cNvGrpSpPr/>
            <p:nvPr/>
          </p:nvGrpSpPr>
          <p:grpSpPr>
            <a:xfrm>
              <a:off x="4171680" y="909720"/>
              <a:ext cx="1008000" cy="1008360"/>
              <a:chOff x="4171680" y="909720"/>
              <a:chExt cx="1008000" cy="1008360"/>
            </a:xfrm>
          </p:grpSpPr>
          <p:pic>
            <p:nvPicPr>
              <p:cNvPr id="154" name="Oval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71680" y="909720"/>
                <a:ext cx="1008000" cy="10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" name="椭圆 63"/>
              <p:cNvGrpSpPr/>
              <p:nvPr/>
            </p:nvGrpSpPr>
            <p:grpSpPr>
              <a:xfrm>
                <a:off x="4353120" y="1057320"/>
                <a:ext cx="423000" cy="378360"/>
                <a:chOff x="4353120" y="1057320"/>
                <a:chExt cx="423000" cy="378360"/>
              </a:xfrm>
            </p:grpSpPr>
            <p:pic>
              <p:nvPicPr>
                <p:cNvPr id="156" name="椭圆 6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353120" y="1057320"/>
                  <a:ext cx="423000" cy="37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 rot="19388400">
                  <a:off x="4401720" y="1135440"/>
                  <a:ext cx="32760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7"/>
              <p:cNvGrpSpPr/>
              <p:nvPr/>
            </p:nvGrpSpPr>
            <p:grpSpPr>
              <a:xfrm>
                <a:off x="4403880" y="1119600"/>
                <a:ext cx="547560" cy="543240"/>
                <a:chOff x="4403880" y="1119600"/>
                <a:chExt cx="547560" cy="543240"/>
              </a:xfrm>
            </p:grpSpPr>
            <p:pic>
              <p:nvPicPr>
                <p:cNvPr id="159" name="椭圆 6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403880" y="1119600"/>
                  <a:ext cx="547560" cy="5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Text Box 29"/>
                <p:cNvSpPr/>
                <p:nvPr/>
              </p:nvSpPr>
              <p:spPr>
                <a:xfrm>
                  <a:off x="4488120" y="1201320"/>
                  <a:ext cx="37944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5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小标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340000" y="1341360"/>
            <a:ext cx="4537080" cy="2808360"/>
          </a:xfrm>
          <a:prstGeom prst="flowChartPunchedCard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3348000" y="1557360"/>
            <a:ext cx="0" cy="2376360"/>
          </a:xfrm>
          <a:prstGeom prst="line">
            <a:avLst/>
          </a:prstGeom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5292720" y="1557360"/>
            <a:ext cx="0" cy="2376360"/>
          </a:xfrm>
          <a:prstGeom prst="line">
            <a:avLst/>
          </a:prstGeom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4372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843720" y="2725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53:55Z</dcterms:created>
  <dc:creator>yellownancy</dc:creator>
  <dc:description/>
  <cp:keywords/>
  <dc:language>en-US</dc:language>
  <cp:lastModifiedBy>a</cp:lastModifiedBy>
  <dcterms:modified xsi:type="dcterms:W3CDTF">2014-08-13T02:04:4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