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751-E162-452C-93D3-E659A8B2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1A7-A0AF-4378-A7C4-D93D23FE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F4C-A0BC-45F7-8BF1-37B7ED44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B74-78B9-4DF9-9AF4-ECE3E5F5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A314-89E1-4AA9-BC84-222C2523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8BEB-FBDE-481A-917B-D0D8827D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2496-8028-4BBA-883B-FDB9E07C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4751-846B-499E-93DA-BC5912A5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03B2-EEB6-4D4E-BA00-74205D69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AEF2-7060-4206-B62C-9904516E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BD86-CA1B-420E-A547-F2F2088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CCC-973D-40F6-879D-7E9228DB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6990-0481-40E4-B800-7FD5A594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F796-0D1D-4E74-950F-5C9338F9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ED58-1B4A-4A4B-AEAF-1D8A85D0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45B4-E494-4FAD-AC69-471BB4F0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9241-BF1B-4104-B032-A9447B93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2A57-0A50-4722-B7E1-B0E2C802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0EB35-DCCC-409A-A9B3-7402BE01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CD20-A0B1-4475-BF11-48887101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0587-A383-4ED9-B9DD-6B68388D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10E3-0EF2-4642-BD98-B6CB4510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C7E-9177-4ED0-8318-DEAF60C3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8FA1-1D65-47DA-BA4F-8040A426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33D8C-8408-4C95-943E-CF7C0B95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9BE4-1C23-4DF0-AC3B-7D2827A0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4BC4-3296-4492-9C8D-74129AC2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F15F-C869-4007-AD9C-FACDC915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83DCC-62BC-4135-8657-5A4ADA2F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2FF7F-BDBE-49E5-A88C-C37F813A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5E3-7261-454B-9293-EB770B65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938-B772-43EC-BD90-20135DF3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623-C6E9-4B8B-96C4-A1A89A85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DEB-42DD-4F4C-BDEC-8B768161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8C8-F462-4A25-B0F3-497CB11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BB8-0138-43FC-9621-A378F2BA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0D46-BE3F-4766-8D25-E0CE6CB92CD3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91EC-5C09-4D00-AD54-19B42007208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D143-3C4B-43C6-8D0E-84FFA3774C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C290-7B05-483F-8662-48EB9A1C3464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377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  <a:ea typeface="宋体"/>
              </a:rPr>
              <a:t>HOT FOOTBALL SEASON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animfactory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0388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6376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9678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3240" y="307440"/>
            <a:ext cx="8381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8" name="Picture 11" descr="hot_football_season_qx"/>
          <p:cNvPicPr/>
          <p:nvPr/>
        </p:nvPicPr>
        <p:blipFill>
          <a:blip r:embed="rId3"/>
          <a:stretch/>
        </p:blipFill>
        <p:spPr>
          <a:xfrm>
            <a:off x="2438280" y="89856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9" name="Picture 12" descr="hot_football_season_sld"/>
          <p:cNvPicPr/>
          <p:nvPr/>
        </p:nvPicPr>
        <p:blipFill>
          <a:blip r:embed="rId4"/>
          <a:stretch/>
        </p:blipFill>
        <p:spPr>
          <a:xfrm>
            <a:off x="40384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0" name="Picture 13" descr="hot_football_season_prt"/>
          <p:cNvPicPr/>
          <p:nvPr/>
        </p:nvPicPr>
        <p:blipFill>
          <a:blip r:embed="rId5"/>
          <a:stretch/>
        </p:blipFill>
        <p:spPr>
          <a:xfrm>
            <a:off x="56386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1" name="Picture 14" descr="hot_football_season_trs"/>
          <p:cNvPicPr/>
          <p:nvPr/>
        </p:nvPicPr>
        <p:blipFill>
          <a:blip r:embed="rId6"/>
          <a:stretch/>
        </p:blipFill>
        <p:spPr>
          <a:xfrm>
            <a:off x="72388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21:40:59Z</dcterms:created>
  <dc:creator>eclipse</dc:creator>
  <dc:description/>
  <dc:language>en-US</dc:language>
  <cp:lastModifiedBy>a</cp:lastModifiedBy>
  <dcterms:modified xsi:type="dcterms:W3CDTF">2015-01-12T13:10:58Z</dcterms:modified>
  <cp:revision>6</cp:revision>
  <dc:subject/>
  <dc:title>Hot Seas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