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577-AFB3-4691-B73B-F30F95B5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0DD-685E-4D32-B2D0-7889590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0F0-F2E8-4D7D-A610-AEF6647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0D-B121-448C-9566-99587C1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F86-F273-4A7F-AC04-4888F9E2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433-1EE4-4F28-B110-B370EA04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5BB-2F5C-4A22-9871-F132AFD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3F4-6A9C-4124-8195-64C4E81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1B8-63CE-4C71-BBD6-08E2E20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D5F-78DA-41DF-A5F9-74FA334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4D5-B9EC-4233-8118-E28069F6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4C8-B8A2-431B-A54E-27474310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F6D-61A4-47EF-A84C-5035C2CD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8890-FE78-4D67-B158-E8518A7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A05-350D-4AF0-AC4D-131C24D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816D-8090-44E1-AFF9-FC2CD844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249-0AD2-4753-A12B-BB4CF6CB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288A-25AF-4973-88B5-D6C6F7A4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393-666D-4734-A637-379AB75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A62E-2DDD-42C5-AFC1-4672533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E75-9160-48CA-9BA1-964D330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F22-D0E3-4F94-B757-B27A8FA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5B3B-9042-43F4-87A6-68E7B84F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9282-9F95-4605-80D3-2E764248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9360" y="6651720"/>
            <a:ext cx="857520" cy="21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"/>
          <p:cNvPicPr/>
          <p:nvPr/>
        </p:nvPicPr>
        <p:blipFill>
          <a:blip r:embed="rId3"/>
          <a:stretch/>
        </p:blipFill>
        <p:spPr>
          <a:xfrm>
            <a:off x="9360" y="6651720"/>
            <a:ext cx="857520" cy="215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9584-D22B-445A-8FB1-BC1ABD435E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81EE-2E24-472D-923B-7610EAF2D7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F87E-D9DA-4661-9C08-52D819DE1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1-12T13:08:46Z</dcterms:modified>
  <cp:revision>7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