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787-1D24-4305-A16B-3695503F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7F93-954F-403A-8530-23261CB2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478A-A8F1-4A82-AD8F-841FD152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A898-2E8B-4CB7-BAA9-5D01AAE2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DEDF-1B92-4808-A27D-78854E9B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8B85-F25F-4849-A374-06778F26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E146-A74A-4309-8FAF-244DB4B0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B1D6-3DEF-405E-9BD6-46370DE7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612E-9672-440F-85FD-D2E26820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822A-A7F9-486C-8C5B-FDD0C9DE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EF45-07EF-4D04-B702-E3640F67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C1C8-C63D-48DA-9C1A-7F49B73F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1F92-C26D-4895-A92E-24DEE47F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141C-1713-4F5E-89EC-9A7CC40A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EBD6-96BF-4BC0-92BC-813D12A2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591C-E367-4BC2-88C2-21745AFB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AD87-DCBE-4C69-AA34-E1771CF5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25282-DB06-4B8A-BEC1-6047BFDE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F79CA-987F-4403-8723-CE4FC845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9E574-1C19-4A44-8503-DA800594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F567B-99B2-40A5-A778-908E87F5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963EF-2927-4D4B-9BA1-4F778FC6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E7F-8293-4BA7-9B09-C3853327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55937-D8E3-4234-8E69-11756318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F270A-FF99-4D2D-92D4-8F5C4317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17692-C58F-4763-B316-64FB2A01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B79C1-75FF-4A5B-8729-9004CE15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B0A0F-E01D-4FA9-B655-F5E1A19F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8F497-9569-40E8-AA70-D9955856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51AEE-6746-4608-BFB1-EE1D574A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7CF3-6AF5-40C8-8899-BF32F13A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D160-64CC-44E3-BF38-07018BD7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2F9-9383-4FBB-B86C-2C9C4595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48E4-EC39-4656-9E43-E8F165A1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1405-8FBA-4AAB-BF7F-DB26F99B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D7DA-7396-483C-9991-058533AD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15FD-4009-4D81-B1FB-C6F7735195A9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259D-1E70-4B4F-AD8F-28EE902C0CB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73DE-BEB7-42F4-975D-7B9EAF798C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A229-6B6E-433D-89B8-9FA121AABD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未标题-1"/>
          <p:cNvPicPr/>
          <p:nvPr/>
        </p:nvPicPr>
        <p:blipFill>
          <a:blip r:embed="rId1"/>
          <a:stretch/>
        </p:blipFill>
        <p:spPr>
          <a:xfrm>
            <a:off x="-166680" y="-87480"/>
            <a:ext cx="9489960" cy="7091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2"/>
          <p:cNvPicPr/>
          <p:nvPr/>
        </p:nvPicPr>
        <p:blipFill>
          <a:blip r:embed="rId2"/>
          <a:stretch/>
        </p:blipFill>
        <p:spPr>
          <a:xfrm>
            <a:off x="4356000" y="2003400"/>
            <a:ext cx="584280" cy="279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mulu"/>
          <p:cNvPicPr/>
          <p:nvPr/>
        </p:nvPicPr>
        <p:blipFill>
          <a:blip r:embed="rId1"/>
          <a:stretch/>
        </p:blipFill>
        <p:spPr>
          <a:xfrm>
            <a:off x="-168120" y="-85680"/>
            <a:ext cx="9421560" cy="7043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刺绣简介-01"/>
          <p:cNvPicPr/>
          <p:nvPr/>
        </p:nvPicPr>
        <p:blipFill>
          <a:blip r:embed="rId2"/>
          <a:stretch/>
        </p:blipFill>
        <p:spPr>
          <a:xfrm>
            <a:off x="2197080" y="2201760"/>
            <a:ext cx="933480" cy="2522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刺绣源流-01"/>
          <p:cNvPicPr/>
          <p:nvPr/>
        </p:nvPicPr>
        <p:blipFill>
          <a:blip r:embed="rId3"/>
          <a:stretch/>
        </p:blipFill>
        <p:spPr>
          <a:xfrm>
            <a:off x="3105000" y="2195640"/>
            <a:ext cx="936720" cy="2528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2-01"/>
          <p:cNvPicPr/>
          <p:nvPr/>
        </p:nvPicPr>
        <p:blipFill>
          <a:blip r:embed="rId4"/>
          <a:stretch/>
        </p:blipFill>
        <p:spPr>
          <a:xfrm>
            <a:off x="4041720" y="2127240"/>
            <a:ext cx="961920" cy="2597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历代刺绣-01"/>
          <p:cNvPicPr/>
          <p:nvPr/>
        </p:nvPicPr>
        <p:blipFill>
          <a:blip r:embed="rId5"/>
          <a:stretch/>
        </p:blipFill>
        <p:spPr>
          <a:xfrm>
            <a:off x="4978440" y="2133720"/>
            <a:ext cx="961920" cy="2597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2-01"/>
          <p:cNvPicPr/>
          <p:nvPr/>
        </p:nvPicPr>
        <p:blipFill>
          <a:blip r:embed="rId6"/>
          <a:stretch/>
        </p:blipFill>
        <p:spPr>
          <a:xfrm>
            <a:off x="5916600" y="2127240"/>
            <a:ext cx="96048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背景-01"/>
          <p:cNvPicPr/>
          <p:nvPr/>
        </p:nvPicPr>
        <p:blipFill>
          <a:blip r:embed="rId1"/>
          <a:stretch/>
        </p:blipFill>
        <p:spPr>
          <a:xfrm>
            <a:off x="0" y="-17640"/>
            <a:ext cx="9325080" cy="6958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过度 花圈-01"/>
          <p:cNvPicPr/>
          <p:nvPr/>
        </p:nvPicPr>
        <p:blipFill>
          <a:blip r:embed="rId2"/>
          <a:stretch/>
        </p:blipFill>
        <p:spPr>
          <a:xfrm>
            <a:off x="1495440" y="-15840"/>
            <a:ext cx="5813280" cy="3092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过度鸟2-01-01-01"/>
          <p:cNvPicPr/>
          <p:nvPr/>
        </p:nvPicPr>
        <p:blipFill>
          <a:blip r:embed="rId3"/>
          <a:stretch/>
        </p:blipFill>
        <p:spPr>
          <a:xfrm>
            <a:off x="1496880" y="-17640"/>
            <a:ext cx="5811840" cy="3090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过渡页数-01"/>
          <p:cNvPicPr/>
          <p:nvPr/>
        </p:nvPicPr>
        <p:blipFill>
          <a:blip r:embed="rId4"/>
          <a:stretch/>
        </p:blipFill>
        <p:spPr>
          <a:xfrm>
            <a:off x="3825720" y="2278080"/>
            <a:ext cx="15382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背景-01"/>
          <p:cNvPicPr/>
          <p:nvPr/>
        </p:nvPicPr>
        <p:blipFill>
          <a:blip r:embed="rId1"/>
          <a:stretch/>
        </p:blipFill>
        <p:spPr>
          <a:xfrm>
            <a:off x="0" y="-17640"/>
            <a:ext cx="9253440" cy="6958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过渡页数-01"/>
          <p:cNvPicPr/>
          <p:nvPr/>
        </p:nvPicPr>
        <p:blipFill>
          <a:blip r:embed="rId2"/>
          <a:stretch/>
        </p:blipFill>
        <p:spPr>
          <a:xfrm>
            <a:off x="179280" y="1327320"/>
            <a:ext cx="1467000" cy="4124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xian"/>
          <p:cNvPicPr/>
          <p:nvPr/>
        </p:nvPicPr>
        <p:blipFill>
          <a:blip r:embed="rId3"/>
          <a:stretch/>
        </p:blipFill>
        <p:spPr>
          <a:xfrm>
            <a:off x="1495440" y="814320"/>
            <a:ext cx="6767640" cy="311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xian2"/>
          <p:cNvPicPr/>
          <p:nvPr/>
        </p:nvPicPr>
        <p:blipFill>
          <a:blip r:embed="rId4"/>
          <a:stretch/>
        </p:blipFill>
        <p:spPr>
          <a:xfrm>
            <a:off x="1495440" y="5589720"/>
            <a:ext cx="6769080" cy="312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鸟1-01"/>
          <p:cNvPicPr/>
          <p:nvPr/>
        </p:nvPicPr>
        <p:blipFill>
          <a:blip r:embed="rId5"/>
          <a:stretch/>
        </p:blipFill>
        <p:spPr>
          <a:xfrm>
            <a:off x="6753240" y="4005360"/>
            <a:ext cx="1922400" cy="2808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文字-01"/>
          <p:cNvPicPr/>
          <p:nvPr/>
        </p:nvPicPr>
        <p:blipFill>
          <a:blip r:embed="rId6"/>
          <a:stretch/>
        </p:blipFill>
        <p:spPr>
          <a:xfrm>
            <a:off x="1487520" y="1424160"/>
            <a:ext cx="7137360" cy="39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未标题-1"/>
          <p:cNvPicPr/>
          <p:nvPr/>
        </p:nvPicPr>
        <p:blipFill>
          <a:blip r:embed="rId1"/>
          <a:stretch/>
        </p:blipFill>
        <p:spPr>
          <a:xfrm>
            <a:off x="-166680" y="-87480"/>
            <a:ext cx="9489960" cy="7091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谢谢-01-01"/>
          <p:cNvPicPr/>
          <p:nvPr/>
        </p:nvPicPr>
        <p:blipFill>
          <a:blip r:embed="rId2"/>
          <a:stretch/>
        </p:blipFill>
        <p:spPr>
          <a:xfrm>
            <a:off x="3851280" y="1611360"/>
            <a:ext cx="142704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3T07:38:31Z</dcterms:modified>
  <cp:revision>1</cp:revision>
  <dc:subject/>
  <dc:title>PowerPoint 演示文稿</dc:title>
</cp:coreProperties>
</file>