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E60-0488-40EF-A89E-03BC0DCB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074-612A-445A-A7D3-1B251904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E6A2A-22B3-412D-9CFA-6C81138A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6BA1C-BAEF-499D-BB89-E6F924BB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B5169-7AE0-493F-B2B7-C10A6E6E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14616-85AF-4E1B-9AC3-2EE1FD6F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F0593-1329-48A1-A4C5-691641E9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02D7A-A12D-4D97-8EB8-C4322F4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B640E-03BC-4916-B4CC-A4C62171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2ADE4-9438-433F-9C61-1D178861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76117-EFEB-43EB-A008-BB8E0F1D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A93E0-5A71-40BB-A7C4-B751D068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5986-D16E-42DD-9C15-A4803480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B50F2-559C-454D-B02F-ABB8630E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A7EFF-8E80-42B1-8F4D-8643D673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41978-F7BE-4F4C-A86B-E72277FB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3EFF5-EEB3-4E73-836E-06BA88C4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4B069-4859-4CC0-B818-9693A549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02BFD-EDBD-419C-B1FC-301013D7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E8A9C-B6FF-44F3-9E5E-FDFB6E37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5C54B-C385-40F6-B955-D0D925EF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76B89-66D9-41E6-AD46-DC4DB943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AF515-9613-41BA-ABC6-B069402C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0C04-DB52-4C20-9CA1-287737C4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E4333-2BA6-400F-A952-2268222F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0E844-6C0A-4AA9-BC7E-7C96B5BB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DDDE2-63DB-4F37-ABD6-EE5CF60C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E7A4F-7853-4DAD-B42E-1C213C5F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B670F-D3D8-4DB8-9057-8793B004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CCB05-3AD0-457D-9293-023209DA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1CC40-C7DD-49F5-AB26-11F22DE7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F9C29-6999-43CE-9E0B-52BA4DDA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D2333-1236-4C19-B2D8-998D989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8E196-49AD-4EC2-8C25-682E162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A6FA-BDC8-43CF-A601-582691CF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4E8B5-FF02-4F69-93DB-4F6AB9B6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7B618-3C70-437B-AAB9-7A4FA727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D8A84-F063-461E-90A8-43F3822C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4A5E6-B82F-412A-8E87-420C37C9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86214-F744-4DA4-92A7-1602D658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7876A-4DBB-4741-BD17-E3E5E048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DCDD3-A1F8-4DD3-8E24-9BF6B5D0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FB322-4D3B-40A9-8238-493DDE1B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209F5-D2C5-48DF-B098-66F5CC0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24D55-F8FF-437A-A973-74720A0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8D95-120B-4996-B39A-F97A4B3D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52712-E109-49B3-A705-98FE961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D4383-EB42-4956-855F-551D1E2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F0482-13E9-4083-ABA3-5717E3AF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73CE3-CC4C-4D86-98CC-59E5C0ED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94606-E99D-4292-853F-7D3F6886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5F8FB-1545-4C3A-9E53-E415F786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4B2EB-52EC-427C-A3E1-74EF7DAD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C133E-B90A-4BA9-84AF-CE3ED44B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F5622-A6FD-4A09-8CD2-7BFEA82C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B4648-9E54-4CE4-B65A-7BBC11B1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5CD6-64A2-4140-97F2-6A6901F4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38FCA-1222-4E24-A867-38A3233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CA5D9-38AC-49B4-B2E5-C52C106E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72134-377F-4493-8303-DAB83616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F4616-2D4E-4F9D-8A15-B1B0986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022C6-DE1A-4770-8DB9-5AECFA2A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3A6EC-0E2C-488E-9DBB-A54445E1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4F3AE-9C33-4A0F-AA76-BC2B28F6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9846-3AB0-4CE3-A82A-BDDAF651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C305-ACDF-451C-9BC7-93C0A341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9248-C3ED-48F8-88B6-8FE5EC2B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4094-31DC-4636-8AFD-2591AA3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3EE-DEE8-4CA9-9471-0D0535F3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A957-1641-4377-B52B-6B56E9B3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AF6A-EC52-4EA0-9A5F-24D740B6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D5BB-50B5-4FEC-91AC-CC1E4813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7B03-6B6A-4014-94BE-87017497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D59C-E42A-45C5-8352-14682F2C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4232-45A0-4430-9D86-CE8AEB27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E8F2-E6A6-42DF-8C27-AD564BDA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3193-8CF2-4C2A-9229-12FC7148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B3C63-1C1B-4BAF-B88D-86D4D5DD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3993-6F94-43E1-A011-A96CEB76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882-4C84-4AC4-8AB4-387B0B6A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6EAE-9B8D-47E9-9903-A982DCC0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EAF4-98FA-4784-86EF-67FA8BBA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2952C-DFCD-4BD7-B963-D20D6447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0921-D1BF-46BF-9657-2C889160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E6EB-CBEC-4E51-8FFA-4D7D4818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EC57-324E-4041-9162-69AFE8DA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B261-E1D7-4129-AEF6-511F734C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3B6B7-90EE-4ACE-BE13-2AF68A9F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4F92-A5D3-4E1D-B0ED-0EBC7031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0124C-D33F-4610-89F5-C6116928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ED9-A310-4A63-B684-E2AA3E3D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77D8C-4B42-4849-82F5-B22F66D0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EE8A-9135-4F9A-9B08-964514C4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78765-E7E8-4842-9D6A-C3623126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CF27D-DC30-4834-9653-79BB4DD4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0358-A070-4AE3-9F94-57FD4912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4CD5-868A-42E5-95C0-A212617B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F2FD-B14D-4628-AE38-01CEB170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03D4-503F-4EB1-8D5E-368E7EDD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86E9C-0BAA-479F-B8AA-6BF937C0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0C1CC-A837-4B61-85CE-59F06A32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306-E0CD-4815-950F-D3484968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63D8-1238-4488-BB8B-1EA2D16E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9A9C-6DAC-45E3-85CD-41424F6F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0B1D-0677-483D-B6D3-9623985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DF811-C4D6-4273-846A-5ED884EE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098D4-9DD2-40B2-846D-F4B7CC5C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E0004-41BE-4FF4-AC4E-FE9D5560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37C11-E7FC-425E-9529-01D7B6E5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45844-462E-4CC3-9CEC-508DEF9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5D75C-AF7B-4CE8-BA6F-62FAB075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CFFDD-C464-4249-AF2B-CDE67DDC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389-3A41-4C48-BDAF-98571A15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2F987-790E-43D0-9224-5DAC2597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C2302-FEBD-4797-8CED-AF5400F1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6DF75-1B61-43A0-9334-DEFC9D7C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1D7A-39EA-460C-9EE7-0DDB2E34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73DC0-BBB9-4A2D-B79B-18CA75D4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0654C-EF9C-4288-8406-B07ADB1C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17F68-FC61-4AD2-9199-8BB2283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6E92E-602C-440F-B77C-933594C8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8510E-3134-430E-902E-49F7A75C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235F-44AE-46DB-995D-AD4ED8EA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8B0-54FC-4A67-B96C-A736BC55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B6DA5-09C8-4F53-9A49-FCF78500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DD3E0-251A-4AC5-8FD7-B01DA848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1AD8A-92AA-47CC-B422-45F67673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2C927-E670-4C10-B7FD-D3808790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D215E-C942-4347-A850-54AEA324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3AAFD-B9DE-4973-8BF2-6E36D942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B9DE4-CF80-4153-B0B2-373C48BD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54ED5-B465-47CD-A8DB-9586D9F4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BAADD-7BAD-42F3-9A2D-8C37371C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20909-5F2F-4578-A8CE-5F47BC89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9F7D-AF83-4FBF-95D9-7367E95F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06D79-CCFA-4B3C-87A1-BA10560B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3EE0-F0F0-427C-9AAB-056CC04B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4711A-9463-416D-BFB4-8F420FEA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916E7-906B-4F91-A987-CD24BEC8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725ED-FF8B-4302-89EB-E688DD73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ABF76-7CD2-473D-B53D-42D841E9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4266-EC24-4199-ADFF-FDA1C60D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04A20-FA44-4A51-82F2-62BC21AB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2239E-5B19-4B18-984F-1C3A3C7D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B4462-F2B8-4AD0-AEF1-3E3E0EC0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DD6-B730-4866-B4F9-7FB5E10C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DCF88-5A62-4738-9138-A3A1239E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5E8A6-5D31-4073-9D6D-2DEC6DEC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3971D-2244-4F68-B097-2A2560C5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99CF6-F33F-4A86-B9B7-01CA89FE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F16BE-A1F6-46FF-BFED-32D5DEB1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4EEFB-DD9E-4116-898F-5C365B78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2B80C-11A2-407F-A0CD-EA634E9F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7D228-C301-46C6-B79E-77D7B359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63337-C58F-4BD3-9340-3AAED360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5F3F9-C13A-45C6-B435-CA5F5598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FC54-7887-40B6-9AA4-C2E5342F67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2FD4-B282-4F47-AABC-7E0A0AE9D43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E29B-1A77-46A3-8DDD-43B4365D5E7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C726-8BA6-4B83-AADA-5E3E92E13E2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E506-325A-45C2-96CC-6A421EF826E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E23E-9BA4-41B4-9B87-C1A01863A2A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6406-D178-44BF-B8FB-FDCDDA35967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AB61-29BF-4132-99CA-2A96265EDA1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F758-6B0C-448E-A1AA-8D53A0D39B5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6B26-336D-4DA3-8BA4-2A85B0BE0A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FFC6-530E-4FD2-B777-6737DC11C4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3EFD-1642-4B0C-8B4F-E6AF185E8A1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503F-6110-4856-B386-DF231F3D362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97F5-E70E-49C0-BAB5-CF5FB66279A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2535-1E10-45C1-B693-99AD3E8F1B6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9ECB-9AC9-4AED-BB83-618B029D431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FB09-8344-4A9C-9368-6237A16168D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1A79-C992-4D98-AA5E-A35BF4978B8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6DE2-1B93-4743-AA44-31ECBCF5AD6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8B30-2007-47CC-9E62-9D09C69300A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C895-6FB4-43D7-A114-E1392BD0725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CCA7-A4E0-4726-848C-E412DE59F62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3EA6-2ACC-4BDF-A9D5-C7248F74E59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CD0E-D13E-4681-8F57-8BCD4023AE3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6D51-9B22-4C08-945F-4B9B027BF57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4602240" y="1179360"/>
            <a:ext cx="2959200" cy="427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4976640" y="812880"/>
            <a:ext cx="23608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4"/>
          <p:cNvGrpSpPr/>
          <p:nvPr/>
        </p:nvGrpSpPr>
        <p:grpSpPr>
          <a:xfrm>
            <a:off x="4892760" y="2593800"/>
            <a:ext cx="4984560" cy="2589120"/>
            <a:chOff x="4892760" y="2593800"/>
            <a:chExt cx="4984560" cy="2589120"/>
          </a:xfrm>
        </p:grpSpPr>
        <p:sp>
          <p:nvSpPr>
            <p:cNvPr id="536" name="Text Box 5"/>
            <p:cNvSpPr/>
            <p:nvPr/>
          </p:nvSpPr>
          <p:spPr>
            <a:xfrm>
              <a:off x="4892760" y="2593800"/>
              <a:ext cx="498456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292929"/>
                  </a:solidFill>
                  <a:latin typeface="Chalet NewYorkNineteenEighty"/>
                </a:rPr>
                <a:t>RESUM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Text Box 6"/>
            <p:cNvSpPr/>
            <p:nvPr/>
          </p:nvSpPr>
          <p:spPr>
            <a:xfrm>
              <a:off x="4906440" y="3309840"/>
              <a:ext cx="4582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92929"/>
                  </a:solidFill>
                  <a:latin typeface="Chalet NewYorkNineteenEighty"/>
                  <a:ea typeface="微软雅黑"/>
                </a:rPr>
                <a:t>个  人  简  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 Box 7"/>
            <p:cNvSpPr/>
            <p:nvPr/>
          </p:nvSpPr>
          <p:spPr>
            <a:xfrm>
              <a:off x="4924440" y="4103280"/>
              <a:ext cx="1659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92929"/>
                  </a:solidFill>
                  <a:latin typeface="Arial Black"/>
                </a:rPr>
                <a:t>Welcom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Text Box 8"/>
            <p:cNvSpPr/>
            <p:nvPr/>
          </p:nvSpPr>
          <p:spPr>
            <a:xfrm>
              <a:off x="4911120" y="4358880"/>
              <a:ext cx="1721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92929"/>
                  </a:solidFill>
                  <a:latin typeface="Arial Black"/>
                </a:rPr>
                <a:t>To My Worl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>
              <a:off x="6235560" y="4345920"/>
              <a:ext cx="1176480" cy="128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>
              <a:off x="6474600" y="4569120"/>
              <a:ext cx="937800" cy="128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Line 11"/>
            <p:cNvSpPr/>
            <p:nvPr/>
          </p:nvSpPr>
          <p:spPr>
            <a:xfrm>
              <a:off x="5041080" y="4202280"/>
              <a:ext cx="235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Rectangle 12"/>
          <p:cNvSpPr/>
          <p:nvPr/>
        </p:nvSpPr>
        <p:spPr>
          <a:xfrm>
            <a:off x="82440" y="95400"/>
            <a:ext cx="12708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AutoShape 13"/>
          <p:cNvSpPr/>
          <p:nvPr/>
        </p:nvSpPr>
        <p:spPr>
          <a:xfrm>
            <a:off x="-3240" y="6269040"/>
            <a:ext cx="592200" cy="6048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AutoShape 14"/>
          <p:cNvSpPr/>
          <p:nvPr/>
        </p:nvSpPr>
        <p:spPr>
          <a:xfrm rot="5400000">
            <a:off x="-360" y="-2880"/>
            <a:ext cx="587520" cy="593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AutoShape 15"/>
          <p:cNvSpPr/>
          <p:nvPr/>
        </p:nvSpPr>
        <p:spPr>
          <a:xfrm rot="10800000">
            <a:off x="11585520" y="-5040"/>
            <a:ext cx="603360" cy="593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AutoShape 16"/>
          <p:cNvSpPr/>
          <p:nvPr/>
        </p:nvSpPr>
        <p:spPr>
          <a:xfrm rot="16200000">
            <a:off x="11600640" y="6268320"/>
            <a:ext cx="603360" cy="6048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Oval 17"/>
          <p:cNvSpPr/>
          <p:nvPr/>
        </p:nvSpPr>
        <p:spPr>
          <a:xfrm>
            <a:off x="95400" y="96840"/>
            <a:ext cx="136440" cy="141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Oval 18"/>
          <p:cNvSpPr/>
          <p:nvPr/>
        </p:nvSpPr>
        <p:spPr>
          <a:xfrm>
            <a:off x="11933280" y="112680"/>
            <a:ext cx="135000" cy="14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Oval 19"/>
          <p:cNvSpPr/>
          <p:nvPr/>
        </p:nvSpPr>
        <p:spPr>
          <a:xfrm>
            <a:off x="111240" y="6588000"/>
            <a:ext cx="13644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val 20"/>
          <p:cNvSpPr/>
          <p:nvPr/>
        </p:nvSpPr>
        <p:spPr>
          <a:xfrm>
            <a:off x="11949120" y="6603840"/>
            <a:ext cx="13500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21" descr=""/>
          <p:cNvPicPr/>
          <p:nvPr/>
        </p:nvPicPr>
        <p:blipFill>
          <a:blip r:embed="rId4"/>
          <a:stretch/>
        </p:blipFill>
        <p:spPr>
          <a:xfrm>
            <a:off x="8251920" y="6141960"/>
            <a:ext cx="784080" cy="57492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22"/>
          <p:cNvSpPr/>
          <p:nvPr/>
        </p:nvSpPr>
        <p:spPr>
          <a:xfrm>
            <a:off x="5459400" y="6300720"/>
            <a:ext cx="1846440" cy="33516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23" descr=""/>
          <p:cNvPicPr/>
          <p:nvPr/>
        </p:nvPicPr>
        <p:blipFill>
          <a:blip r:embed="rId5"/>
          <a:stretch/>
        </p:blipFill>
        <p:spPr>
          <a:xfrm>
            <a:off x="4886280" y="6126120"/>
            <a:ext cx="824040" cy="622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24"/>
          <p:cNvSpPr/>
          <p:nvPr/>
        </p:nvSpPr>
        <p:spPr>
          <a:xfrm>
            <a:off x="5746680" y="626904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ecilFe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25"/>
          <p:cNvSpPr/>
          <p:nvPr/>
        </p:nvSpPr>
        <p:spPr>
          <a:xfrm>
            <a:off x="7113600" y="6427800"/>
            <a:ext cx="96840" cy="96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26"/>
          <p:cNvSpPr/>
          <p:nvPr/>
        </p:nvSpPr>
        <p:spPr>
          <a:xfrm>
            <a:off x="9126360" y="6300720"/>
            <a:ext cx="1568520" cy="33516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7" descr=""/>
          <p:cNvPicPr/>
          <p:nvPr/>
        </p:nvPicPr>
        <p:blipFill>
          <a:blip r:embed="rId6"/>
          <a:stretch/>
        </p:blipFill>
        <p:spPr>
          <a:xfrm>
            <a:off x="1504800" y="6141960"/>
            <a:ext cx="784440" cy="5749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28"/>
          <p:cNvSpPr/>
          <p:nvPr/>
        </p:nvSpPr>
        <p:spPr>
          <a:xfrm>
            <a:off x="2379600" y="6300720"/>
            <a:ext cx="1568520" cy="33516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29"/>
          <p:cNvSpPr/>
          <p:nvPr/>
        </p:nvSpPr>
        <p:spPr>
          <a:xfrm>
            <a:off x="2413080" y="626904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ecilFe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30"/>
          <p:cNvSpPr/>
          <p:nvPr/>
        </p:nvSpPr>
        <p:spPr>
          <a:xfrm>
            <a:off x="3747960" y="6427800"/>
            <a:ext cx="96840" cy="96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9159840" y="6269040"/>
            <a:ext cx="14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CecilFe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32"/>
          <p:cNvSpPr/>
          <p:nvPr/>
        </p:nvSpPr>
        <p:spPr>
          <a:xfrm>
            <a:off x="10495080" y="6427800"/>
            <a:ext cx="96840" cy="96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ine 33"/>
          <p:cNvSpPr/>
          <p:nvPr/>
        </p:nvSpPr>
        <p:spPr>
          <a:xfrm>
            <a:off x="4521240" y="6283440"/>
            <a:ext cx="1440" cy="3664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Line 34"/>
          <p:cNvSpPr/>
          <p:nvPr/>
        </p:nvSpPr>
        <p:spPr>
          <a:xfrm>
            <a:off x="7839000" y="6283440"/>
            <a:ext cx="1800" cy="3664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作品集20"/>
          <p:cNvPicPr/>
          <p:nvPr/>
        </p:nvPicPr>
        <p:blipFill>
          <a:blip r:embed="rId1"/>
          <a:stretch/>
        </p:blipFill>
        <p:spPr>
          <a:xfrm>
            <a:off x="2990880" y="3446640"/>
            <a:ext cx="8910720" cy="325404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3"/>
          <p:cNvSpPr/>
          <p:nvPr/>
        </p:nvSpPr>
        <p:spPr>
          <a:xfrm flipH="1" flipV="1">
            <a:off x="2943360" y="6244560"/>
            <a:ext cx="91980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4"/>
          <p:cNvSpPr/>
          <p:nvPr/>
        </p:nvSpPr>
        <p:spPr>
          <a:xfrm flipH="1" flipV="1">
            <a:off x="5281560" y="2464560"/>
            <a:ext cx="3232080" cy="7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5" descr="Home"/>
          <p:cNvPicPr/>
          <p:nvPr/>
        </p:nvPicPr>
        <p:blipFill>
          <a:blip r:embed="rId2"/>
          <a:stretch/>
        </p:blipFill>
        <p:spPr>
          <a:xfrm>
            <a:off x="146160" y="160200"/>
            <a:ext cx="4824360" cy="289584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 flipH="1" flipV="1">
            <a:off x="31320" y="2784600"/>
            <a:ext cx="49975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Line 7"/>
          <p:cNvSpPr/>
          <p:nvPr/>
        </p:nvSpPr>
        <p:spPr>
          <a:xfrm>
            <a:off x="1440" y="3309840"/>
            <a:ext cx="12188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8"/>
          <p:cNvSpPr/>
          <p:nvPr/>
        </p:nvSpPr>
        <p:spPr>
          <a:xfrm>
            <a:off x="5126040" y="0"/>
            <a:ext cx="0" cy="3294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Line 9"/>
          <p:cNvSpPr/>
          <p:nvPr/>
        </p:nvSpPr>
        <p:spPr>
          <a:xfrm>
            <a:off x="8609040" y="0"/>
            <a:ext cx="0" cy="3294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10"/>
          <p:cNvSpPr/>
          <p:nvPr/>
        </p:nvSpPr>
        <p:spPr>
          <a:xfrm>
            <a:off x="2833560" y="3325680"/>
            <a:ext cx="1800" cy="3627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746280" y="2790720"/>
            <a:ext cx="331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 Black"/>
                <a:ea typeface="微软雅黑"/>
              </a:rPr>
              <a:t>Im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109440" y="2598840"/>
            <a:ext cx="127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 Black"/>
                <a:ea typeface="微软雅黑"/>
              </a:rPr>
              <a:t>0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5873760" y="2790720"/>
            <a:ext cx="331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 Black"/>
                <a:ea typeface="微软雅黑"/>
              </a:rPr>
              <a:t>Im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5237280" y="2598840"/>
            <a:ext cx="1276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 Black"/>
                <a:ea typeface="微软雅黑"/>
              </a:rPr>
              <a:t>02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9381960" y="2790720"/>
            <a:ext cx="33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 Black"/>
                <a:ea typeface="微软雅黑"/>
              </a:rPr>
              <a:t>Im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16"/>
          <p:cNvSpPr/>
          <p:nvPr/>
        </p:nvSpPr>
        <p:spPr>
          <a:xfrm>
            <a:off x="8745480" y="2598840"/>
            <a:ext cx="127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 Black"/>
                <a:ea typeface="微软雅黑"/>
              </a:rPr>
              <a:t>03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746280" y="6315120"/>
            <a:ext cx="331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 Black"/>
                <a:ea typeface="微软雅黑"/>
              </a:rPr>
              <a:t>Im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109440" y="6122880"/>
            <a:ext cx="127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 Black"/>
                <a:ea typeface="微软雅黑"/>
              </a:rPr>
              <a:t>04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19"/>
          <p:cNvSpPr/>
          <p:nvPr/>
        </p:nvSpPr>
        <p:spPr>
          <a:xfrm>
            <a:off x="3619440" y="6315120"/>
            <a:ext cx="331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 Black"/>
                <a:ea typeface="微软雅黑"/>
              </a:rPr>
              <a:t>Im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2982960" y="6122880"/>
            <a:ext cx="1276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 Black"/>
                <a:ea typeface="微软雅黑"/>
              </a:rPr>
              <a:t>05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1" descr="插图01"/>
          <p:cNvPicPr/>
          <p:nvPr/>
        </p:nvPicPr>
        <p:blipFill>
          <a:blip r:embed="rId3"/>
          <a:stretch/>
        </p:blipFill>
        <p:spPr>
          <a:xfrm>
            <a:off x="6186600" y="0"/>
            <a:ext cx="2593800" cy="3676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2" descr="油条字体 "/>
          <p:cNvPicPr/>
          <p:nvPr/>
        </p:nvPicPr>
        <p:blipFill>
          <a:blip r:embed="rId4"/>
          <a:srcRect l="22649" t="22909" r="25072" b="23601"/>
          <a:stretch/>
        </p:blipFill>
        <p:spPr>
          <a:xfrm>
            <a:off x="174600" y="3603600"/>
            <a:ext cx="2476440" cy="26431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3" descr="未标题-3"/>
          <p:cNvPicPr/>
          <p:nvPr/>
        </p:nvPicPr>
        <p:blipFill>
          <a:blip r:embed="rId5"/>
          <a:stretch/>
        </p:blipFill>
        <p:spPr>
          <a:xfrm>
            <a:off x="5329080" y="1949400"/>
            <a:ext cx="1049400" cy="833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4" descr="展示02"/>
          <p:cNvPicPr/>
          <p:nvPr/>
        </p:nvPicPr>
        <p:blipFill>
          <a:blip r:embed="rId6"/>
          <a:srcRect l="0" t="26000" r="42293" b="49408"/>
          <a:stretch/>
        </p:blipFill>
        <p:spPr>
          <a:xfrm>
            <a:off x="8771040" y="171360"/>
            <a:ext cx="3255840" cy="2559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/>
          <p:cNvSpPr/>
          <p:nvPr/>
        </p:nvSpPr>
        <p:spPr>
          <a:xfrm rot="11700000">
            <a:off x="4899960" y="5134680"/>
            <a:ext cx="700200" cy="70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4933800" y="5045040"/>
            <a:ext cx="2816280" cy="46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4"/>
          <p:cNvSpPr/>
          <p:nvPr/>
        </p:nvSpPr>
        <p:spPr>
          <a:xfrm rot="18900000">
            <a:off x="4403520" y="5554440"/>
            <a:ext cx="1044360" cy="104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5013360" y="5027760"/>
            <a:ext cx="25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Name:   CecilF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AutoShape 6"/>
          <p:cNvSpPr/>
          <p:nvPr/>
        </p:nvSpPr>
        <p:spPr>
          <a:xfrm rot="13200000">
            <a:off x="6984720" y="5774760"/>
            <a:ext cx="571320" cy="571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3897360" y="5505480"/>
            <a:ext cx="3537000" cy="45396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8"/>
          <p:cNvSpPr/>
          <p:nvPr/>
        </p:nvSpPr>
        <p:spPr>
          <a:xfrm rot="18900000">
            <a:off x="3722400" y="5866920"/>
            <a:ext cx="338040" cy="338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4132440" y="5465880"/>
            <a:ext cx="40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Newwebpick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推荐设计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7" name="Group 10"/>
          <p:cNvGrpSpPr/>
          <p:nvPr/>
        </p:nvGrpSpPr>
        <p:grpSpPr>
          <a:xfrm>
            <a:off x="168120" y="-69840"/>
            <a:ext cx="2855880" cy="551160"/>
            <a:chOff x="168120" y="-69840"/>
            <a:chExt cx="2855880" cy="551160"/>
          </a:xfrm>
        </p:grpSpPr>
        <p:sp>
          <p:nvSpPr>
            <p:cNvPr id="598" name="Text Box 11"/>
            <p:cNvSpPr/>
            <p:nvPr/>
          </p:nvSpPr>
          <p:spPr>
            <a:xfrm>
              <a:off x="1223280" y="-8280"/>
              <a:ext cx="180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92929"/>
                  </a:solidFill>
                  <a:latin typeface="Arial"/>
                  <a:ea typeface="微软雅黑"/>
                </a:rPr>
                <a:t>Curriculum  Vita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Text Box 12"/>
            <p:cNvSpPr/>
            <p:nvPr/>
          </p:nvSpPr>
          <p:spPr>
            <a:xfrm>
              <a:off x="168120" y="-69840"/>
              <a:ext cx="2003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92929"/>
                  </a:solidFill>
                  <a:latin typeface="Arial Black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Line 13"/>
            <p:cNvSpPr/>
            <p:nvPr/>
          </p:nvSpPr>
          <p:spPr>
            <a:xfrm>
              <a:off x="1194120" y="138240"/>
              <a:ext cx="0" cy="247320"/>
            </a:xfrm>
            <a:prstGeom prst="line">
              <a:avLst/>
            </a:prstGeom>
            <a:ln w="93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14" descr="42-28135777副本"/>
          <p:cNvPicPr/>
          <p:nvPr/>
        </p:nvPicPr>
        <p:blipFill>
          <a:blip r:embed="rId3"/>
          <a:stretch/>
        </p:blipFill>
        <p:spPr>
          <a:xfrm>
            <a:off x="6773760" y="2644920"/>
            <a:ext cx="4951440" cy="4224240"/>
          </a:xfrm>
          <a:prstGeom prst="rect">
            <a:avLst/>
          </a:prstGeom>
          <a:ln w="0">
            <a:noFill/>
          </a:ln>
        </p:spPr>
      </p:pic>
      <p:sp>
        <p:nvSpPr>
          <p:cNvPr id="602" name="AutoShape 15"/>
          <p:cNvSpPr/>
          <p:nvPr/>
        </p:nvSpPr>
        <p:spPr>
          <a:xfrm rot="3780000">
            <a:off x="10316160" y="6312240"/>
            <a:ext cx="571680" cy="573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16"/>
          <p:cNvSpPr/>
          <p:nvPr/>
        </p:nvSpPr>
        <p:spPr>
          <a:xfrm>
            <a:off x="6540480" y="6159600"/>
            <a:ext cx="4314960" cy="453960"/>
          </a:xfrm>
          <a:prstGeom prst="rect">
            <a:avLst/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17"/>
          <p:cNvSpPr/>
          <p:nvPr/>
        </p:nvSpPr>
        <p:spPr>
          <a:xfrm rot="18960000">
            <a:off x="10547280" y="6481800"/>
            <a:ext cx="851040" cy="851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8"/>
          <p:cNvSpPr/>
          <p:nvPr/>
        </p:nvSpPr>
        <p:spPr>
          <a:xfrm>
            <a:off x="6773760" y="614988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Email:   CecilFeng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812880" y="95580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5b9bd5"/>
                </a:solidFill>
                <a:latin typeface="Arial Black"/>
              </a:rPr>
              <a:t>ABOUT 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20"/>
          <p:cNvSpPr/>
          <p:nvPr/>
        </p:nvSpPr>
        <p:spPr>
          <a:xfrm>
            <a:off x="798480" y="2482920"/>
            <a:ext cx="69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个人网站： 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</a:rPr>
              <a:t>www.zmds.cn/design/fengmengyao/index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21"/>
          <p:cNvSpPr/>
          <p:nvPr/>
        </p:nvSpPr>
        <p:spPr>
          <a:xfrm>
            <a:off x="800280" y="2927520"/>
            <a:ext cx="27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联系方式：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0000000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22"/>
          <p:cNvSpPr/>
          <p:nvPr/>
        </p:nvSpPr>
        <p:spPr>
          <a:xfrm>
            <a:off x="800280" y="3340080"/>
            <a:ext cx="49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教育经历： 北京工业大学艺术设计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800280" y="3753000"/>
            <a:ext cx="49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工作经历：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XXX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互动科技有限公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7524720" y="4492800"/>
            <a:ext cx="33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  <a:ea typeface="微软雅黑"/>
              </a:rPr>
              <a:t>Im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7524720" y="3825720"/>
            <a:ext cx="1276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微软雅黑"/>
              </a:rPr>
              <a:t>01/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-23760" y="530280"/>
            <a:ext cx="12291840" cy="3244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4" name="Group 3"/>
          <p:cNvGrpSpPr/>
          <p:nvPr/>
        </p:nvGrpSpPr>
        <p:grpSpPr>
          <a:xfrm>
            <a:off x="168120" y="-69840"/>
            <a:ext cx="2855880" cy="551160"/>
            <a:chOff x="168120" y="-69840"/>
            <a:chExt cx="2855880" cy="551160"/>
          </a:xfrm>
        </p:grpSpPr>
        <p:sp>
          <p:nvSpPr>
            <p:cNvPr id="615" name="Text Box 4"/>
            <p:cNvSpPr/>
            <p:nvPr/>
          </p:nvSpPr>
          <p:spPr>
            <a:xfrm>
              <a:off x="1223280" y="-8280"/>
              <a:ext cx="180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92929"/>
                  </a:solidFill>
                  <a:latin typeface="Arial"/>
                  <a:ea typeface="微软雅黑"/>
                </a:rPr>
                <a:t>Curriculum  Vita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Text Box 5"/>
            <p:cNvSpPr/>
            <p:nvPr/>
          </p:nvSpPr>
          <p:spPr>
            <a:xfrm>
              <a:off x="168120" y="-69840"/>
              <a:ext cx="2003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92929"/>
                  </a:solidFill>
                  <a:latin typeface="Arial Black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1194120" y="138240"/>
              <a:ext cx="0" cy="247320"/>
            </a:xfrm>
            <a:prstGeom prst="line">
              <a:avLst/>
            </a:prstGeom>
            <a:ln w="93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8" name="Picture 7" descr="效果图"/>
          <p:cNvPicPr/>
          <p:nvPr/>
        </p:nvPicPr>
        <p:blipFill>
          <a:blip r:embed="rId2"/>
          <a:stretch/>
        </p:blipFill>
        <p:spPr>
          <a:xfrm>
            <a:off x="6367320" y="530280"/>
            <a:ext cx="4896000" cy="32446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Home"/>
          <p:cNvPicPr/>
          <p:nvPr/>
        </p:nvPicPr>
        <p:blipFill>
          <a:blip r:embed="rId3"/>
          <a:srcRect l="0" t="1431" r="0" b="954"/>
          <a:stretch/>
        </p:blipFill>
        <p:spPr>
          <a:xfrm>
            <a:off x="-1440" y="530280"/>
            <a:ext cx="5373720" cy="324792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9"/>
          <p:cNvSpPr/>
          <p:nvPr/>
        </p:nvSpPr>
        <p:spPr>
          <a:xfrm>
            <a:off x="5334120" y="5105520"/>
            <a:ext cx="697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个人网站：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微软雅黑"/>
              </a:rPr>
              <a:t>www.zmds.cn/design/fengmengyao/index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5318280" y="4595760"/>
            <a:ext cx="28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Flash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整站设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5334120" y="5661000"/>
            <a:ext cx="697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这是一个介绍自己的个人网站。从创意设计到技术执行皆我独自一人完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168120" y="-69840"/>
            <a:ext cx="2855880" cy="551160"/>
            <a:chOff x="168120" y="-69840"/>
            <a:chExt cx="2855880" cy="551160"/>
          </a:xfrm>
        </p:grpSpPr>
        <p:sp>
          <p:nvSpPr>
            <p:cNvPr id="624" name="Text Box 3"/>
            <p:cNvSpPr/>
            <p:nvPr/>
          </p:nvSpPr>
          <p:spPr>
            <a:xfrm>
              <a:off x="1223280" y="-8280"/>
              <a:ext cx="180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92929"/>
                  </a:solidFill>
                  <a:latin typeface="Arial"/>
                  <a:ea typeface="微软雅黑"/>
                </a:rPr>
                <a:t>Curriculum  Vita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Text Box 4"/>
            <p:cNvSpPr/>
            <p:nvPr/>
          </p:nvSpPr>
          <p:spPr>
            <a:xfrm>
              <a:off x="168120" y="-69840"/>
              <a:ext cx="2003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92929"/>
                  </a:solidFill>
                  <a:latin typeface="Arial Black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5"/>
            <p:cNvSpPr/>
            <p:nvPr/>
          </p:nvSpPr>
          <p:spPr>
            <a:xfrm>
              <a:off x="1194120" y="138240"/>
              <a:ext cx="0" cy="247320"/>
            </a:xfrm>
            <a:prstGeom prst="line">
              <a:avLst/>
            </a:prstGeom>
            <a:ln w="9360">
              <a:solidFill>
                <a:srgbClr val="445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7" name="Picture 6" descr="1-2"/>
          <p:cNvPicPr/>
          <p:nvPr/>
        </p:nvPicPr>
        <p:blipFill>
          <a:blip r:embed="rId2"/>
          <a:srcRect l="0" t="1612" r="0" b="0"/>
          <a:stretch/>
        </p:blipFill>
        <p:spPr>
          <a:xfrm>
            <a:off x="-150840" y="609480"/>
            <a:ext cx="4367160" cy="2943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5-6"/>
          <p:cNvPicPr/>
          <p:nvPr/>
        </p:nvPicPr>
        <p:blipFill>
          <a:blip r:embed="rId3"/>
          <a:srcRect l="744" t="1091" r="0" b="0"/>
          <a:stretch/>
        </p:blipFill>
        <p:spPr>
          <a:xfrm>
            <a:off x="4008600" y="606600"/>
            <a:ext cx="4325760" cy="29397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" descr="7-8"/>
          <p:cNvPicPr/>
          <p:nvPr/>
        </p:nvPicPr>
        <p:blipFill>
          <a:blip r:embed="rId4"/>
          <a:srcRect l="1127" t="0" r="0" b="0"/>
          <a:stretch/>
        </p:blipFill>
        <p:spPr>
          <a:xfrm>
            <a:off x="8271000" y="603360"/>
            <a:ext cx="4241520" cy="292716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9"/>
          <p:cNvSpPr/>
          <p:nvPr/>
        </p:nvSpPr>
        <p:spPr>
          <a:xfrm>
            <a:off x="5238720" y="4832280"/>
            <a:ext cx="69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我的作品有幸收录进</a:t>
            </a: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Newwebpick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的第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39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期杂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5237280" y="5549760"/>
            <a:ext cx="67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杂志内容涉及：广告、网站、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FLASH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、平面、街头艺术、插画、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3D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、产品与包装、建筑与空     间、摄影、时装、试验艺术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...</a:t>
            </a:r>
            <a:r>
              <a:rPr b="0" lang="zh-CN" sz="1600" spc="-1" strike="noStrike">
                <a:solidFill>
                  <a:srgbClr val="5f5f5f"/>
                </a:solidFill>
                <a:latin typeface="Calibri"/>
                <a:ea typeface="微软雅黑"/>
              </a:rPr>
              <a:t>诠释国际设计艺术潮流的专业期刊，展示全球最前沿的设计作品，收集国际最新的设计资讯，辨析某时期内设计艺术的动向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5143680" y="5292720"/>
            <a:ext cx="53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NewWebPick</a:t>
            </a: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》是最权威的网络在线创意与潮流杂志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12" descr="未标题-1"/>
          <p:cNvPicPr/>
          <p:nvPr/>
        </p:nvPicPr>
        <p:blipFill>
          <a:blip r:embed="rId5"/>
          <a:stretch/>
        </p:blipFill>
        <p:spPr>
          <a:xfrm>
            <a:off x="5288040" y="3854520"/>
            <a:ext cx="4340160" cy="8236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5089680" y="2933640"/>
            <a:ext cx="203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d4d4d"/>
                </a:solidFill>
                <a:latin typeface="Arial Black"/>
                <a:ea typeface="微软雅黑"/>
              </a:rPr>
              <a:t>Th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3" descr=""/>
          <p:cNvPicPr/>
          <p:nvPr/>
        </p:nvPicPr>
        <p:blipFill>
          <a:blip r:embed="rId1"/>
          <a:stretch/>
        </p:blipFill>
        <p:spPr>
          <a:xfrm>
            <a:off x="5743440" y="2685960"/>
            <a:ext cx="723960" cy="5288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3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1-11T17:09:0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