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7D3-4981-4F37-84EC-9E4D95DE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79F-F878-4A85-A3B5-4967AE55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C9D51-73A3-4EBF-9F81-3B72FF2C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88202-BBF1-4B6B-B09A-6E5F0E0B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1A474-949D-4154-B1EE-14C67794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FE4B7-B2AA-4A01-8B9B-E3184EC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1877A-8DCB-4DE5-8918-0A3C5D82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8D37D-6606-4D16-A2F5-8AA31543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D72E7-06CA-4787-B199-15C88CE2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433FF-A76E-407C-9E89-0B835D28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0012A-EF81-447D-A4EC-CE499C4D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63CC5-D413-46C6-933D-112376FD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BAA-E4C1-4F23-AEC8-884DE64F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EAC7D-564A-4BAC-A65D-A07B8161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4B484-CD5E-4588-B6EF-1DA65C67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F832F-30EE-496A-AA33-B89503E6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52621-D476-4940-87D1-EDBDE366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13AF0-DE4D-4F9F-9B14-B7FBED4E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F94F6-B976-46CC-A721-17743C75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E55E9-9842-401C-B98D-24E0C577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11BD0-B07B-415C-9D4C-D8D3CC26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A0076-0EAB-4E2C-9DE5-5024DEFA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46971-8E19-4C9A-A1FA-B3BD083C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D61-80BC-49CF-8F17-3A4D74E0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28089-3BEE-4291-B20D-FB687B85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68FC1-F392-43DA-90C8-E23999C8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2507D-CE73-44FD-B6A6-0950EC59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9FE13-970F-40C6-A1F2-44282AAF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50C4B-4419-4ECB-A3D8-28A90586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9FD75-DDAE-4B22-8DEC-2FFCAC1E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8304E-77FA-414C-923D-73028D41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542CF-5614-4A7B-ACE2-D62EDEB5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4730C-3969-4694-BE1A-E603F4B2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41749-EB10-4B6B-9A5B-A0629DF4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D4C8-84E5-40D1-912C-1272BBC7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39257-FC82-43BB-8777-E3B08E83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4FDB9-EC58-4463-A25E-3CD57882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0400A-A145-4436-934C-1B0210C3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8F771-00C9-47AE-ADC3-D1A23D0D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5DCDC-36A2-4530-A261-097DDB10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EE29B-F9C1-41F9-901A-6BAFAE78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480C8-9E71-4516-B578-4BBDDDC5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B5BA3-347D-446B-BBC5-D8520D2E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E651B-AD74-442B-BFFC-81B3DC26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2D518-DA2F-44C0-A7A5-50D0915B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8C3F-2DFD-4371-8E4C-4ADC151D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6DED4-C5C1-4858-BBBE-A05161DF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53B77-B105-480F-A582-4098C1C6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4E38A-83E5-402E-8D64-160DF0FF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F01D9-282B-41D8-89FD-226D4EF7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BC9A7-DAFA-4728-9021-E293FFDC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0575B-47DA-43AF-8CB4-B133D47C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DB505-B6F4-4A11-BAF8-3D69DDEF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5B67B-8010-4370-8AB2-CA868DBD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2CB0E-8268-4FFD-81E9-BADC6F1B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9EC0A-FB21-44EC-9087-21BC8C4B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C675-7A73-4401-B1F2-D6EBE549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E69F5-C0C8-4152-A6AE-319B2C89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003B3-61F5-4DF0-ADE2-C3768F4C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AE4EC-744B-4ACA-B074-19364FFB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14BBD-11CB-4D39-94D7-EDDEA88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50BAD-9439-4C07-A806-12795B32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7D35A-4D39-4D6E-B8C2-6E8BE8C4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0A818-C9A3-40A6-A6BA-F3F47809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77BF-F630-463B-B28C-1E9CF21C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A28C-D062-4666-AEB8-934F4BDE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D675-60FB-4DDD-B2B2-34A65C26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EDE2-9619-40E4-AA1C-09A6FE30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2B5-B041-493F-856B-96475A98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377E-F834-4DCA-AB84-D863674C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A4DA-3151-4F59-8DFA-BB830A61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7874-D7F0-46F5-A61D-3B5774D5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15EC-E987-4204-839B-8C39B113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77C2-0005-480D-9B11-0D51066C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FE59B-71BC-4252-8381-6EDC62CF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F394A-EECD-4052-8603-4308E665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8A2D-F1DB-4E38-A0DD-5D3AD917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10A6-EA06-414D-B7F2-8CCB2FE0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B117-DDC7-4A16-86B1-355FDEE3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47E-5598-435B-89E3-5E373DE6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E8D2-4636-422A-A581-F14803C7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8DEE-7862-455B-8613-C6A86B0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D238-421C-44CF-AF4F-BB0221C8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FBAF-0395-4643-8352-EC8B08D9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665E-96B4-42EA-8E76-5D791F3A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1E79-86CA-4CDF-A765-42123196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18FE-D9C7-49D0-9061-85EE2DD0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BD4F-5668-4172-8FF2-6832BB7F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234D-E9E0-40A0-8E65-BA6974F0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52EE9-B203-4DEE-8EC5-05B58C54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AAB-9FE1-4085-8F17-BA4C7847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A826-ACFF-48E0-BB6B-699A052E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081E-8991-45FB-A6BE-A2DF88BE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AD5A2-B288-469D-8C20-BD048BD9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03886-6BAB-4F42-AA9C-FA957E58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04E19-C4AD-49E3-A013-596E1681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9E009-5EC5-43A0-ABC1-576FF406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815FA-48EB-4036-A712-3CCD5160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45F60-0D1B-4C8A-90DC-C5EDA264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92B69-528F-4D8F-B614-81AEC451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0C711-F352-437E-ABCB-7EECF70E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BBC-2885-44F3-B103-96036B8A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02D90-1AC8-4D94-8A62-8DA0AC09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CC82F-F859-4081-86C2-CB3EF9A7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A74C0-BE2E-4C75-911F-D7EF788D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5AA70-617A-4C10-961A-D86A4FBC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BE06-09E9-4942-9DD5-783B6AD3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DFD07-55E4-416E-AD22-B21B50F6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0FAE3-4416-478A-9B24-076A7ED9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28207-0197-4BCD-86D5-45363B42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C0B8F-C3A4-4419-B780-55ABE591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E777E-6EE2-49B6-995A-1ACCF535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B78-AB7F-40D1-808F-72BC76E7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25B6E-0CA9-4351-BC8D-F573B407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6D3C-378F-4290-BBB1-073A8C38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9EAF7-2C03-4DC1-80EC-A8119940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B27CA-C237-4F3E-B95F-25B747B1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6CDCC-AAC0-4DC9-894C-37AFEFCB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1C74E-F362-4A61-A499-35E32FCB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C8520-16DA-4EC3-B633-D0BD6C8A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94A77-7DF8-47FE-8F75-921CFD47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061A7-EF67-4B19-99F8-ACE96154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D3258-1619-4941-B8BF-B009E6AA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923-1779-4D1C-B0E2-508263E5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7C19A-C6E5-44C9-A3F6-190AE23D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C950F-38CC-4B0C-813B-990244CC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32049-615D-4A64-BAB8-E0CC5219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26823-79BC-4712-BECF-5CCEC125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D86FA-A558-4121-8B4E-225E2677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02DEF-AF2F-4349-BB0C-9871A24F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DF2FC-016E-4E0D-868D-D16F3041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14EA1-67C3-4006-9232-AA6C81C2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D574C-A47F-45C0-B9BD-BDA721B5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9E76A-DC79-452B-8914-35CC9646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A54-B86B-4C14-927A-CC7F25A5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6DEF3-91D3-4586-84C8-FB90217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BF21A-641A-42A5-AA83-37D923AE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9A24C-9D5B-4877-A38D-2BCB2972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BB91E-DA12-4FAA-9304-D7ED03DE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CF2DC-22D0-4D44-90CC-9DB78FD2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4BB35-1B38-4DC4-B517-BF22A066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454C3-FB38-4225-BB7A-263EB1C3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E7D6A-3910-4076-951C-39427BF8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9E1F6-9D0E-43D3-A7F7-121F69B0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E9218-8A52-4352-9E83-E86AAEA2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7B6-E697-48E5-BF3A-1F10F42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1B4BF-69EC-4526-9982-F329F9F3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69C95-4191-4ED7-BA98-D643E017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2666D-47DB-41C6-AFBA-1A805E5E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98F62-97BB-49C8-9BD1-8A8A3346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641C3-604A-4086-A673-87C5D88F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7A375-5541-4B5E-920D-1ECDB49B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208EE-36DB-40A6-98A7-E0E60601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30B5E-0243-48AD-AB41-68A077F1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33568-AFC9-4F39-92DC-03B34FA4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F3417-0DE9-4B6E-B6BD-2281F330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D2F9-8CE9-41F8-A8A4-B028EA1E0E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E51A-200C-4A56-B649-09D388AA8C6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1CA2-83AC-4DA0-925E-D374A4544FA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5E47-6A38-4C09-B422-4E74EEB7734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2C77-89C3-4FF0-BA7B-D62F9C5F5BC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524A-D775-44ED-8F59-1761D4E9C59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740D-5CFA-4113-BE93-D631E2D311A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2451-6FA8-4159-A5C5-6CD048DC9A9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9756-7A53-4572-87EC-B3A4D610E90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4448-89C7-4EE3-B01B-6466D1B735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696E-E07D-4757-8586-D84546097C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F62C-0C96-4679-9A53-B9136866E0A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E2BB-B4CA-43B6-AB8D-57752E71353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A7A6-4285-49BE-AC4A-497B979A4AF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E77D-EC1A-4CE8-B44B-E5B8A1F1A29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EF8D-7458-4A7D-B1FD-B73CE21CD50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590F-B9A6-4F9C-991C-2DFDFAA7CE3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6281-4686-4B8A-B8AE-6CDEC7764EB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2785-1A52-46B0-9BCC-D3E8BDBC1D4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A032-F2EE-40B2-A224-4AF6339FCD5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D2A0-1DC7-4DF3-B7CD-50F1D8BBA2E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8A83-4AA7-4535-8479-6680C03E7D2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95FB-4BF5-43A7-918D-6B9B203664B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A4D7-4A85-4CA2-BB8F-F4CBB041CB2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CEEF-13CC-4788-B206-F1C496566C0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3" descr="PPT-茶-1.1"/>
          <p:cNvPicPr/>
          <p:nvPr/>
        </p:nvPicPr>
        <p:blipFill>
          <a:blip r:embed="rId1"/>
          <a:stretch/>
        </p:blipFill>
        <p:spPr>
          <a:xfrm>
            <a:off x="1440" y="0"/>
            <a:ext cx="122176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3" descr="G:\Alan 韩宇晨\PPT\PPT-茶-目录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3" descr="G:\Alan 韩宇晨\PPT\PPT-茶-过渡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3" descr="PPT-茶-内容"/>
          <p:cNvPicPr/>
          <p:nvPr/>
        </p:nvPicPr>
        <p:blipFill>
          <a:blip r:embed="rId1"/>
          <a:stretch/>
        </p:blipFill>
        <p:spPr>
          <a:xfrm>
            <a:off x="-6480" y="0"/>
            <a:ext cx="122176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3" descr="G:\Alan 韩宇晨\PPT\PPT-茶-结束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4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22T02:46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