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48B-BB90-4144-9962-2457FA88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731-9707-4B60-933F-1BB66E7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FC3-E219-44F9-86CB-8AC85150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D18-E6CC-4681-87DF-2249D3D9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6AC-FEBB-4E25-A3C2-9CBE1EBD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0380-2AFC-42BD-A0F0-8F3C46A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C515-1785-49B3-B803-8B9BEE81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9A5-DCA5-4FFE-847A-E5A31D6E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FF0-F4FF-473A-AE8A-45F69DAF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C17-1297-45C1-85A5-9116138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DB7-DA06-4217-818D-F88C1C3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388-5F12-48E2-A187-7FF73230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5DDB-F91E-430C-B0F6-A50B1B3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99F-19F9-4C09-B4F7-3D0A9AD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133-F802-4D3F-919A-FB84E5EF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A33-59F3-4DE1-A8E1-90B57F8D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E17D-9B51-4288-9AF6-B3C70E22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5D5-08BC-4603-A53A-30F2C15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6E1-32C9-4E21-A399-984E4E75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B4E-C072-479B-B719-9CA4D6F0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46C-1261-4342-A824-7756FF6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066-0EBA-48D4-9D0F-0E2195A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2A8-90BE-4878-89E4-8701D74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B47-E436-4DEB-B20A-9779A6BC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786-C423-4296-8AE7-383DAA9EDD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053-918B-4743-B6EB-E16AC5BAB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A37-FAF4-4440-A85E-987F1412E2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2669-92AB-48A2-AF9B-81103029E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houhui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houhui (2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houhui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houhui (4)"/>
          <p:cNvPicPr/>
          <p:nvPr/>
        </p:nvPicPr>
        <p:blipFill>
          <a:blip r:embed="rId1"/>
          <a:stretch/>
        </p:blipFill>
        <p:spPr>
          <a:xfrm>
            <a:off x="611280" y="1417680"/>
            <a:ext cx="72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houhui (5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2T13:06:1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