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E16-B6A7-4260-99BD-FA5EDC2F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6A0-12BE-4E3F-BDFE-5119175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91C-7D1F-4D78-BB41-F5AD322A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D4F-B773-4B29-BD0F-EB2BB146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54EE-7A97-47C8-A0A5-102E3E37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1AE4-7BBB-4FB8-9BDC-060CD139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DD17-8296-446A-9C1D-A82C5A00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4795-CD2D-4921-BC41-DA62685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E437-3D36-4D5F-85D6-CDC08CA8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2E0C-3492-4A06-9196-086A380D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31C1-2170-4B4E-9142-BC38F5A2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EB4-2036-4015-BD39-1CB71560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743-8585-4925-9ED2-B3BB02A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25F7-6F82-4283-93DF-14F1B87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121-6E71-4248-B8A3-5D7088CD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6BC1-13BA-417A-B2F6-2AA9E060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B1B6-AD9B-4285-8756-79AE0DE1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A2D-B4AF-4BE5-8E24-EA705C7B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7DF-FA8E-454B-9FA7-EE19A83B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55C-3516-447E-9749-6A7B4BE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184-5D28-48FC-8A8C-DCCA774D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C22-F1CD-4E69-BE13-E5FCC1CB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680-41FD-4F15-B1B6-BE809166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0B0-2814-48D8-ACF2-24132CE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25474" t="0" r="32599" b="0"/>
          <a:stretch/>
        </p:blipFill>
        <p:spPr>
          <a:xfrm>
            <a:off x="0" y="0"/>
            <a:ext cx="10238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0" y="0"/>
            <a:ext cx="1023840" cy="6858000"/>
          </a:xfrm>
          <a:prstGeom prst="rect">
            <a:avLst/>
          </a:prstGeom>
          <a:gradFill rotWithShape="0">
            <a:gsLst>
              <a:gs pos="0">
                <a:srgbClr val="8aaa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图片 6" descr=""/>
          <p:cNvPicPr/>
          <p:nvPr/>
        </p:nvPicPr>
        <p:blipFill>
          <a:blip r:embed="rId3"/>
          <a:srcRect l="11200" t="0" r="0" b="0"/>
          <a:stretch/>
        </p:blipFill>
        <p:spPr>
          <a:xfrm>
            <a:off x="1023840" y="0"/>
            <a:ext cx="81201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1023840" y="0"/>
            <a:ext cx="92160" cy="68580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277640" y="6356520"/>
            <a:ext cx="1925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4E40-B6F8-4ECF-8884-AF147DBFDBC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406320" y="6356520"/>
            <a:ext cx="26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60800" y="6356520"/>
            <a:ext cx="1925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A2DC-9461-44D6-9BD9-16CB6379C81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3092-ACC0-4A2D-B8EC-ADE701475B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FFD0-7D2B-4CC2-AB03-5D2547340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"/>
          <p:cNvPicPr/>
          <p:nvPr/>
        </p:nvPicPr>
        <p:blipFill>
          <a:blip r:embed="rId2"/>
          <a:srcRect l="0" t="0" r="0" b="74924"/>
          <a:stretch/>
        </p:blipFill>
        <p:spPr>
          <a:xfrm>
            <a:off x="0" y="4437000"/>
            <a:ext cx="9144000" cy="1719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"/>
          <p:cNvPicPr/>
          <p:nvPr/>
        </p:nvPicPr>
        <p:blipFill>
          <a:blip r:embed="rId3"/>
          <a:srcRect l="0" t="89675" r="0" b="0"/>
          <a:stretch/>
        </p:blipFill>
        <p:spPr>
          <a:xfrm>
            <a:off x="539640" y="6156360"/>
            <a:ext cx="2232000" cy="71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539640" y="0"/>
            <a:ext cx="2232000" cy="557856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0" y="4437000"/>
            <a:ext cx="9144000" cy="165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dee4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1640" y="4436640"/>
            <a:ext cx="61214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大海风帆</a:t>
            </a: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92360" y="5518080"/>
            <a:ext cx="4569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请输入文字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8" descr=""/>
          <p:cNvPicPr/>
          <p:nvPr/>
        </p:nvPicPr>
        <p:blipFill>
          <a:blip r:embed="rId1"/>
          <a:srcRect l="0" t="0" r="88803" b="0"/>
          <a:stretch/>
        </p:blipFill>
        <p:spPr>
          <a:xfrm>
            <a:off x="0" y="0"/>
            <a:ext cx="10238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"/>
          <p:cNvPicPr/>
          <p:nvPr/>
        </p:nvPicPr>
        <p:blipFill>
          <a:blip r:embed="rId2"/>
          <a:srcRect l="11200" t="0" r="0" b="0"/>
          <a:stretch/>
        </p:blipFill>
        <p:spPr>
          <a:xfrm>
            <a:off x="1023840" y="0"/>
            <a:ext cx="81201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矩形 6"/>
          <p:cNvSpPr/>
          <p:nvPr/>
        </p:nvSpPr>
        <p:spPr>
          <a:xfrm>
            <a:off x="1023840" y="0"/>
            <a:ext cx="92160" cy="68580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图片 9" descr=""/>
          <p:cNvPicPr/>
          <p:nvPr/>
        </p:nvPicPr>
        <p:blipFill>
          <a:blip r:embed="rId3"/>
          <a:srcRect l="0" t="0" r="0" b="64601"/>
          <a:stretch/>
        </p:blipFill>
        <p:spPr>
          <a:xfrm>
            <a:off x="539640" y="260280"/>
            <a:ext cx="64620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0" descr=""/>
          <p:cNvPicPr/>
          <p:nvPr/>
        </p:nvPicPr>
        <p:blipFill>
          <a:blip r:embed="rId4"/>
          <a:srcRect l="0" t="37265" r="0" b="29395"/>
          <a:stretch/>
        </p:blipFill>
        <p:spPr>
          <a:xfrm>
            <a:off x="539640" y="1000080"/>
            <a:ext cx="646200" cy="6066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" descr=""/>
          <p:cNvPicPr/>
          <p:nvPr/>
        </p:nvPicPr>
        <p:blipFill>
          <a:blip r:embed="rId5"/>
          <a:srcRect l="0" t="71990" r="0" b="0"/>
          <a:stretch/>
        </p:blipFill>
        <p:spPr>
          <a:xfrm>
            <a:off x="539640" y="1716120"/>
            <a:ext cx="646200" cy="509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0360" y="1606680"/>
            <a:ext cx="743904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rcRect l="0" t="0" r="41028" b="0"/>
          <a:stretch/>
        </p:blipFill>
        <p:spPr>
          <a:xfrm>
            <a:off x="3156120" y="0"/>
            <a:ext cx="59878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rcRect l="16748" t="0" r="51657" b="0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2924280"/>
            <a:ext cx="55069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5" descr=""/>
          <p:cNvPicPr/>
          <p:nvPr/>
        </p:nvPicPr>
        <p:blipFill>
          <a:blip r:embed="rId1"/>
          <a:srcRect l="25474" t="0" r="32599" b="0"/>
          <a:stretch/>
        </p:blipFill>
        <p:spPr>
          <a:xfrm>
            <a:off x="0" y="0"/>
            <a:ext cx="10238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6"/>
          <p:cNvSpPr/>
          <p:nvPr/>
        </p:nvSpPr>
        <p:spPr>
          <a:xfrm>
            <a:off x="0" y="0"/>
            <a:ext cx="1023840" cy="6858000"/>
          </a:xfrm>
          <a:prstGeom prst="rect">
            <a:avLst/>
          </a:prstGeom>
          <a:gradFill rotWithShape="0">
            <a:gsLst>
              <a:gs pos="0">
                <a:srgbClr val="8aaa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图片 7" descr=""/>
          <p:cNvPicPr/>
          <p:nvPr/>
        </p:nvPicPr>
        <p:blipFill>
          <a:blip r:embed="rId2"/>
          <a:srcRect l="-157" t="0" r="20512" b="0"/>
          <a:stretch/>
        </p:blipFill>
        <p:spPr>
          <a:xfrm>
            <a:off x="1023840" y="0"/>
            <a:ext cx="81201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58920" y="1483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rcRect l="0" t="13325" r="0" b="12495"/>
          <a:stretch/>
        </p:blipFill>
        <p:spPr>
          <a:xfrm>
            <a:off x="0" y="0"/>
            <a:ext cx="9144000" cy="53625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" descr=""/>
          <p:cNvPicPr/>
          <p:nvPr/>
        </p:nvPicPr>
        <p:blipFill>
          <a:blip r:embed="rId2"/>
          <a:srcRect l="67" t="0" r="-63" b="60966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15" name="矩形 7"/>
          <p:cNvSpPr/>
          <p:nvPr/>
        </p:nvSpPr>
        <p:spPr>
          <a:xfrm>
            <a:off x="0" y="0"/>
            <a:ext cx="9144000" cy="501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ee4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8960" y="5084280"/>
            <a:ext cx="7426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Impact"/>
              </a:rPr>
              <a:t>大海风帆模板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71640" y="6237360"/>
            <a:ext cx="7200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7" descr=""/>
          <p:cNvPicPr/>
          <p:nvPr/>
        </p:nvPicPr>
        <p:blipFill>
          <a:blip r:embed="rId1"/>
          <a:srcRect l="0" t="7706" r="0" b="84535"/>
          <a:stretch/>
        </p:blipFill>
        <p:spPr>
          <a:xfrm>
            <a:off x="0" y="6350040"/>
            <a:ext cx="914400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5" descr=""/>
          <p:cNvPicPr/>
          <p:nvPr/>
        </p:nvPicPr>
        <p:blipFill>
          <a:blip r:embed="rId2"/>
          <a:srcRect l="0" t="0" r="0" b="12495"/>
          <a:stretch/>
        </p:blipFill>
        <p:spPr>
          <a:xfrm>
            <a:off x="0" y="0"/>
            <a:ext cx="9144000" cy="6326280"/>
          </a:xfrm>
          <a:prstGeom prst="rect">
            <a:avLst/>
          </a:prstGeom>
          <a:ln w="0">
            <a:noFill/>
          </a:ln>
        </p:spPr>
      </p:pic>
      <p:sp>
        <p:nvSpPr>
          <p:cNvPr id="120" name="矩形 6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ee4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1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4560" y="1557000"/>
            <a:ext cx="7994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3:02:32Z</dcterms:created>
  <dc:creator>sg</dc:creator>
  <dc:description/>
  <dc:language>en-US</dc:language>
  <cp:lastModifiedBy>a</cp:lastModifiedBy>
  <dcterms:modified xsi:type="dcterms:W3CDTF">2015-01-12T13:02:43Z</dcterms:modified>
  <cp:revision>1</cp:revision>
  <dc:subject/>
  <dc:title>大海风帆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