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74C-0412-4623-A6AC-C48B4BF1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8FD-E2CC-44C9-9B3A-51275810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77F-2AEB-4DFC-B9A3-F971DFB2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A6C-A4E5-416A-8889-B109069D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1FB7-3338-444B-8294-110F0DC3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AF0B-BD92-48FA-B29A-FAB042E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C9E8-9328-4E8F-BA43-658E2B4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9B89-B6E7-44AA-BFD9-8572D301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44DA-4BCA-480B-A791-543F3543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DB1D-1ADB-4105-912F-4592354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2C08-6FDD-4535-9610-CAC1D18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E2C-8351-4BC6-B0C0-6FFE87A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ED0-5D64-4704-B370-A5F31143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F8F6-9BF5-4471-907C-B3A17D19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8E48-21BB-4C1E-A8F1-6899651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729-1C90-42B9-BF76-3AA15CF8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FF17-A137-4052-AA02-D36EFE3C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200-5ABE-46FD-A992-1B68E4FC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236-3F75-4E8B-9FEA-A0DBB76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AC2-36DF-4324-8159-677BB90F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804-F622-4667-A772-853732F3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1B5-89A4-476F-83CA-B8F5970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A94-DDE6-4856-B023-D38492F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DF6-C3CE-452F-8B64-996E6B8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6E3-83A1-48CB-9C3D-1BAA48A18E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2B4-FED4-4882-ADDD-AE732FF9903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B59-0EE3-45E3-AE72-3C5888D069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P</a:t>
            </a:r>
            <a:r>
              <a:rPr b="0" lang="zh-CN" sz="4400" spc="-1" strike="noStrike">
                <a:solidFill>
                  <a:srgbClr val="404040"/>
                </a:solidFill>
                <a:latin typeface="Calibri"/>
                <a:ea typeface="宋体"/>
              </a:rPr>
              <a:t>PT 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604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39:49Z</dcterms:created>
  <dc:creator/>
  <dc:description/>
  <cp:keywords/>
  <dc:language>en-US</dc:language>
  <cp:lastModifiedBy>a</cp:lastModifiedBy>
  <dcterms:modified xsi:type="dcterms:W3CDTF">2014-07-20T07:56:23Z</dcterms:modified>
  <cp:revision>4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